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E82E-22EA-46F7-B7CB-83479B8CF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9832-3D5E-4DC6-9C62-20780D15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4B96-8A0C-4FFC-B1D3-17361D0D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64AE-8024-4C93-8419-49EB26B28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BBB0-4E8D-482B-8D03-9B4208F6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DAE2-23A1-4593-8ACC-75147262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DE04-582A-4162-A63F-479931E8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1CFC-4DEA-438A-824B-E33E1FE9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CC78-9117-4287-844D-73608713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9DDC-D2D7-484E-8AB5-31B4E04C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9F56-6F1F-481B-93AC-8C015432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5F70-44B2-48E2-B0BD-4F097700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54F8-7D4B-4190-A915-3D6D6B0FF27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CA37-E12D-47D1-B17D-3A999EFBA65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-1440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矩形 5"/>
          <p:cNvSpPr/>
          <p:nvPr/>
        </p:nvSpPr>
        <p:spPr>
          <a:xfrm>
            <a:off x="1664280" y="1628640"/>
            <a:ext cx="57675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特粗光辉简体"/>
                <a:ea typeface="方正特粗光辉简体"/>
              </a:rPr>
              <a:t>浪漫爱情</a:t>
            </a:r>
            <a:r>
              <a:rPr b="0" lang="en-US" sz="6600" spc="-1" strike="noStrike">
                <a:solidFill>
                  <a:srgbClr val="ffffff"/>
                </a:solidFill>
                <a:latin typeface="方正特粗光辉简体"/>
                <a:ea typeface="方正特粗光辉简体"/>
              </a:rPr>
              <a:t>PPT</a:t>
            </a:r>
            <a:r>
              <a:rPr b="0" lang="zh-CN" sz="6600" spc="-1" strike="noStrike">
                <a:solidFill>
                  <a:srgbClr val="ffffff"/>
                </a:solidFill>
                <a:latin typeface="方正特粗光辉简体"/>
                <a:ea typeface="方正特粗光辉简体"/>
              </a:rPr>
              <a:t>模板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2556000" y="272412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"/>
          <p:cNvSpPr/>
          <p:nvPr/>
        </p:nvSpPr>
        <p:spPr>
          <a:xfrm>
            <a:off x="2857320" y="1917720"/>
            <a:ext cx="338148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特粗光辉简体"/>
                <a:ea typeface="方正特粗光辉简体"/>
              </a:rPr>
              <a:t>谢谢观看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2T20:44:00Z</dcterms:created>
  <dc:creator>lenovo</dc:creator>
  <dc:description/>
  <dc:language>en-US</dc:language>
  <cp:lastModifiedBy>lenovo</cp:lastModifiedBy>
  <dcterms:modified xsi:type="dcterms:W3CDTF">2015-11-02T03:15:07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60</vt:lpwstr>
  </property>
</Properties>
</file>