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359-E829-42B3-BC9B-4D808B19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E3C-C89F-4EB3-A656-1C086A2A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6E0-D317-42EF-ADFF-C3819EA2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887-ACD2-456F-AD93-3C204A31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E61D-4807-4A20-BDE0-401B91AB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9BCE-6B41-4F88-81D0-8735B371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31AD-7E5A-4CC7-A78E-7FE31DD5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5325-8905-4960-84C1-18094DAD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59B5-37DC-43DB-B296-542C1236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1978-9753-4805-BF5B-216EE863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77C3-1127-4607-9DE8-ECE6575C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C09-03DF-4706-A159-03D7E86D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F3F0-1ACD-49B1-8875-73FBBE50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BB39-177F-4AB3-B512-2C72AD70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AB89-CF14-4C54-BCE7-FD95DC27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13AB-55BC-4C57-943C-7C045279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C748-8EB6-4431-8ABC-42401E63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499-E1A4-4724-8DC1-5B0387DB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1D1-DB1F-42F1-AE54-9EDF6ACF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F17-47D1-4011-AF26-F9490F58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27B-AAD4-44F7-B068-7F861207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F81-4253-4451-A957-D05E72F0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190-2E42-49B1-A044-0832AF8D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1CF-361B-4EE9-AD34-2D7BD07A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245E-F06E-4D4F-8D07-F77F5F41A31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81D6-AD7E-47CB-9BBB-E9423115113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15242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制作宣传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2590920"/>
            <a:ext cx="8272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宋体"/>
              </a:rPr>
              <a:t>国庆活动宣传册的优点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打造信息集约化发布的平台；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方便消费者了解商家促销信息；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可以成为嘉和建材城长远宣传手段之一；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由于以宣传册的形式出现，利于消费者长期保存，达到一次发放长期影响的效果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71600"/>
            <a:ext cx="8763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建议商家制作宣传册页。此宣传册意在为商家提供一个与各商家、消费者进行信息交流的平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此宣传册将包含商家所代理的品牌信息、商家铺位信息、促销信息、行业动态、建材城动态等内容，并可以进行长远规划，以周刊、月刊的形式创建嘉和建材城的自有刊物，进行对外宣传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914400"/>
            <a:ext cx="853452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宣传册规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尺寸：竖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开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*29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页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预计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8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实际页数将以同意商家数为准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封面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扉一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正文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0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尺寸：整版面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*29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）；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/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版面（竖版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*29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；横板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*147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06360" y="586728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按照商家所需求，宣传单格式可随要求调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40440" y="7621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宣传册刊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1217520"/>
          <a:ext cx="8458200" cy="3963960"/>
        </p:xfrm>
        <a:graphic>
          <a:graphicData uri="http://schemas.openxmlformats.org/drawingml/2006/table">
            <a:tbl>
              <a:tblPr/>
              <a:tblGrid>
                <a:gridCol w="1143000"/>
                <a:gridCol w="2361960"/>
                <a:gridCol w="2838600"/>
                <a:gridCol w="2114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告版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尺寸（宽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告价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封面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封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扉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扉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内页整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内页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/2P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竖版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内页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/2P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横版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14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扉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扉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封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封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1069920"/>
            <a:ext cx="20574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提供商品奖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523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805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增加本次活动的趣味性和互动性，特设立奖项与奖品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增加活动趣味性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提高消费者参与积极性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树立商家回馈客户的形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与奖项、奖品的操作方式相结合直接刺激消费者的消费欲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" y="1143000"/>
            <a:ext cx="1558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奖项设置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560600"/>
            <a:ext cx="8381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幸运卡片，现金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一等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元；二等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元、三等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元从低至高派送。</a:t>
            </a:r>
            <a:r>
              <a:rPr b="0" lang="zh-CN" sz="1600" spc="-1" strike="noStrike">
                <a:solidFill>
                  <a:srgbClr val="cc0000"/>
                </a:solidFill>
                <a:latin typeface="宋体"/>
              </a:rPr>
              <a:t>引发悬念，聚集人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商品赠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商家实物商品赠送。（互动游戏环节）</a:t>
            </a:r>
            <a:r>
              <a:rPr b="0" lang="zh-CN" sz="1600" spc="-1" strike="noStrike">
                <a:solidFill>
                  <a:srgbClr val="cc0000"/>
                </a:solidFill>
                <a:latin typeface="宋体"/>
              </a:rPr>
              <a:t>树立商家乐于回馈顾客的形象，增加消费信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纪念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凡参与游戏、互动环节，均可得到纪念品奖励。</a:t>
            </a:r>
            <a:r>
              <a:rPr b="0" lang="zh-CN" sz="1600" spc="-1" strike="noStrike">
                <a:solidFill>
                  <a:srgbClr val="cc0000"/>
                </a:solidFill>
                <a:latin typeface="宋体"/>
              </a:rPr>
              <a:t>吸引眼球，聚集人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礼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凡购买商品的消费者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元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元抵用券，以此类推，按照消费金额发放。</a:t>
            </a:r>
            <a:r>
              <a:rPr b="0" lang="zh-CN" sz="1600" spc="-1" strike="noStrike">
                <a:solidFill>
                  <a:srgbClr val="cc0000"/>
                </a:solidFill>
                <a:latin typeface="宋体"/>
              </a:rPr>
              <a:t>刺激消费者的购买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9640" y="1143000"/>
            <a:ext cx="23209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商家提供商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666800"/>
          <a:ext cx="8196120" cy="3362400"/>
        </p:xfrm>
        <a:graphic>
          <a:graphicData uri="http://schemas.openxmlformats.org/drawingml/2006/table">
            <a:tbl>
              <a:tblPr/>
              <a:tblGrid>
                <a:gridCol w="576000"/>
                <a:gridCol w="1600200"/>
                <a:gridCol w="1920960"/>
                <a:gridCol w="1812960"/>
                <a:gridCol w="1447920"/>
                <a:gridCol w="83808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参与环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奖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操作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现金大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现金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等奖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二等奖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三等奖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抽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拍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品实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商品价格为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拍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费礼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费抵用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设立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消费抵用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购买商品获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参与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品纪念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参与奖品价格为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参与者获得纪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竞猜价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品实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商品价格为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竞猜价格相近获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纪念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商家品牌定制小礼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纪念奖品价格为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按照节目演出由演员随时派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5137920" y="568800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所有奖品均有商家为参与者颁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85800" y="1447920"/>
          <a:ext cx="7772400" cy="34542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公司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产品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公司联系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联系电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展示商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M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参与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费抵用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参与环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提供物品金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现场广告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册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提供资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其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331280" y="8380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商家填写参与活动申请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62040" y="10508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商家与消费者互动促销效果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1480" y="1501920"/>
            <a:ext cx="255060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活动中拉近与消费者的距离，在与消费者互动的环节中，宣传商品，易于被消费者接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赠送纪念品，让消费者感受与商家互动的实惠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以先购物再抽奖的形式达成直接促销效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聚拢人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迎合消费者实惠购物心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打造嘉和建材城“实惠购物城”的形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以回馈消费者的形式提升各商家与建材城的知名度与形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节目设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表现节日气氛，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日起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日，每天在建材城里举行小型的  表演，加强促销气氛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要形式：唱歌、杂技表演、舞蹈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后附详细节目演出流程）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互动环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加强有奖互动，与参与市民交流，增强趣味性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要形式：互动游戏、抽奖游戏等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确定后附详细互动流程）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2362320" y="838080"/>
            <a:ext cx="4267080" cy="533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9903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活动内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节目演出。（杂技表演、特色歌舞）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互动环节、竞赛游戏、有奖活动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抽奖活动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好礼相送。（小礼品、购物代金券由主持人或者演员派发）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304920" y="914400"/>
            <a:ext cx="8321400" cy="3163320"/>
            <a:chOff x="304920" y="914400"/>
            <a:chExt cx="8321400" cy="3163320"/>
          </a:xfrm>
        </p:grpSpPr>
        <p:sp>
          <p:nvSpPr>
            <p:cNvPr id="85" name=""/>
            <p:cNvSpPr/>
            <p:nvPr/>
          </p:nvSpPr>
          <p:spPr>
            <a:xfrm>
              <a:off x="304920" y="1471680"/>
              <a:ext cx="8321400" cy="26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丽江嘉和集团成立于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XXXX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年，旗下建材城成立于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XXXX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月，成立至今已经成为嘉和集团旗下主要产业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嘉和建材城位于丽江市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XXXXX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地，交通便利，规模集中，已经成为当地及周边地区建材主要供应商，积累了大批客户，年利润达到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XXXXX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万元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时临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2010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年国庆节，这一时段已经成为众多商家促销黄金期。因此嘉和建材城同样必须抓住这次契机，但由于目前此类活动形式雷同，商业动机过重，因此效果有所下降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此次嘉和建材城的促销活动必须另辟捷径，将以回馈客户和与消费者互动为主题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8"/>
            <p:cNvSpPr/>
            <p:nvPr/>
          </p:nvSpPr>
          <p:spPr>
            <a:xfrm>
              <a:off x="2438280" y="914400"/>
              <a:ext cx="419112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活动背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66640" y="837720"/>
            <a:ext cx="8043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现场布展设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背景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商家品牌展示墙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赠品礼物统一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设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购物礼券、礼品袋、包装统一设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建材城内节日气氛渲染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持人麦卡、嘉宾胸卡、邀请卡设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现场布展设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详见物料清单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219320" y="914400"/>
            <a:ext cx="6919920" cy="4649760"/>
            <a:chOff x="1219320" y="914400"/>
            <a:chExt cx="6919920" cy="4649760"/>
          </a:xfrm>
        </p:grpSpPr>
        <p:grpSp>
          <p:nvGrpSpPr>
            <p:cNvPr id="128" name=""/>
            <p:cNvGrpSpPr/>
            <p:nvPr/>
          </p:nvGrpSpPr>
          <p:grpSpPr>
            <a:xfrm>
              <a:off x="1219320" y="1981080"/>
              <a:ext cx="6919920" cy="3583080"/>
              <a:chOff x="1219320" y="1981080"/>
              <a:chExt cx="6919920" cy="3583080"/>
            </a:xfrm>
          </p:grpSpPr>
          <p:sp>
            <p:nvSpPr>
              <p:cNvPr id="129" name=""/>
              <p:cNvSpPr/>
              <p:nvPr/>
            </p:nvSpPr>
            <p:spPr>
              <a:xfrm>
                <a:off x="1219320" y="3773520"/>
                <a:ext cx="6919920" cy="0"/>
              </a:xfrm>
              <a:prstGeom prst="line">
                <a:avLst/>
              </a:prstGeom>
              <a:ln w="28440">
                <a:solidFill>
                  <a:srgbClr val="cd14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85040" y="1981080"/>
                <a:ext cx="0" cy="3583080"/>
              </a:xfrm>
              <a:prstGeom prst="line">
                <a:avLst/>
              </a:prstGeom>
              <a:ln w="28440">
                <a:solidFill>
                  <a:srgbClr val="cd14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871800" y="2957400"/>
              <a:ext cx="1616040" cy="1616040"/>
            </a:xfrm>
            <a:prstGeom prst="diamond">
              <a:avLst/>
            </a:prstGeom>
            <a:solidFill>
              <a:srgbClr val="cd1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14960" y="2666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国庆气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80560" y="2666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互动参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43400" y="4800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激发购物热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46640" y="4800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节目演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10"/>
            <p:cNvSpPr/>
            <p:nvPr/>
          </p:nvSpPr>
          <p:spPr>
            <a:xfrm>
              <a:off x="2819520" y="914400"/>
              <a:ext cx="3581280" cy="533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活动流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811080"/>
          <a:ext cx="8763120" cy="4262400"/>
        </p:xfrm>
        <a:graphic>
          <a:graphicData uri="http://schemas.openxmlformats.org/drawingml/2006/table">
            <a:tbl>
              <a:tblPr/>
              <a:tblGrid>
                <a:gridCol w="871560"/>
                <a:gridCol w="658800"/>
                <a:gridCol w="1317600"/>
                <a:gridCol w="1241280"/>
                <a:gridCol w="2117880"/>
                <a:gridCol w="1460520"/>
                <a:gridCol w="1095480"/>
              </a:tblGrid>
              <a:tr h="5900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演工作流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前准备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2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3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日下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0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点前，现场布置及设备调试工作全部结束。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日上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7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点，项目组工作人员巡查现场，确保所有物料齐备等待领导、嘉宾、媒体入场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6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流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环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人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主持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礼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演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音乐暖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引来宾入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候场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主持人开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介绍嘉和建材城及参加领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引领导上台讲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剪彩仪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串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引导剪彩嘉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 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演出开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串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候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演出准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好礼相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演出派送礼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派送礼品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演出结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宣布明天节目及抽奖大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谢幕离场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结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763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演出活动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62840" y="58183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Verdana"/>
              </a:rPr>
              <a:t>确定后附表演节目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685800"/>
          <a:ext cx="8763120" cy="4736880"/>
        </p:xfrm>
        <a:graphic>
          <a:graphicData uri="http://schemas.openxmlformats.org/drawingml/2006/table">
            <a:tbl>
              <a:tblPr/>
              <a:tblGrid>
                <a:gridCol w="871560"/>
                <a:gridCol w="658800"/>
                <a:gridCol w="1316160"/>
                <a:gridCol w="1244520"/>
                <a:gridCol w="2116080"/>
                <a:gridCol w="1460520"/>
                <a:gridCol w="1095480"/>
              </a:tblGrid>
              <a:tr h="5331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互动节目工作流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1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前准备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3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日下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0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点前，现场布置及设备调试工作全部结束。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日下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3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0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点，项目组工作人员巡查现场，确保所有物料齐备等待领导、嘉宾、媒体入场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流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环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人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主持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礼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幸福摩天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串词邀请观众参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幸运号码抽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介绍游戏规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展示礼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唱歌接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演员配合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元竞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展示商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拍卖师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互动游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介绍规则邀请参与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发放奖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戳气球 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抽取幸运大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串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金大礼展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领导发放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结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6752880" y="57150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Verdana"/>
              </a:rPr>
              <a:t>确定后附互动游戏节目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奖项设置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节目清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物料准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现场执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2133720" y="990720"/>
            <a:ext cx="4647960" cy="533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项目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、奖项设置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现金奖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商品实物奖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赠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纪念奖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所有奖项由商家或者嘉和建材城提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1066680"/>
            <a:ext cx="24735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表演节目清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Verdana"/>
              </a:rPr>
              <a:t>确定后，选定表演节目及人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Verdana"/>
              </a:rPr>
              <a:t>确定后，附互动节目流程及玩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83240" y="108900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物料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981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cc0000"/>
                </a:solidFill>
                <a:latin typeface="Verdana"/>
              </a:rPr>
              <a:t>附所有物料准备清单报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70480" y="85392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现场执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258920"/>
            <a:ext cx="807732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现场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Verdana"/>
              </a:rPr>
              <a:t>整体秩序及各流程顺利进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Verdana"/>
              </a:rPr>
              <a:t>礼仪小姐配合商品的展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Verdana"/>
              </a:rPr>
              <a:t>负责协调现场技术人员，控制会场氛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Verdana"/>
              </a:rPr>
              <a:t>管理好现场演出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工作人员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专人负责指引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专人负责促销商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演员、礼仪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专人负责演出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提前彩排，发放演出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对摄影、摄像人员，提出要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调音师主持人管理，发放流程表，配合每个环节的效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828800" y="1600200"/>
            <a:ext cx="5105520" cy="3505320"/>
            <a:chOff x="1828800" y="1600200"/>
            <a:chExt cx="5105520" cy="3505320"/>
          </a:xfrm>
        </p:grpSpPr>
        <p:sp>
          <p:nvSpPr>
            <p:cNvPr id="88" name="直接连接符 6"/>
            <p:cNvSpPr/>
            <p:nvPr/>
          </p:nvSpPr>
          <p:spPr>
            <a:xfrm flipH="1">
              <a:off x="3886200" y="2209680"/>
              <a:ext cx="1440" cy="2590920"/>
            </a:xfrm>
            <a:prstGeom prst="line">
              <a:avLst/>
            </a:prstGeom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7"/>
            <p:cNvSpPr/>
            <p:nvPr/>
          </p:nvSpPr>
          <p:spPr>
            <a:xfrm>
              <a:off x="1828800" y="2057400"/>
              <a:ext cx="3808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8"/>
            <p:cNvSpPr/>
            <p:nvPr/>
          </p:nvSpPr>
          <p:spPr>
            <a:xfrm>
              <a:off x="4724280" y="1600200"/>
              <a:ext cx="221004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活动 简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9"/>
            <p:cNvSpPr/>
            <p:nvPr/>
          </p:nvSpPr>
          <p:spPr>
            <a:xfrm>
              <a:off x="4724280" y="3124080"/>
              <a:ext cx="221004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活动 策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0"/>
            <p:cNvSpPr/>
            <p:nvPr/>
          </p:nvSpPr>
          <p:spPr>
            <a:xfrm>
              <a:off x="4724280" y="3886200"/>
              <a:ext cx="221004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活动 流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0"/>
            <p:cNvSpPr/>
            <p:nvPr/>
          </p:nvSpPr>
          <p:spPr>
            <a:xfrm>
              <a:off x="4724280" y="4648320"/>
              <a:ext cx="221004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项目 执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8"/>
            <p:cNvSpPr/>
            <p:nvPr/>
          </p:nvSpPr>
          <p:spPr>
            <a:xfrm>
              <a:off x="4724280" y="2362320"/>
              <a:ext cx="221004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商家 互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7631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适逢国庆节，为回馈广大消费者，嘉和建材城将与建材城内的各位商家，结合有奖竞猜及互动游戏与精彩的文艺节目，共同打造为期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天的促销活动，营造“国庆嘉和献豪礼”的氛围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为与一般促销活动相区别，在嘉和建材城与商家合作促销活动的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天中，将实惠，精品，快乐传递到每个人身边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精彩的节目，实惠的商品，让消费者实实在在感受到一场饕餮盛宴，嘉和将为消费者准备百万回馈豪礼。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2514600" y="1219320"/>
            <a:ext cx="419112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160" y="1066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基础信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时  间：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日—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地  点：丽江嘉和建材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人  数：待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形  式：国庆促销、节目表演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风  格：喜庆、回馈、少许商业元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活动目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回馈老客户，吸引新客户；欢庆国庆，促销建材城内商品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倡导一站式购物理念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打造实惠、便捷的购物模式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倡导低碳建材生活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达成国庆期间的直接促销目的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提高品牌知名度，美誉度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扩大嘉和建材城品牌影响力，以及建材城内品牌影响力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42960" y="837720"/>
            <a:ext cx="80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8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媒体整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8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为扩大本次活动的印象力，特加强与媒体的合作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852560"/>
          <a:ext cx="7848720" cy="3328920"/>
        </p:xfrm>
        <a:graphic>
          <a:graphicData uri="http://schemas.openxmlformats.org/drawingml/2006/table">
            <a:tbl>
              <a:tblPr/>
              <a:tblGrid>
                <a:gridCol w="2327400"/>
                <a:gridCol w="2571840"/>
                <a:gridCol w="1601640"/>
                <a:gridCol w="13478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媒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投放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预计金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电视广告投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活动节目大奖抽奖形式制作宣传广告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秒广告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万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报纸宣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宣传夹页的形式在报纸上宣传，同时印制抵用折扣券吸引顾客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个版面或夹页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万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汽车电台宣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在丽江当地电台合作，宣传造势，吸引顾客来参加活动观看表演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秒活动表演宣传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铺宣传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个商铺投放宣传单，以节目表演为重点，促销为辅助，吸引顾客参加本次活动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单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份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横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在建材城内悬挂横幅标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条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二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82224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广告受众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433520"/>
          <a:ext cx="8077320" cy="3824280"/>
        </p:xfrm>
        <a:graphic>
          <a:graphicData uri="http://schemas.openxmlformats.org/drawingml/2006/table">
            <a:tbl>
              <a:tblPr/>
              <a:tblGrid>
                <a:gridCol w="1849320"/>
                <a:gridCol w="2335320"/>
                <a:gridCol w="389268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媒体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特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辐射人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电视广告投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辐射面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传播速度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识别度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所有电视用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报纸宣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成本较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辐射面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890640" indent="-4190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所有报纸传阅用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汽车电台宣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成本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传播速度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电台听众以及汽车拥有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铺宣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M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成本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直接有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所有现场消费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横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醒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成本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营造气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所有现场消费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676520"/>
            <a:ext cx="85154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此次活动以商家为主要服务对象，体现嘉和集团的对商家关注度，为商家搭建平台与消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者互动，构建对品牌的认知度，体现一站式服务的理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节目设计和与顾客的互动中，加入商家的产品，宣传商户的品牌，让消费者在参与过程中，能得到实惠和惊喜，为打入一站式消费理念，对商家的经营产生预期的效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为商家自行出资定制宣传册，宣传册包括商家信息及此次活动的促销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商家在此次互动中，提供互动商品，现金大奖，消费优惠券，抵用现金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1828800" y="990720"/>
            <a:ext cx="52578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商家互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系统</cp:lastModifiedBy>
  <dcterms:modified xsi:type="dcterms:W3CDTF">2010-09-08T11:36:4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