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549-2706-4CD9-8020-1469818E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3F8-EC11-4484-9114-47BAD83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20184-66E3-44DF-BD13-A998102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49B1-D8D4-413A-83FF-B22DC98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B245-67DA-4402-820E-3A3285D6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11A5F-F0FE-4D53-8A3B-3F3ABDD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3FF4F-40DD-4AB2-9B10-BAD41C5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90662-526C-4415-AD88-0D5C458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2A5C8-AE10-48A4-B099-F73C2AE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CA560-1287-4A4C-83FB-BC53720D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5D854-F41C-4FA4-AD13-4571A0C1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9167-06B7-413C-AF20-B07B1139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C15-3667-4DA3-BFA2-B62020E8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B40A2-2C76-46A5-9D77-D48E614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AF325-949D-422F-A39D-57294AD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02018-C889-4F55-9AA1-4AA6DD8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AA326-D9A9-4B84-9CC0-0C7FA5D1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CB9FB-C5B3-484E-8AE8-3668205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88B69-A38F-4B6A-BB67-DE4431B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55AC1-A591-4578-A64E-362E510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6AB8F-75C5-4405-9F85-078655B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730FB-A7DC-4D97-A687-056D3D27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D153E-24E3-476C-897B-6C0F1B37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3E9-C26D-4F8A-B5C1-DF81A13E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29D9-4C89-4269-8DA8-028DEE2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6478-0D8C-43FB-A4D0-F9B2FCED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2DE2-BFC8-47BA-89D1-ED90849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C9C20-45EA-4A8F-9CA6-0BB6EEA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B5B4-70F1-474E-9895-1C6AA9D4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07C73-1BB4-4D8D-8E59-384F13C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2D93D-8390-4710-BC61-6A94463B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90F0-6F33-461B-9B51-E7C20D8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C72A6-264B-4EF6-A5AC-4E472F7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B9C4-6C10-4CF0-94ED-53B5F0E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97E-F991-48F4-A1F3-D35317E1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0A70C-C998-492C-8492-5378A7B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7BE02-2DDD-46A7-AAB7-AC676873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20CFF-5735-413A-8DB4-A73826FB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0D61-A847-4B63-A465-400D613D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BD8B5-5788-4455-AA69-0B53C5C5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2FC4B-71B1-47C0-BAFC-EF898721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3799-F0BA-4A15-8825-1D80531A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D7CC4-F5B9-4332-9220-203BDD6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0CF90-11D0-4E7B-BC91-29FC7EE0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FD9EF-A101-4E8E-9DB4-47A1A24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675A-BBE8-49EC-9F45-0F2A5F7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703DE-C7B9-4C2D-BEF1-AEFF0BD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95690-ADB1-4716-9CDE-3F0A88C1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7FC35-5C97-4D34-863B-79911498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8E620-E472-41C7-BDDC-C6D807B0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CDE2C-D1DE-49B5-B747-378431F8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7E20-097D-4155-BA23-D148C2F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107-53B9-432F-9C54-AC19FC3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A63-7443-442F-902B-023702E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67E-3EFB-46D8-8156-39940C9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1FAC-C763-4D55-93B9-C8DEE31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EC5-81CF-4681-BEA2-66264DAC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A7FC-F1A3-4AA0-A5BD-1C4419D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E06F-207A-48C0-92BE-4985AF3A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427C-5824-4AF4-9544-F40BCFA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5FA-90E9-4F9F-8A95-C0F049D9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8171-5D3C-4FFD-B477-034B8755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5674-3A26-45AA-8370-9F8FB6A4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76D1-B8FA-4D6C-B62E-9067013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6CF5-26A7-4F98-A7A5-EEEB6224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1063-2E17-4454-BC57-46C03D3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48F7-BB2E-4BE0-9251-4D4C5FF9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429-6654-4595-BA02-B5E4AA69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E3F8-9482-4D31-9960-39D83D9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32F4-FFE4-4805-9B69-706758E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CD6C-89E9-4C1E-87B8-5164A26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91FB-6847-4C19-A9A7-F75B396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AA46-35F5-4672-94AD-728AADB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AAB1-87E5-4812-B451-E9AC659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1DEE-1EE6-41BB-8B11-291F8A74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8109-B94A-4810-AB35-8F19F401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D218-2D0F-4CCD-A8ED-FD2B087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16F7-7783-4538-8935-62B4BFEB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D3E-E159-4AFE-9954-4DF4708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3FA2-F392-4E57-8B0C-F669715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310C-F373-4232-AE8D-C3966E69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1D3B-3E46-4214-B8D2-9EF457F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5D79-2B94-4B42-8EFD-AED0A34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CF14-3511-43E9-8C18-E20023B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33B1-C340-484A-AD4D-78A31C7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E325-3128-435D-B6C7-1006093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F4DB-9B9F-49BA-A296-638FAC60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1FC6-861E-4E9B-B721-0FDCB757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812D-E205-41EE-A36A-99E40DB0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B0F-6A3D-4DD5-8396-34FA8675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986E-6CD9-4A12-B0D2-1557494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E266-20FB-4D59-827F-A5428087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7EF8-32E5-487D-BC5D-33171AE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CF1A-08CF-4CEF-9315-EFF40D8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EA65-AA18-4050-9818-DADB977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270C-ACE2-41C4-8D56-A7CF933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9473-5466-48A6-929D-EB81E7C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9720-8C8A-4427-B546-3AD1571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8244-3578-4323-9CB7-AF6BAB0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5B90-8BF8-4EC6-975A-5866C13F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839-F075-4F43-988C-B0254A5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078AD-04CD-4BF9-95D6-BBF7F4A8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AADA-B32D-474E-ACD0-0CCAD5B0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15CC-1B05-4F98-BBE9-93E9EF47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C4AA-08FD-4ADB-BC12-D5364D76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7B9D-F8F6-45A5-95D4-5D4468A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D30E-A79F-4F93-9E56-E1203F4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F7FD-91C0-40A8-99A2-23E2981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669B-0A04-48A5-B26C-47FFBAA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2A08-4DB8-4BBF-A038-D018D9C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29BF-DC73-44A7-81C0-82E0937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DAA-D02A-4859-A85E-0C1113F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D2B6-5612-41D7-B9E8-B71AED61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16D9-1DDF-4EF1-B8AD-3AB88CE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DA1EC-E7F3-4960-AE64-338E1D69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95512-4CE1-4785-9D9E-569A2985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7CF9-5EB6-4943-BC3E-CA2443D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E25D-2C6C-4C94-95DE-B0820AD5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162F-D973-4DD9-AB70-4859532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1F5FF-56E5-4DCA-A27E-BDBFC830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74CD-D580-4E24-8B9E-E556D07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8FB3-8C6A-4325-A3A6-6BD8EFA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AA4-9FD8-4394-AB49-4DAB17F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09B5-DBE4-4F5A-8639-B68FCC1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9932D-A40B-4AD6-96A1-8838D89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DE499-EF77-43B0-9A8B-C0BADC6D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7B61-6C72-4C4A-B80A-BC7F4F7E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E928-1462-4100-A984-5DA9772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5B51-1206-4E9E-8FDE-FA6C9ECF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5D5B-EF60-4E26-A902-A1E0037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20C9C-6EAF-4A6D-B739-8905EA2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FCD2-9CDB-4699-997F-18E6A34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2D02-8252-4151-99B4-EDFE796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46A-69D1-4CEF-91FA-D5469A7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7E1F-5A36-450C-83D7-540A6843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AA65-F7E7-4F37-9B33-6253842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25AC2-FB0B-4FC1-A449-98934A4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3A62-7A7B-4DCB-A3B6-EFBEC4A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4F61-5071-42BE-B068-2EB6430C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1829-6B1F-4C6A-AF45-7FF13E6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15F8-E8F8-4A37-9E11-41ECA1B8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2879-6B7F-4CAA-B70C-AC9D5AAB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AD803-E640-4A89-858B-5599A79E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5423-8BC0-4A98-A9B5-F107D7B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479-CE81-42F4-9C4A-410D263FED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EF09-E26D-4945-86FA-83A29D6625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D3F-7C0D-4B9A-83DA-EC2A76E4F5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D0F2-2F1E-41E5-BB5A-6556C56D89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257-A1E9-4B6D-AE3D-BAC9134D802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67A-48F8-4934-B611-08CB85CA85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76F-0CCA-4887-905B-5D56674D48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A0E-6A8D-49B9-B02C-637543CB2E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3725-42B6-46A8-958C-B5CBCEEF3B9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AACC-53C4-488A-A1BD-4AF77E9868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3E40-A6E9-4F6E-98FA-C0998106D29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D5E-E1E1-4FFC-8FF6-5D9B22D0AE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819-041C-4F23-B06F-7513517B71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CDC-E8E9-49B6-9AB4-27F31F8050F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A5B-7584-4CF0-9E44-6D584790BD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1D6-8F05-43D2-8139-3C1A9F1200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408D-C857-4CD8-B8D1-FA29D131FE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A04-CA3D-4949-8B17-0BD0DD0844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4A5-44DF-4F75-83C5-C6E0A7C9067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ED1-AB5A-4449-85D3-5CE0448546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BA46-E905-4587-83D4-0455DC6CAA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5AF-BF4C-488C-A5E2-6996EC18DC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738A-AE4B-4CDD-86D2-804F723D98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BAAE-2FE7-41FB-8961-B7D487E116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908080" y="325908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8"/>
          <p:cNvSpPr/>
          <p:nvPr/>
        </p:nvSpPr>
        <p:spPr>
          <a:xfrm>
            <a:off x="0" y="4351320"/>
            <a:ext cx="9144000" cy="250668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2"/>
          <a:srcRect l="3999" t="0" r="0" b="0"/>
          <a:stretch/>
        </p:blipFill>
        <p:spPr>
          <a:xfrm>
            <a:off x="0" y="1297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615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宣传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Group 5"/>
          <p:cNvGrpSpPr/>
          <p:nvPr/>
        </p:nvGrpSpPr>
        <p:grpSpPr>
          <a:xfrm>
            <a:off x="2998800" y="2651040"/>
            <a:ext cx="3517920" cy="400680"/>
            <a:chOff x="2998800" y="2651040"/>
            <a:chExt cx="3517920" cy="400680"/>
          </a:xfrm>
        </p:grpSpPr>
        <p:sp>
          <p:nvSpPr>
            <p:cNvPr id="501" name="矩形 7"/>
            <p:cNvSpPr/>
            <p:nvPr/>
          </p:nvSpPr>
          <p:spPr>
            <a:xfrm>
              <a:off x="2998800" y="26510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6" descr=""/>
            <p:cNvPicPr/>
            <p:nvPr/>
          </p:nvPicPr>
          <p:blipFill>
            <a:blip r:embed="rId2"/>
            <a:stretch/>
          </p:blipFill>
          <p:spPr>
            <a:xfrm>
              <a:off x="5833800" y="26510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Box 21"/>
            <p:cNvSpPr/>
            <p:nvPr/>
          </p:nvSpPr>
          <p:spPr>
            <a:xfrm>
              <a:off x="3933720" y="26661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4"/>
            <p:cNvSpPr/>
            <p:nvPr/>
          </p:nvSpPr>
          <p:spPr>
            <a:xfrm>
              <a:off x="2998800" y="26510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2998800" y="3533760"/>
            <a:ext cx="3517920" cy="400680"/>
            <a:chOff x="2998800" y="3533760"/>
            <a:chExt cx="3517920" cy="400680"/>
          </a:xfrm>
        </p:grpSpPr>
        <p:sp>
          <p:nvSpPr>
            <p:cNvPr id="506" name="矩形 27"/>
            <p:cNvSpPr/>
            <p:nvPr/>
          </p:nvSpPr>
          <p:spPr>
            <a:xfrm>
              <a:off x="2998800" y="353376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6" descr=""/>
            <p:cNvPicPr/>
            <p:nvPr/>
          </p:nvPicPr>
          <p:blipFill>
            <a:blip r:embed="rId3"/>
            <a:stretch/>
          </p:blipFill>
          <p:spPr>
            <a:xfrm>
              <a:off x="5833800" y="353376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Box 29"/>
            <p:cNvSpPr/>
            <p:nvPr/>
          </p:nvSpPr>
          <p:spPr>
            <a:xfrm>
              <a:off x="3933720" y="354888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30"/>
            <p:cNvSpPr/>
            <p:nvPr/>
          </p:nvSpPr>
          <p:spPr>
            <a:xfrm>
              <a:off x="2998800" y="353376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5"/>
          <p:cNvGrpSpPr/>
          <p:nvPr/>
        </p:nvGrpSpPr>
        <p:grpSpPr>
          <a:xfrm>
            <a:off x="2998800" y="4417920"/>
            <a:ext cx="3517920" cy="400680"/>
            <a:chOff x="2998800" y="4417920"/>
            <a:chExt cx="3517920" cy="400680"/>
          </a:xfrm>
        </p:grpSpPr>
        <p:sp>
          <p:nvSpPr>
            <p:cNvPr id="511" name="矩形 32"/>
            <p:cNvSpPr/>
            <p:nvPr/>
          </p:nvSpPr>
          <p:spPr>
            <a:xfrm>
              <a:off x="2998800" y="441792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6" descr=""/>
            <p:cNvPicPr/>
            <p:nvPr/>
          </p:nvPicPr>
          <p:blipFill>
            <a:blip r:embed="rId4"/>
            <a:stretch/>
          </p:blipFill>
          <p:spPr>
            <a:xfrm>
              <a:off x="5833800" y="441792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Box 34"/>
            <p:cNvSpPr/>
            <p:nvPr/>
          </p:nvSpPr>
          <p:spPr>
            <a:xfrm>
              <a:off x="3933720" y="443304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5"/>
            <p:cNvSpPr/>
            <p:nvPr/>
          </p:nvSpPr>
          <p:spPr>
            <a:xfrm>
              <a:off x="2998800" y="441792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0"/>
          <p:cNvGrpSpPr/>
          <p:nvPr/>
        </p:nvGrpSpPr>
        <p:grpSpPr>
          <a:xfrm>
            <a:off x="2998800" y="5300640"/>
            <a:ext cx="3517920" cy="400680"/>
            <a:chOff x="2998800" y="5300640"/>
            <a:chExt cx="3517920" cy="400680"/>
          </a:xfrm>
        </p:grpSpPr>
        <p:sp>
          <p:nvSpPr>
            <p:cNvPr id="516" name="矩形 37"/>
            <p:cNvSpPr/>
            <p:nvPr/>
          </p:nvSpPr>
          <p:spPr>
            <a:xfrm>
              <a:off x="2998800" y="53006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6" descr=""/>
            <p:cNvPicPr/>
            <p:nvPr/>
          </p:nvPicPr>
          <p:blipFill>
            <a:blip r:embed="rId5"/>
            <a:stretch/>
          </p:blipFill>
          <p:spPr>
            <a:xfrm>
              <a:off x="5833800" y="53006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Box 39"/>
            <p:cNvSpPr/>
            <p:nvPr/>
          </p:nvSpPr>
          <p:spPr>
            <a:xfrm>
              <a:off x="3933720" y="53157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40"/>
            <p:cNvSpPr/>
            <p:nvPr/>
          </p:nvSpPr>
          <p:spPr>
            <a:xfrm>
              <a:off x="2998800" y="53006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6:39:00Z</dcterms:created>
  <dc:creator>王琳</dc:creator>
  <dc:description/>
  <cp:keywords/>
  <dc:language>en-US</dc:language>
  <cp:lastModifiedBy>Administrator</cp:lastModifiedBy>
  <cp:lastPrinted>1899-12-30T00:00:00Z</cp:lastPrinted>
  <dcterms:modified xsi:type="dcterms:W3CDTF">2015-06-10T10:16:19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