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9B8-112D-4822-A4B0-D1601800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787-FD98-41C0-B37F-031F68CB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99F-854A-4B50-9002-540E4504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0285-8576-4D45-8DCD-7A6D0D33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629-DA6E-4D5D-8083-810FB1B1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698-DA0A-4D60-8D07-9401A100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6CF5-FE17-45C1-B300-41AAC286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272-232C-41D7-A223-25E96E73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92C6-AA31-4FD8-9584-1F0D0B8E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E84-C89D-43CF-AF83-19E9244C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FEC-EC93-42F9-A597-F4C6C3B2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2BBF-652A-4953-AD23-3C92B990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B105-9C37-4118-B32A-0C9E7C7EB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8756640" y="-4595400"/>
            <a:ext cx="42372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MINI Cooper Clubman Hot Choc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8282160" y="-4494240"/>
            <a:ext cx="39348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BMW Group Press Club: WWW.press.bmwgroup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8748720" y="-6435720"/>
            <a:ext cx="0" cy="59770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1"/>
          <p:cNvSpPr/>
          <p:nvPr/>
        </p:nvSpPr>
        <p:spPr>
          <a:xfrm>
            <a:off x="8964720" y="-6219720"/>
            <a:ext cx="0" cy="5976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图片2"/>
          <p:cNvPicPr/>
          <p:nvPr/>
        </p:nvPicPr>
        <p:blipFill>
          <a:blip r:embed="rId1"/>
          <a:stretch/>
        </p:blipFill>
        <p:spPr>
          <a:xfrm>
            <a:off x="1187280" y="189000"/>
            <a:ext cx="7307280" cy="5549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rcRect l="0" t="0" r="50004" b="0"/>
          <a:stretch/>
        </p:blipFill>
        <p:spPr>
          <a:xfrm>
            <a:off x="2328840" y="1413000"/>
            <a:ext cx="2243160" cy="3303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47" name="Picture 6" descr=""/>
          <p:cNvPicPr/>
          <p:nvPr/>
        </p:nvPicPr>
        <p:blipFill>
          <a:blip r:embed="rId3"/>
          <a:srcRect l="50004" t="0" r="0" b="0"/>
          <a:stretch/>
        </p:blipFill>
        <p:spPr>
          <a:xfrm>
            <a:off x="4560840" y="1413000"/>
            <a:ext cx="2243160" cy="3303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p:transition spd="med" advTm="1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9" descr="P0040760"/>
          <p:cNvPicPr/>
          <p:nvPr/>
        </p:nvPicPr>
        <p:blipFill>
          <a:blip r:embed="rId1"/>
          <a:stretch/>
        </p:blipFill>
        <p:spPr>
          <a:xfrm>
            <a:off x="2320920" y="1413000"/>
            <a:ext cx="4502160" cy="3303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8"/>
          <p:cNvSpPr/>
          <p:nvPr/>
        </p:nvSpPr>
        <p:spPr>
          <a:xfrm>
            <a:off x="2333520" y="1413000"/>
            <a:ext cx="4475160" cy="3303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3"/>
          <a:srcRect l="50004" t="0" r="0" b="0"/>
          <a:stretch/>
        </p:blipFill>
        <p:spPr>
          <a:xfrm>
            <a:off x="4560840" y="1413000"/>
            <a:ext cx="2243160" cy="3303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1" name="Picture 10" descr=""/>
          <p:cNvPicPr/>
          <p:nvPr/>
        </p:nvPicPr>
        <p:blipFill>
          <a:blip r:embed="rId4"/>
          <a:srcRect l="0" t="0" r="50004" b="0"/>
          <a:stretch/>
        </p:blipFill>
        <p:spPr>
          <a:xfrm>
            <a:off x="2328840" y="1413000"/>
            <a:ext cx="2243160" cy="3303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2" name="Picture 14" descr=""/>
          <p:cNvPicPr/>
          <p:nvPr/>
        </p:nvPicPr>
        <p:blipFill>
          <a:blip r:embed="rId5"/>
          <a:srcRect l="50004" t="0" r="0" b="0"/>
          <a:stretch/>
        </p:blipFill>
        <p:spPr>
          <a:xfrm>
            <a:off x="88920" y="1413000"/>
            <a:ext cx="2243160" cy="3303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3" name="Picture 16" descr=""/>
          <p:cNvPicPr/>
          <p:nvPr/>
        </p:nvPicPr>
        <p:blipFill>
          <a:blip r:embed="rId6"/>
          <a:srcRect l="0" t="0" r="50004" b="0"/>
          <a:stretch/>
        </p:blipFill>
        <p:spPr>
          <a:xfrm>
            <a:off x="6804000" y="1413000"/>
            <a:ext cx="2243160" cy="3303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4" name="Text Box 17"/>
          <p:cNvSpPr/>
          <p:nvPr/>
        </p:nvSpPr>
        <p:spPr>
          <a:xfrm>
            <a:off x="3752640" y="1138320"/>
            <a:ext cx="161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EN NEW DO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26" nodeType="afterEffect" fill="hold" presetClass="exit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2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120"/>
                            </p:stCondLst>
                            <p:childTnLst>
                              <p:par>
                                <p:cTn id="3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7120"/>
                            </p:stCondLst>
                            <p:childTnLst>
                              <p:par>
                                <p:cTn id="46" nodeType="after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120"/>
                            </p:stCondLst>
                            <p:childTnLst>
                              <p:par>
                                <p:cTn id="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12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P004308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224000" y="944640"/>
            <a:ext cx="6696000" cy="493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P0043082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934920" y="750960"/>
            <a:ext cx="7272360" cy="5356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53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3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P0042504"/>
          <p:cNvPicPr/>
          <p:nvPr/>
        </p:nvPicPr>
        <p:blipFill>
          <a:blip r:embed="rId1"/>
          <a:stretch/>
        </p:blipFill>
        <p:spPr>
          <a:xfrm>
            <a:off x="3635280" y="1503360"/>
            <a:ext cx="4430880" cy="3274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P0040752"/>
          <p:cNvPicPr/>
          <p:nvPr/>
        </p:nvPicPr>
        <p:blipFill>
          <a:blip r:embed="rId2"/>
          <a:stretch/>
        </p:blipFill>
        <p:spPr>
          <a:xfrm>
            <a:off x="3635280" y="1504800"/>
            <a:ext cx="4430880" cy="3273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P0039004"/>
          <p:cNvPicPr/>
          <p:nvPr/>
        </p:nvPicPr>
        <p:blipFill>
          <a:blip r:embed="rId3"/>
          <a:stretch/>
        </p:blipFill>
        <p:spPr>
          <a:xfrm>
            <a:off x="3635280" y="1484280"/>
            <a:ext cx="4430880" cy="32734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"/>
          <p:cNvSpPr/>
          <p:nvPr/>
        </p:nvSpPr>
        <p:spPr>
          <a:xfrm>
            <a:off x="987480" y="1484280"/>
            <a:ext cx="7128000" cy="3313080"/>
          </a:xfrm>
          <a:prstGeom prst="rect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1291320" y="281952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MINI CLUBM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HE OTHER MI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4"/>
          <p:cNvGrpSpPr/>
          <p:nvPr/>
        </p:nvGrpSpPr>
        <p:grpSpPr>
          <a:xfrm>
            <a:off x="8423280" y="263880"/>
            <a:ext cx="711360" cy="5001480"/>
            <a:chOff x="8423280" y="263880"/>
            <a:chExt cx="711360" cy="5001480"/>
          </a:xfrm>
        </p:grpSpPr>
        <p:sp>
          <p:nvSpPr>
            <p:cNvPr id="63" name="Text Box 15"/>
            <p:cNvSpPr/>
            <p:nvPr/>
          </p:nvSpPr>
          <p:spPr>
            <a:xfrm>
              <a:off x="8679960" y="302040"/>
              <a:ext cx="454680" cy="40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Rounded MT Bold"/>
                </a:rPr>
                <a:t>MINI Cooper Clubman Hot Chocol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6"/>
            <p:cNvSpPr/>
            <p:nvPr/>
          </p:nvSpPr>
          <p:spPr>
            <a:xfrm>
              <a:off x="8423280" y="263880"/>
              <a:ext cx="423720" cy="50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BMW Group Press Club: WWW.press.bmwgroup.co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000">
    <p:comb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2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3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03:21:53Z</dcterms:created>
  <dc:creator>woomi</dc:creator>
  <dc:description/>
  <dc:language>en-US</dc:language>
  <cp:lastModifiedBy>Administrator</cp:lastModifiedBy>
  <dcterms:modified xsi:type="dcterms:W3CDTF">2015-06-30T03:00:04Z</dcterms:modified>
  <cp:revision>16</cp:revision>
  <dc:subject/>
  <dc:title>幻灯片 1</dc:title>
</cp:coreProperties>
</file>