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0466-ACF4-4C78-AF03-CDC7B0C1F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5D11-4EDB-4AEE-95C3-B58E1FC52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B58F-D4DB-4822-A518-79152B1DD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6DBD-FB45-44B3-83F7-4AEF4B440E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842920" y="4042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4D40-CB9A-4C99-96D4-973E7E678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B467-3278-4B36-8E97-B1ED12049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D127-9021-491D-92BE-53EB3DEA0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CA64-4090-4541-B49E-82ACFF664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42920" y="4042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95EF-DAEF-4840-BB81-4C72F3E73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0364-84BD-40DC-81F9-C30C3DC19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510DA-BB9C-4F40-B39D-24CCFD6BC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52EA-26D3-4973-B573-38FD2EA82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5acd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70DA99B-EBEE-4226-8B85-753D75342AAD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rcRect l="5396" t="5349" r="74912" b="80615"/>
          <a:stretch/>
        </p:blipFill>
        <p:spPr>
          <a:xfrm>
            <a:off x="468360" y="219240"/>
            <a:ext cx="1808280" cy="96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7320" y="5208120"/>
            <a:ext cx="6512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45acd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99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7320" y="5208120"/>
            <a:ext cx="6512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2110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718C-9403-45B7-9B19-0FED078D07B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此处添加节日的问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62040" y="182088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7e7e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77840" y="1501920"/>
            <a:ext cx="735120" cy="985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62040" y="270828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7e7e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77840" y="2389320"/>
            <a:ext cx="735120" cy="985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62040" y="359424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7e7e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077840" y="3274920"/>
            <a:ext cx="735120" cy="986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62040" y="449568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7e7e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077840" y="4176720"/>
            <a:ext cx="735120" cy="98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7712-7710-4FA2-92A4-AC87F89631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468360" y="5140440"/>
            <a:ext cx="82072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1ED7-7F0B-44ED-BF41-4A4C91EAF426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微软中国</cp:lastModifiedBy>
  <dcterms:modified xsi:type="dcterms:W3CDTF">2013-01-16T07:02:46Z</dcterms:modified>
  <cp:revision>154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363</vt:lpwstr>
  </property>
</Properties>
</file>