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14D-E906-45D5-863A-CAAAF4F0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074-5858-4566-802B-3BAAAE4D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5840-FFF7-4327-9585-581ED4B1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453-4517-4BE1-BE75-2D2A2D1F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0F4-822B-4FC7-8599-9627B7E1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D785-DB91-4B1E-9E0F-89FA8FE7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1F4E-F326-48A8-9C79-29925544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7236-AAC4-4F7E-AD6E-C58C20E2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F704-DD74-4182-B75F-01039929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0F10-99DD-48AE-A721-F0204123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D87-6E11-48CB-84E7-B40F8C04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B860-8A31-41EE-8BA7-F74459B3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148A-8308-4EC6-9E53-7616B2398A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578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40360" y="184464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四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）班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58920" y="189000"/>
            <a:ext cx="6697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保护环境   从我做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908000" y="1440"/>
            <a:ext cx="11809080" cy="8278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1280" y="54936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环保知识问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55736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773360"/>
            <a:ext cx="864072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、每年的世界环境日是那一天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? (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月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日       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月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21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日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C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月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17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日     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D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月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22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、保护水环境，我们应该选择使用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(  )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洗衣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、普通     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、无磷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C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、廉价      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D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、高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、下列哪些车辆并不污染空气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?(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、中巴车    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、摩托车    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C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、电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22320" y="1440"/>
            <a:ext cx="9923400" cy="6956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000" y="10526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、绿色购物，我们应该选择购买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(  )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Ａ、大包装的商品   Ｂ、小包装的商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Ｃ、一次性用品      Ｄ、附带广告宣传材料的商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、天生的“捕鼠能手”的鸟和享有“森林医生”美称的鸟是（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、猫头鹰、啄木鸟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、猫头鹰、喜鹊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、老鹰、啄木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973080" y="1440"/>
            <a:ext cx="10874160" cy="7623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2536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你拍一，我拍一，环保卫生放第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你拍二，我拍二，废物丢进垃圾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你拍三，我拍三，花草树木栽满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你拍四，我拍四，小鸟住满树林子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你拍五，我拍五，环境意识不落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你拍六，我拍六，瓜皮果核不乱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你拍七，我拍七，清清河流要保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你拍八，我拍八，树木不应乱砍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你拍九，我拍九，倡导环保生态游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你拍十，我拍十，争做环保小卫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56000" y="0"/>
            <a:ext cx="43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环保拍手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423720" y="-96840"/>
            <a:ext cx="9567720" cy="70549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谢 谢！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~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22320" y="1440"/>
            <a:ext cx="9312480" cy="6956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0" r="0" b="8013"/>
          <a:stretch/>
        </p:blipFill>
        <p:spPr>
          <a:xfrm>
            <a:off x="4643280" y="0"/>
            <a:ext cx="4789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34640" y="54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昨天绿水青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20" y="-402480"/>
            <a:ext cx="606960" cy="29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今日臭气熏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35302" r="0" b="0"/>
          <a:stretch/>
        </p:blipFill>
        <p:spPr>
          <a:xfrm>
            <a:off x="0" y="333360"/>
            <a:ext cx="4788000" cy="6524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88000" y="333360"/>
            <a:ext cx="4356000" cy="6524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38760" y="754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92560" y="208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昨天竹筏小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240" y="1581120"/>
            <a:ext cx="667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今日白沫一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22320" y="1440"/>
            <a:ext cx="9923400" cy="695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12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</a:rPr>
              <a:t>我们身边存在哪些破坏环境的现象呢</a:t>
            </a:r>
            <a:r>
              <a:rPr b="0" lang="zh-CN" sz="4400" spc="-1" strike="noStrike">
                <a:solidFill>
                  <a:srgbClr val="ff00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10338" r="20941" b="0"/>
          <a:stretch/>
        </p:blipFill>
        <p:spPr>
          <a:xfrm>
            <a:off x="0" y="0"/>
            <a:ext cx="907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838080" y="0"/>
            <a:ext cx="10439280" cy="69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249120" y="-166680"/>
            <a:ext cx="9545400" cy="71978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环保在身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环保应该从我做起，从身边的小事做起，作为一名普通学生我们可以做些什么来保护环境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00:47:33Z</dcterms:created>
  <dc:creator>Administrators</dc:creator>
  <dc:description/>
  <dc:language>en-US</dc:language>
  <cp:lastModifiedBy>微软用户</cp:lastModifiedBy>
  <dcterms:modified xsi:type="dcterms:W3CDTF">2013-03-23T16:05:53Z</dcterms:modified>
  <cp:revision>43</cp:revision>
  <dc:subject/>
  <dc:title>幻灯片 1</dc:title>
</cp:coreProperties>
</file>