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19B-A439-49BC-90D3-B201649E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AE9-F7AE-45D7-BFE6-AE739DC9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64B-A731-42AF-99BB-558579DD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C18-1EEB-403A-893D-4BA9FE51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A7C3-F0DE-46C5-8746-061CBE11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1E5C-EADC-416C-BF15-DDD201EB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92AB-4BE7-418E-B081-6FDEE107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9897-FB7C-4588-99E3-9A97220E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D362-4400-409C-BDAF-7FF23139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65F7-DEF3-46D7-8D63-9998AA60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BA50-F4D3-4697-9AC6-6C46FA17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72E-2515-4564-928A-6EAFAF88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C68F-F635-4B2B-B8E9-C8107B43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71AE-FAFE-4B5F-A399-A5A8EFA4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50B6-C1AE-4DA0-A92F-3576B897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C594-C717-4ED3-9DB7-3B0AD0DD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E05A-2186-4710-9A3A-EC6AE1B6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63C0F-FCA5-4F4B-9559-B9C65063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011F1-A3B4-409B-A5DA-475EA695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657DF-E9DD-4E13-A651-7F315177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898E6-F1EF-46FD-9CFB-D036C7B8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9E1FB-C46D-48DD-AA06-47310367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16D-D48A-4EC9-9C6B-36E3EB32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28287-4947-4C1A-9468-C9E68359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E432B-1C98-4817-8A64-E0C538E4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946FD-FF19-4FC8-89BE-0BE4C6E3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DEC3E-91EF-455B-9BFF-98793E8A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C30C2-CD22-4440-9438-9E5447F3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4C13-0CA4-4254-9741-2696ED4E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3D817-25E8-44D6-85FC-28D5FBF6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996-E765-4DDD-A266-610B6190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0B8A-49B3-44E2-AA7F-427D9A1F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1D1C-1A03-467F-9EA2-86890CE6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4E8-047F-469B-83EF-AAC2E9A8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8E5-D6F8-44F4-A43E-30927576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82A-FF25-4EF8-A370-B3C8B34F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15B5-1C5E-4A74-AB34-63A5372D24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D7F1-63D2-4381-A2B8-B25858A011C6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BC7A-13ED-418A-9D98-401769BBF367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-2286000" y="914400"/>
            <a:ext cx="97534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926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飞 扬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       </a:t>
            </a:r>
            <a:r>
              <a:rPr b="1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de 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             </a:t>
            </a: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青春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61722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 高一五班 五四青年节主题班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685800"/>
            <a:ext cx="822960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青团中央机关刊物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复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中国青年》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团内通讯》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中国共青团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609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2006640" cy="2527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657600" y="3352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《中国青年》是中国共产主义青年团中央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代出版的机关刊物。周刊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发刊于上海，后迁广州﹑汉口等地出版。《中国青年》是“五四”以后最早提倡“革命文学”的刊物。它的前身《先驱》，早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就设置“革命文艺”栏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86600" y="304920"/>
            <a:ext cx="1378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我的未来不是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9907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我不在乎 别人怎么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从来没有忘记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自己的承诺 对爱的执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知道我的未来不是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认真的过每一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未来不是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心跟着希望在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未来不是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认真的过每一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未来不是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心跟着希望在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跟着希望在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34290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未来不是梦，青春在我们手中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激情为旗，用青春做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拼一个无悔的人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905120" y="2362320"/>
            <a:ext cx="3760560" cy="18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4000" y="692280"/>
            <a:ext cx="453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五四”运动资料赏析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79280" y="2852640"/>
            <a:ext cx="4608720" cy="3103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  <a:ea typeface="华文新魏"/>
              </a:rPr>
              <a:t>五四爱国运动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91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日在北京爆发的中国人民反对帝国主义、封建主义的爱国运动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91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第一次世界大战爆发，日本借口对德宣战，攻占青岛和胶济铁路全线，控制了山东省，夺去德国在山东强占的各种权益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9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大战结束，德国战败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91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日，战胜国在巴黎召开 “和平会议”。北京政府和广州军政府联合组成中国代表团，以战胜国身分参加和会，提出取消列强在华的各项特权，取消日本帝国主义与袁世凯订立的 “二十一条”不平等条约，归还大战期间日本从德国手中夺去的山东各项权利等要求。巴黎和会在帝国主义列强操纵下，不但拒绝中国的要求，而且在对德和约上，明文规定把德国在山东的特权，全部转让给日本。北京政府竟准备在 “和约”上签字，从而激起了中国人民的强烈反对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五四运动是中国旧民主主义革命的结束和新民主主义革命的开端，中国革命从此进入了一个新的历史时期。中华人民共和国成立后，中央人民政府政务院于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949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月正式宣布以五月四日为中国青年节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 rot="21417000">
            <a:off x="380520" y="380880"/>
            <a:ext cx="4267440" cy="2721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 rot="352800">
            <a:off x="4267080" y="3733920"/>
            <a:ext cx="4191120" cy="2904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 rot="21264600">
            <a:off x="1599840" y="2209680"/>
            <a:ext cx="3019320" cy="4165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 rot="20970600">
            <a:off x="609120" y="685440"/>
            <a:ext cx="3265560" cy="2212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 rot="564000">
            <a:off x="6019920" y="3047760"/>
            <a:ext cx="2295360" cy="3327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981080" y="3200400"/>
            <a:ext cx="22845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1997280" cy="2576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676520" y="3352680"/>
            <a:ext cx="541008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914400"/>
            <a:ext cx="4915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知识小竞赛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31240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V="1">
            <a:off x="1981080" y="2895120"/>
            <a:ext cx="2743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523880" y="3886200"/>
            <a:ext cx="33530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18148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464832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3623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徽的组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2590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星，周围为黄圈。中国青年一代紧密团结在中国共产党周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5334120"/>
            <a:ext cx="236232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36576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麦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6019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齿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181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生的太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共青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295280" y="685800"/>
            <a:ext cx="647712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第一个青年团早期组织的负责人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施存统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俞秀松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弼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1371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124080" y="3124080"/>
            <a:ext cx="45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俞秀松，中国共产党早期杰出的革命活动家，杭州“五四运动”的领导人；上海马克思主义研究会和上海共产主义小组创建人之一，中国社会主义青年团创始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4-29T15:12:2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