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AC5-C14D-45BB-B9CC-601A8186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ED6-EEB1-4C6D-A5EA-2847605E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AD64-3AE7-4720-867C-613A5F5F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4E5-3E46-46A2-B07E-949761C4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8107-3F18-4A9F-9684-04D3A32D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9241-ADE4-499F-9181-6DDFD2C4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023C-BFC2-4EB5-B8FA-A86C9128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7B24-2289-49D2-93E0-063E00F1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CD51-1FF6-4CC5-9FE8-75418A11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7CAF-11DF-4B0B-8817-99870E1F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D2C3-874B-4475-8657-0FA477C9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ED7-6EF3-4C9B-8435-DD799367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9609-5F38-45D6-A913-5AD0C2B1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703B-B0A3-4DE5-9BF0-46F4A60D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1F83-A5E6-4FEE-9E0F-CCD90BA2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9070-856E-4F27-B831-9DBDB4C8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6767-5A81-48A7-851A-0BA85C75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E587C-3E0B-47F7-9A43-763395DA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0B6EC-4629-4DC1-AB5D-B5FF202D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B0F34-4A6B-4167-835A-4B8CA1F5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9FC9-034C-4D72-B144-958DEABA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EA7A-C45A-4C27-9A95-4402E1DB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530-BF07-4336-B3D5-5280AC33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2301-95A6-4B0A-9BE4-70DBBCEE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CE2A1-7947-4A88-8AE7-2A3E19F4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02DD-6989-4D2A-B284-E406CD81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E8476-88E9-4348-B82A-D8840EB1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CD04-48B3-4F29-ABE5-4469AD68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4D494-4998-4CFC-8498-C7D3C935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070B-78DA-46FE-BE50-03C02F29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309-87BB-4DE1-9D1D-ACE4174D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668-8BCE-4484-AFF9-DEE04845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718-B533-4402-BEF3-8322E1AD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552-4E8B-4143-B32B-EDDBE491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356-A550-4B02-8616-D06779DB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53A-035C-4354-B139-1D73EE10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3446-447E-493C-86A0-89B7C0896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209A-E2A5-429D-9837-81DE1A10A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C907-686C-482C-B7C3-3BC96E05D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>
            <a:lum bright="12000"/>
          </a:blip>
          <a:srcRect l="0" t="0" r="-46" b="30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D:\&#35270;&#39057;\&#27801;&#30011;&#12298;&#29238;&#20146;&#12299;&#65292;&#31607;&#23376;&#20804;&#24351;&#65292;&#24863;&#20154;&#65281;.f4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348000" y="620640"/>
            <a:ext cx="5689800" cy="5516640"/>
          </a:xfrm>
          <a:prstGeom prst="bevel">
            <a:avLst>
              <a:gd name="adj" fmla="val 5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348000" y="1052640"/>
            <a:ext cx="5329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仿宋_GB2312"/>
              </a:rPr>
              <a:t>      </a:t>
            </a:r>
            <a:r>
              <a:rPr b="0" lang="zh-CN" sz="2400" spc="-1" strike="noStrike">
                <a:solidFill>
                  <a:srgbClr val="663300"/>
                </a:solidFill>
                <a:latin typeface="仿宋_GB2312"/>
              </a:rPr>
              <a:t>世界上有这么一个男人，小时候你怕他的威严，长大了你学他沉稳，他的爱很深沉但不求回报；你跟他耍赖不讲理，你瞎胡闹，你闯祸回家，他批评训斥你，但他对你的爱却从不改变；你只一句话，他就成为你的超人兼跑腿兼保镖兼顾问……神马男人都是浮云，全球最靠谱的男人就是他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仿宋_GB2312"/>
              </a:rPr>
              <a:t>     </a:t>
            </a:r>
            <a:r>
              <a:rPr b="0" lang="zh-CN" sz="3600" spc="-1" strike="noStrike">
                <a:solidFill>
                  <a:srgbClr val="663300"/>
                </a:solidFill>
                <a:latin typeface="仿宋_GB2312"/>
              </a:rPr>
              <a:t>——</a:t>
            </a:r>
            <a:r>
              <a:rPr b="0" lang="zh-CN" sz="3600" spc="-1" strike="noStrike">
                <a:solidFill>
                  <a:srgbClr val="663300"/>
                </a:solidFill>
                <a:latin typeface="仿宋_GB2312"/>
              </a:rPr>
              <a:t>这个人就是老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6360" y="260280"/>
            <a:ext cx="31672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1680" y="1263600"/>
            <a:ext cx="9175680" cy="5694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042920" y="1413000"/>
            <a:ext cx="554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生病打针，我哭，爸爸默默地陪着我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40" y="981000"/>
            <a:ext cx="9180720" cy="5877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3851280" y="1341360"/>
            <a:ext cx="432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最喜欢和爸爸一起运动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-96" b="0"/>
          <a:stretch/>
        </p:blipFill>
        <p:spPr>
          <a:xfrm>
            <a:off x="0" y="1390680"/>
            <a:ext cx="4500720" cy="5467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0" t="0" r="33" b="-56"/>
          <a:stretch/>
        </p:blipFill>
        <p:spPr>
          <a:xfrm>
            <a:off x="4494240" y="1413000"/>
            <a:ext cx="4649760" cy="5445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435640" y="1557360"/>
            <a:ext cx="345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喜欢和爸爸看海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6520" t="0" r="0" b="0"/>
          <a:stretch/>
        </p:blipFill>
        <p:spPr>
          <a:xfrm>
            <a:off x="36360" y="1268280"/>
            <a:ext cx="4650120" cy="55897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45080" y="1268280"/>
            <a:ext cx="4392720" cy="5589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042920" y="1484280"/>
            <a:ext cx="34578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爸爸的肩膀象山一样……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57440" y="274320"/>
            <a:ext cx="65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觉得父母的爱有条件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77128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没有设想过，如果你出生就已是有残疾，你的人生会是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但是，无论你是如何，父母都不曾放弃过你，父母都会竭尽自己所能去让你过得更快乐！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</a:rPr>
              <a:t>我们一起来分享一个父亲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56000" y="439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有嫌弃过你的父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56000" y="980640"/>
            <a:ext cx="6408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否因为觉得父母无法理解你，总是很唠叨而与他们争吵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否因为父母给你的物质生活条件不够优越，能够给你创造更好的条件而埋怨过他们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否因为父母忙于工作，无法到学校为你送汤或是周末不能在家陪伴你而指责过他们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但是，无论你是如何不满与嫌弃，父母依旧是如此爱你——一个哑巴父亲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381780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第一次进幼儿园时拉着他的手不放、第一次学起单车时害怕他放手、第一次偷偷模仿他的笔迹在试卷上签字、第一次因为他对打来电话的男生呵斥而跟他吵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    ……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曾经的那个“甜蜜的负担”已经长大，大手拉小手的场景还犹然记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400" y="1343160"/>
            <a:ext cx="4775040" cy="5472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89440" y="1343160"/>
            <a:ext cx="4248360" cy="5400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们长大了，爸爸老了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0" t="0" r="0" b="-26"/>
          <a:stretch/>
        </p:blipFill>
        <p:spPr>
          <a:xfrm>
            <a:off x="0" y="1463760"/>
            <a:ext cx="9144000" cy="53942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4465800" cy="2376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</a:rPr>
              <a:t>我们所有的心事，往往都会告诉母亲，却常常止于父亲。我们默默感受父亲的温度，心怀感恩却欲言又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770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微软雅黑"/>
              </a:rPr>
              <a:t>爱要及时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7848360" cy="4969080"/>
          </a:xfrm>
          <a:prstGeom prst="rect">
            <a:avLst/>
          </a:prstGeom>
          <a:solidFill>
            <a:srgbClr val="ffffcc"/>
          </a:solidFill>
          <a:ln w="9360">
            <a:solidFill>
              <a:srgbClr val="66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仿宋_GB2312"/>
              </a:rPr>
              <a:t>算一算你和父母在一起的时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父母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生下你，在你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1-1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，你和父母几乎天天见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-2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，在外地读书，每年回去见父母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1-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以后在外面打拼，半年才回一次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成家立业，父母已经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了，自己工作太忙，要陪孩子，要应酬客户，只有在节日才回家看看父母，一年大约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3-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    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在父母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前，和你在一起的时间是非常有限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所以，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</a:rPr>
              <a:t>爱要及时，尽孝要及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长大了要为父母做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件事 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定期带父母去做体检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父母的零花钱不能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帮父母完成年轻时未完成的梦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陪父母重游故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与父母一起拜访他们的朋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经常给父母拍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跟父亲做交心的沟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带父母去旅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771640" y="733320"/>
            <a:ext cx="5472360" cy="4241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629080" y="733320"/>
            <a:ext cx="5832360" cy="437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987640" y="5300640"/>
            <a:ext cx="51865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80"/>
                </a:solidFill>
                <a:latin typeface="方正姚体"/>
              </a:rPr>
              <a:t>父亲，就是永远爱你的、</a:t>
            </a:r>
            <a:endParaRPr b="1" lang="en-US" sz="1800" spc="-1" strike="noStrike">
              <a:ln w="0">
                <a:noFill/>
              </a:ln>
              <a:solidFill>
                <a:srgbClr val="000080"/>
              </a:solidFill>
              <a:latin typeface="方正姚体"/>
              <a:ea typeface="方正姚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80"/>
                </a:solidFill>
                <a:latin typeface="方正姚体"/>
              </a:rPr>
              <a:t>值得信赖的、值得尊敬的好人！</a:t>
            </a:r>
            <a:endParaRPr b="1" lang="en-US" sz="1800" spc="-1" strike="noStrike">
              <a:ln w="0">
                <a:noFill/>
              </a:ln>
              <a:solidFill>
                <a:srgbClr val="000080"/>
              </a:solidFill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317520" y="0"/>
            <a:ext cx="9747360" cy="7153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87280" y="3715920"/>
            <a:ext cx="7560000" cy="273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今年的父亲节在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日，虽然已经过去，但作为子女的我们，应该要让父亲感觉每天都是过父亲节，让父母感受到我们的关心与爱！据说，选定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月过父亲节是因为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月的阳光是一年之中最炽热的，象征着父亲给予子女那火热的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60360" y="53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学会付出，学会承担责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84360" y="1197000"/>
            <a:ext cx="6408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爱父母不仅仅在于说，更在于落实到你的每个行动中，父母最希望看到你健康成长，学有所成，作为子女的你能否为了父母的心愿而不断努力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龄在不断增长，意味着肩上的责任也在不断增加，父母在一年年变老，我们也要逐渐成长为值得父母依靠的那座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做父母非常不容易，要有经济基础，要有成熟的心智，而各位同学尚未具备这样的条件，所以，处于青春期的同学必须理智成熟地处理与异性的关系，因为这不仅仅是感情，更多的还有责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0" r="0" b="48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60280"/>
            <a:ext cx="9144000" cy="115272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47640" y="476280"/>
            <a:ext cx="62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方正姚体"/>
              </a:rPr>
              <a:t>父爱如山，感恩永远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方正姚体"/>
              <a:ea typeface="方正姚体"/>
            </a:endParaRPr>
          </a:p>
        </p:txBody>
      </p:sp>
      <p:sp>
        <p:nvSpPr>
          <p:cNvPr id="132" name=""/>
          <p:cNvSpPr txBox="1"/>
          <p:nvPr/>
        </p:nvSpPr>
        <p:spPr>
          <a:xfrm rot="540000">
            <a:off x="1187280" y="2155680"/>
            <a:ext cx="6963120" cy="30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你知道父亲节是如何来的吗？</a:t>
            </a:r>
            <a:endParaRPr b="1" lang="en-US" sz="1800" spc="-1" strike="noStrike">
              <a:ln w="9360">
                <a:solidFill>
                  <a:srgbClr val="99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103680" y="1080"/>
            <a:ext cx="9247320" cy="681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界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父亲节，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9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诞生在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90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华盛顿一位叫布鲁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德的夫人，在庆贺母亲节的时候突然产生了一个念头：既然有母亲节，为什么不能有个父亲节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德夫人和他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弟弟早年丧母，他们由慈爱的父亲一手抚养大的。许多年过去了，姐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每逢父亲的生辰忌日，总会回想起父亲含辛茹苦养家的情景。在拉斯马斯博士的支持下，她提笔给州政府写了一封言辞恳切的信，呼吁建立父亲节，并建议将节日定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她父亲生日这天。州政府采纳了她的建议，仓促间将父亲节定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，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90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星期日。翌年，多德夫人所在的斯坡堪市正式庆祝这一节日，市长宣布了父亲节的文告，定这天为全州纪念日。以后，其他州也庆贺父亲节。在父亲节这天，人们选择特定的鲜花来表示对父亲的敬意。人们采纳了多德夫人伯建议，佩戴红玫瑰向健在的父亲们表示爱戴，佩戴白玫瑰对故去的父亲表示悼念。后来在温哥华，人们选择了佩戴白丁香，宾夕法尼亚人用蒲公英向父亲表示致意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0240" y="1413000"/>
            <a:ext cx="9140760" cy="5445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708360" y="5516640"/>
            <a:ext cx="4103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笨笨粗粗的手，很温柔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160" y="1343160"/>
            <a:ext cx="9107280" cy="5445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03280" y="1484280"/>
            <a:ext cx="626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手拉小手，迈出第一步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40" y="1052640"/>
            <a:ext cx="9109080" cy="5833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987640" y="1268280"/>
            <a:ext cx="568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爸爸有力的双臂，比秋千舒服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30240" y="1082520"/>
            <a:ext cx="9212400" cy="5776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042920" y="5877000"/>
            <a:ext cx="700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爸爸有力的双手，带我飞得更高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6360" y="1317600"/>
            <a:ext cx="9001440" cy="5452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95280" y="1484280"/>
            <a:ext cx="468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只要爸爸在，我就不害怕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0T08:18:57Z</dcterms:created>
  <dc:creator>Administrator</dc:creator>
  <dc:description/>
  <dc:language>en-US</dc:language>
  <cp:lastModifiedBy/>
  <dcterms:modified xsi:type="dcterms:W3CDTF">2013-06-10T14:04:1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