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chimes.wav" ContentType="audio/x-wav"/>
  <Override PartName="/ppt/media/image14.png" ContentType="image/png"/>
  <Override PartName="/ppt/media/image13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91CF-8DA5-4C78-9403-235D432D2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0285-9EE5-4068-8C72-F9F66678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80E4-0221-4855-8E47-945531852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749C-2EA6-4619-8E8A-EB8DC7D78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880E-C5B9-4C4E-8E51-0188BF55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3CA3-4111-4B49-9AF3-5C133D17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FFEB-8619-4A2F-9251-F3B5D8C7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BB39-54BD-4A75-9E5F-A946A3D6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BB6F-26D8-4570-BCDF-81C8DDC9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F543-9AD8-40C3-B067-A4894FE0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C72E-6821-4BF5-9706-26AEB84F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1275-BDCE-4233-8B57-7DF1DC12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5506-14FA-4B76-9076-B7AD7C280E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image" Target="../media/image1.jpe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3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4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3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7.png"/><Relationship Id="rId4" Type="http://schemas.openxmlformats.org/officeDocument/2006/relationships/slide" Target="slide8.xml"/><Relationship Id="rId5" Type="http://schemas.openxmlformats.org/officeDocument/2006/relationships/image" Target="../media/image7.png"/><Relationship Id="rId6" Type="http://schemas.openxmlformats.org/officeDocument/2006/relationships/slide" Target="slide9.xm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7.png"/><Relationship Id="rId4" Type="http://schemas.openxmlformats.org/officeDocument/2006/relationships/slide" Target="slide8.xml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739152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2209680" y="1600200"/>
            <a:ext cx="4648320" cy="1295280"/>
            <a:chOff x="2209680" y="1600200"/>
            <a:chExt cx="4648320" cy="1295280"/>
          </a:xfrm>
        </p:grpSpPr>
        <p:sp>
          <p:nvSpPr>
            <p:cNvPr id="43" name=""/>
            <p:cNvSpPr/>
            <p:nvPr/>
          </p:nvSpPr>
          <p:spPr>
            <a:xfrm>
              <a:off x="2209680" y="1600200"/>
              <a:ext cx="4648320" cy="129528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201840" y="1600200"/>
              <a:ext cx="2695320" cy="1099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cc3300"/>
                  </a:solidFill>
                  <a:latin typeface="Times New Roman"/>
                  <a:ea typeface="黑体"/>
                </a:rPr>
                <a:t>语文园地八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715000" y="6324480"/>
            <a:ext cx="327672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30992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438280" y="228600"/>
            <a:ext cx="3124080" cy="1752480"/>
            <a:chOff x="2438280" y="228600"/>
            <a:chExt cx="3124080" cy="1752480"/>
          </a:xfrm>
        </p:grpSpPr>
        <p:graphicFrame>
          <p:nvGraphicFramePr>
            <p:cNvPr id="127" name=""/>
            <p:cNvGraphicFramePr/>
            <p:nvPr/>
          </p:nvGraphicFramePr>
          <p:xfrm>
            <a:off x="2438280" y="228600"/>
            <a:ext cx="1603440" cy="175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228600"/>
                      <a:ext cx="1603440" cy="175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" name=""/>
            <p:cNvGraphicFramePr/>
            <p:nvPr/>
          </p:nvGraphicFramePr>
          <p:xfrm>
            <a:off x="4008600" y="228600"/>
            <a:ext cx="1553760" cy="1752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008600" y="228600"/>
                      <a:ext cx="1553760" cy="175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1" name=""/>
          <p:cNvGrpSpPr/>
          <p:nvPr/>
        </p:nvGrpSpPr>
        <p:grpSpPr>
          <a:xfrm>
            <a:off x="2438280" y="2362320"/>
            <a:ext cx="3124080" cy="1904760"/>
            <a:chOff x="2438280" y="2362320"/>
            <a:chExt cx="3124080" cy="1904760"/>
          </a:xfrm>
        </p:grpSpPr>
        <p:graphicFrame>
          <p:nvGraphicFramePr>
            <p:cNvPr id="132" name=""/>
            <p:cNvGraphicFramePr/>
            <p:nvPr/>
          </p:nvGraphicFramePr>
          <p:xfrm>
            <a:off x="2438280" y="2362320"/>
            <a:ext cx="1579680" cy="1904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438280" y="2362320"/>
                      <a:ext cx="1579680" cy="190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4" name=""/>
            <p:cNvGraphicFramePr/>
            <p:nvPr/>
          </p:nvGraphicFramePr>
          <p:xfrm>
            <a:off x="4011120" y="2362320"/>
            <a:ext cx="1551240" cy="1904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011120" y="2362320"/>
                      <a:ext cx="1551240" cy="190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6" name=""/>
          <p:cNvSpPr/>
          <p:nvPr/>
        </p:nvSpPr>
        <p:spPr>
          <a:xfrm>
            <a:off x="6204240" y="45720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（秋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80560" y="26668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（样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9"/>
          <a:stretch/>
        </p:blipFill>
        <p:spPr>
          <a:xfrm>
            <a:off x="0" y="0"/>
            <a:ext cx="23623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06320" y="946080"/>
            <a:ext cx="740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imes New Roman"/>
                <a:ea typeface="黑体"/>
              </a:rPr>
              <a:t>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imes New Roman"/>
                <a:ea typeface="黑体"/>
              </a:rPr>
              <a:t>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imes New Roman"/>
                <a:ea typeface="黑体"/>
              </a:rPr>
              <a:t>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438280" y="4572000"/>
            <a:ext cx="3200400" cy="1905120"/>
            <a:chOff x="2438280" y="4572000"/>
            <a:chExt cx="3200400" cy="1905120"/>
          </a:xfrm>
        </p:grpSpPr>
        <p:graphicFrame>
          <p:nvGraphicFramePr>
            <p:cNvPr id="141" name=""/>
            <p:cNvGraphicFramePr/>
            <p:nvPr/>
          </p:nvGraphicFramePr>
          <p:xfrm>
            <a:off x="2438280" y="4572000"/>
            <a:ext cx="1600200" cy="19051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438280" y="4572000"/>
                      <a:ext cx="1600200" cy="190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3" name=""/>
            <p:cNvGraphicFramePr/>
            <p:nvPr/>
          </p:nvGraphicFramePr>
          <p:xfrm>
            <a:off x="4038480" y="4572000"/>
            <a:ext cx="1600200" cy="19051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038480" y="4572000"/>
                      <a:ext cx="1600200" cy="190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5" name=""/>
          <p:cNvSpPr/>
          <p:nvPr/>
        </p:nvSpPr>
        <p:spPr>
          <a:xfrm>
            <a:off x="6356880" y="480060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（鸣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4"/>
          <a:stretch/>
        </p:blipFill>
        <p:spPr>
          <a:xfrm>
            <a:off x="304920" y="6327720"/>
            <a:ext cx="533160" cy="530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5"/>
          <a:stretch/>
        </p:blipFill>
        <p:spPr>
          <a:xfrm>
            <a:off x="914400" y="6327720"/>
            <a:ext cx="533520" cy="530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6"/>
          <a:stretch/>
        </p:blipFill>
        <p:spPr>
          <a:xfrm>
            <a:off x="1523880" y="6327720"/>
            <a:ext cx="533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762120" y="4648320"/>
          <a:ext cx="2197080" cy="161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648320"/>
                    <a:ext cx="2197080" cy="16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2895480" y="609480"/>
            <a:ext cx="428004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小朋友，真能干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认字办法想得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加一加，减一减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猜一猜，画一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动动手，动动脑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快快乐乐来学习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76320" y="76320"/>
            <a:ext cx="990360" cy="6705000"/>
            <a:chOff x="76320" y="76320"/>
            <a:chExt cx="990360" cy="6705000"/>
          </a:xfrm>
        </p:grpSpPr>
        <p:pic>
          <p:nvPicPr>
            <p:cNvPr id="153" name="" descr=""/>
            <p:cNvPicPr/>
            <p:nvPr/>
          </p:nvPicPr>
          <p:blipFill>
            <a:blip r:embed="rId3"/>
            <a:stretch/>
          </p:blipFill>
          <p:spPr>
            <a:xfrm>
              <a:off x="152280" y="76320"/>
              <a:ext cx="8384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4"/>
            <a:stretch/>
          </p:blipFill>
          <p:spPr>
            <a:xfrm>
              <a:off x="76320" y="3429000"/>
              <a:ext cx="914400" cy="91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5"/>
            <a:stretch/>
          </p:blipFill>
          <p:spPr>
            <a:xfrm>
              <a:off x="152280" y="1143000"/>
              <a:ext cx="83844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6"/>
            <a:stretch/>
          </p:blipFill>
          <p:spPr>
            <a:xfrm>
              <a:off x="76320" y="4647960"/>
              <a:ext cx="914400" cy="91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7"/>
            <a:stretch/>
          </p:blipFill>
          <p:spPr>
            <a:xfrm>
              <a:off x="152280" y="2286000"/>
              <a:ext cx="83844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8"/>
            <a:stretch/>
          </p:blipFill>
          <p:spPr>
            <a:xfrm>
              <a:off x="76320" y="5790960"/>
              <a:ext cx="990360" cy="9903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59" name=""/>
          <p:cNvGraphicFramePr/>
          <p:nvPr/>
        </p:nvGraphicFramePr>
        <p:xfrm>
          <a:off x="7851600" y="0"/>
          <a:ext cx="1292400" cy="1447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851600" y="0"/>
                    <a:ext cx="12924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1" name="" descr=""/>
          <p:cNvPicPr/>
          <p:nvPr/>
        </p:nvPicPr>
        <p:blipFill>
          <a:blip r:embed="rId11"/>
          <a:stretch/>
        </p:blipFill>
        <p:spPr>
          <a:xfrm>
            <a:off x="1143000" y="6172200"/>
            <a:ext cx="655308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6629400" y="2666880"/>
          <a:ext cx="210816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2666880"/>
                    <a:ext cx="210816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851040" y="762120"/>
          <a:ext cx="2197080" cy="161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1040" y="762120"/>
                    <a:ext cx="2197080" cy="16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2057400" y="3200400"/>
            <a:ext cx="6553080" cy="324000"/>
          </a:xfrm>
          <a:prstGeom prst="rect">
            <a:avLst/>
          </a:prstGeom>
          <a:ln w="0">
            <a:noFill/>
          </a:ln>
        </p:spPr>
      </p:pic>
      <p:grpSp>
        <p:nvGrpSpPr>
          <p:cNvPr id="167" name=""/>
          <p:cNvGrpSpPr/>
          <p:nvPr/>
        </p:nvGrpSpPr>
        <p:grpSpPr>
          <a:xfrm>
            <a:off x="76320" y="76320"/>
            <a:ext cx="990360" cy="6705000"/>
            <a:chOff x="76320" y="76320"/>
            <a:chExt cx="990360" cy="6705000"/>
          </a:xfrm>
        </p:grpSpPr>
        <p:pic>
          <p:nvPicPr>
            <p:cNvPr id="168" name="" descr=""/>
            <p:cNvPicPr/>
            <p:nvPr/>
          </p:nvPicPr>
          <p:blipFill>
            <a:blip r:embed="rId6"/>
            <a:stretch/>
          </p:blipFill>
          <p:spPr>
            <a:xfrm>
              <a:off x="152280" y="76320"/>
              <a:ext cx="8384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7"/>
            <a:stretch/>
          </p:blipFill>
          <p:spPr>
            <a:xfrm>
              <a:off x="76320" y="3429000"/>
              <a:ext cx="914400" cy="91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8"/>
            <a:stretch/>
          </p:blipFill>
          <p:spPr>
            <a:xfrm>
              <a:off x="152280" y="1143000"/>
              <a:ext cx="83844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9"/>
            <a:stretch/>
          </p:blipFill>
          <p:spPr>
            <a:xfrm>
              <a:off x="76320" y="4647960"/>
              <a:ext cx="914400" cy="91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10"/>
            <a:stretch/>
          </p:blipFill>
          <p:spPr>
            <a:xfrm>
              <a:off x="152280" y="2286000"/>
              <a:ext cx="83844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11"/>
            <a:stretch/>
          </p:blipFill>
          <p:spPr>
            <a:xfrm>
              <a:off x="76320" y="5790960"/>
              <a:ext cx="990360" cy="99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"/>
          <p:cNvSpPr/>
          <p:nvPr/>
        </p:nvSpPr>
        <p:spPr>
          <a:xfrm>
            <a:off x="3785040" y="161460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66"/>
                </a:solidFill>
                <a:latin typeface="Times New Roman"/>
              </a:rPr>
              <a:t>日积月累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6232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06320" y="946080"/>
            <a:ext cx="740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imes New Roman"/>
                <a:ea typeface="黑体"/>
              </a:rPr>
              <a:t>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imes New Roman"/>
                <a:ea typeface="黑体"/>
              </a:rPr>
              <a:t>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imes New Roman"/>
                <a:ea typeface="黑体"/>
              </a:rPr>
              <a:t>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38088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请    情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9000" y="472428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跳    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83080" y="17524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完    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3080" y="31240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很    得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6232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818280" y="946080"/>
            <a:ext cx="515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imes New Roman"/>
                <a:ea typeface="黑体"/>
              </a:rPr>
              <a:t>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imes New Roman"/>
                <a:ea typeface="黑体"/>
              </a:rPr>
              <a:t>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imes New Roman"/>
                <a:ea typeface="黑体"/>
              </a:rPr>
              <a:t>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32080" y="-38160"/>
            <a:ext cx="6659640" cy="62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请   情       完    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（ ）客     （ ）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事（ ）     （ ）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很   得      跳    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（ ）多      （ ）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（ ）到      （ ）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89440" y="129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46640" y="2133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32640" y="129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32640" y="2133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60840" y="46483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60840" y="54864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32640" y="46483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32640" y="54864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362320" y="2514600"/>
            <a:ext cx="5790960" cy="1557000"/>
          </a:xfrm>
          <a:prstGeom prst="rect">
            <a:avLst/>
          </a:prstGeom>
          <a:gradFill rotWithShape="0">
            <a:gsLst>
              <a:gs pos="0">
                <a:srgbClr val="ddff99"/>
              </a:gs>
              <a:gs pos="100000">
                <a:srgbClr val="bddb8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再见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-304920" y="-685800"/>
            <a:ext cx="2210040" cy="21956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143000" y="1295280"/>
            <a:ext cx="1828800" cy="1817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5943600" y="-152280"/>
            <a:ext cx="1676520" cy="1665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1447920" y="5105520"/>
            <a:ext cx="1523880" cy="15145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304920" y="4791240"/>
            <a:ext cx="1218960" cy="12110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7086600" y="-762120"/>
            <a:ext cx="281952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6629400" y="2666880"/>
          <a:ext cx="210816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2666880"/>
                    <a:ext cx="210816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851040" y="762120"/>
          <a:ext cx="2197080" cy="161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1040" y="762120"/>
                    <a:ext cx="2197080" cy="16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2057400" y="3200400"/>
            <a:ext cx="6553080" cy="32400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76320" y="76320"/>
            <a:ext cx="990360" cy="6705000"/>
            <a:chOff x="76320" y="76320"/>
            <a:chExt cx="990360" cy="6705000"/>
          </a:xfrm>
        </p:grpSpPr>
        <p:pic>
          <p:nvPicPr>
            <p:cNvPr id="52" name="" descr=""/>
            <p:cNvPicPr/>
            <p:nvPr/>
          </p:nvPicPr>
          <p:blipFill>
            <a:blip r:embed="rId6"/>
            <a:stretch/>
          </p:blipFill>
          <p:spPr>
            <a:xfrm>
              <a:off x="152280" y="76320"/>
              <a:ext cx="8384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7"/>
            <a:stretch/>
          </p:blipFill>
          <p:spPr>
            <a:xfrm>
              <a:off x="76320" y="3429000"/>
              <a:ext cx="914400" cy="91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8"/>
            <a:stretch/>
          </p:blipFill>
          <p:spPr>
            <a:xfrm>
              <a:off x="152280" y="1143000"/>
              <a:ext cx="83844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9"/>
            <a:stretch/>
          </p:blipFill>
          <p:spPr>
            <a:xfrm>
              <a:off x="76320" y="4647960"/>
              <a:ext cx="914400" cy="91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10"/>
            <a:stretch/>
          </p:blipFill>
          <p:spPr>
            <a:xfrm>
              <a:off x="152280" y="2286000"/>
              <a:ext cx="83844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11"/>
            <a:stretch/>
          </p:blipFill>
          <p:spPr>
            <a:xfrm>
              <a:off x="76320" y="5790960"/>
              <a:ext cx="990360" cy="99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/>
          <p:cNvSpPr/>
          <p:nvPr/>
        </p:nvSpPr>
        <p:spPr>
          <a:xfrm>
            <a:off x="3785040" y="161460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66"/>
                </a:solidFill>
                <a:latin typeface="Times New Roman"/>
              </a:rPr>
              <a:t>我的发现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623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4920" y="1125360"/>
            <a:ext cx="210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比一比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看谁先发现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614520"/>
            <a:ext cx="609588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千口舌， 舌甘甜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土里埋， 木帛棉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人门闪， 马门闯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心入门， 闷得慌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合手拿， 分手掰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人失足， 跌下台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99400" y="209520"/>
            <a:ext cx="91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宋体"/>
              </a:rPr>
              <a:t>ɡā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54040" y="1192320"/>
            <a:ext cx="271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宋体"/>
              </a:rPr>
              <a:t>mái</a:t>
            </a:r>
            <a:r>
              <a:rPr b="1" lang="en-US" sz="3200" spc="-1" strike="noStrike">
                <a:solidFill>
                  <a:srgbClr val="cc33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宋体"/>
              </a:rPr>
              <a:t>　  　</a:t>
            </a:r>
            <a:r>
              <a:rPr b="0" lang="en-US" sz="3200" spc="-1" strike="noStrike">
                <a:solidFill>
                  <a:srgbClr val="cc3300"/>
                </a:solidFill>
                <a:latin typeface="宋体"/>
              </a:rPr>
              <a:t>b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56800" y="2190600"/>
            <a:ext cx="160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宋体"/>
              </a:rPr>
              <a:t>chuǎn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23360" y="4248000"/>
            <a:ext cx="7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宋体"/>
              </a:rPr>
              <a:t>bā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503320" y="5257800"/>
            <a:ext cx="76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宋体"/>
              </a:rPr>
              <a:t>di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623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123192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比一比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看谁先发现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614520"/>
            <a:ext cx="609588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千口</a:t>
            </a:r>
            <a:r>
              <a:rPr b="0" lang="zh-CN" sz="4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舌</a:t>
            </a:r>
            <a:r>
              <a:rPr b="0" lang="zh-CN" sz="4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， 舌甘</a:t>
            </a:r>
            <a:r>
              <a:rPr b="0" lang="zh-CN" sz="4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甜</a:t>
            </a:r>
            <a:r>
              <a:rPr b="0" lang="zh-CN" sz="4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土里</a:t>
            </a:r>
            <a:r>
              <a:rPr b="0" lang="zh-CN" sz="4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埋</a:t>
            </a:r>
            <a:r>
              <a:rPr b="0" lang="zh-CN" sz="4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， 木帛</a:t>
            </a:r>
            <a:r>
              <a:rPr b="0" lang="zh-CN" sz="4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棉</a:t>
            </a:r>
            <a:r>
              <a:rPr b="0" lang="zh-CN" sz="4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人门</a:t>
            </a:r>
            <a:r>
              <a:rPr b="0" lang="zh-CN" sz="4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闪</a:t>
            </a:r>
            <a:r>
              <a:rPr b="0" lang="zh-CN" sz="4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， 马门</a:t>
            </a:r>
            <a:r>
              <a:rPr b="0" lang="zh-CN" sz="4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闯</a:t>
            </a:r>
            <a:r>
              <a:rPr b="0" lang="zh-CN" sz="4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心入门， </a:t>
            </a:r>
            <a:r>
              <a:rPr b="0" lang="zh-CN" sz="4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闷</a:t>
            </a:r>
            <a:r>
              <a:rPr b="0" lang="zh-CN" sz="4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得慌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合手</a:t>
            </a:r>
            <a:r>
              <a:rPr b="0" lang="zh-CN" sz="4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拿</a:t>
            </a:r>
            <a:r>
              <a:rPr b="0" lang="zh-CN" sz="4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， 分手</a:t>
            </a:r>
            <a:r>
              <a:rPr b="0" lang="zh-CN" sz="4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掰</a:t>
            </a:r>
            <a:r>
              <a:rPr b="0" lang="zh-CN" sz="4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人失足， </a:t>
            </a:r>
            <a:r>
              <a:rPr b="0" lang="zh-CN" sz="4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跌</a:t>
            </a:r>
            <a:r>
              <a:rPr b="0" lang="zh-CN" sz="4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下台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99400" y="209520"/>
            <a:ext cx="91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宋体"/>
              </a:rPr>
              <a:t>ɡā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54760" y="1192320"/>
            <a:ext cx="271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宋体"/>
              </a:rPr>
              <a:t>mái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　  　</a:t>
            </a:r>
            <a:r>
              <a:rPr b="0" lang="en-US" sz="3200" spc="-1" strike="noStrike">
                <a:solidFill>
                  <a:srgbClr val="000066"/>
                </a:solidFill>
                <a:latin typeface="宋体"/>
              </a:rPr>
              <a:t>b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6800" y="2190600"/>
            <a:ext cx="160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宋体"/>
              </a:rPr>
              <a:t>chuǎn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23360" y="4248000"/>
            <a:ext cx="7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宋体"/>
              </a:rPr>
              <a:t>bā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03320" y="5257800"/>
            <a:ext cx="76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宋体"/>
              </a:rPr>
              <a:t>di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6232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18280" y="946080"/>
            <a:ext cx="515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imes New Roman"/>
                <a:ea typeface="黑体"/>
              </a:rPr>
              <a:t>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imes New Roman"/>
                <a:ea typeface="黑体"/>
              </a:rPr>
              <a:t>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imes New Roman"/>
                <a:ea typeface="黑体"/>
              </a:rPr>
              <a:t>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45120" y="213372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跌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3280" y="213372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甘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58920" y="214776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埋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54200" y="214776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闯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3520" y="213372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掰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47640" y="213372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跌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61440" y="214776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埋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56720" y="214776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闯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6040" y="213372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掰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678480" y="1355760"/>
            <a:ext cx="1450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加一加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324480" y="6327720"/>
            <a:ext cx="533520" cy="530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934320" y="6327720"/>
            <a:ext cx="533160" cy="530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543800" y="6327720"/>
            <a:ext cx="533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6232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06320" y="946080"/>
            <a:ext cx="740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imes New Roman"/>
                <a:ea typeface="黑体"/>
              </a:rPr>
              <a:t>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imes New Roman"/>
                <a:ea typeface="黑体"/>
              </a:rPr>
              <a:t>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imes New Roman"/>
                <a:ea typeface="黑体"/>
              </a:rPr>
              <a:t>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971800" y="1295280"/>
            <a:ext cx="4343400" cy="5618520"/>
            <a:chOff x="2971800" y="1295280"/>
            <a:chExt cx="4343400" cy="5618520"/>
          </a:xfrm>
        </p:grpSpPr>
        <p:sp>
          <p:nvSpPr>
            <p:cNvPr id="94" name=""/>
            <p:cNvSpPr/>
            <p:nvPr/>
          </p:nvSpPr>
          <p:spPr>
            <a:xfrm>
              <a:off x="2971800" y="1295280"/>
              <a:ext cx="4343400" cy="561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袋  </a:t>
              </a:r>
              <a:r>
                <a:rPr b="1" lang="zh-CN" sz="60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衣</a:t>
              </a:r>
              <a:r>
                <a:rPr b="1" lang="zh-CN" sz="60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60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代</a:t>
              </a:r>
              <a:r>
                <a:rPr b="1" lang="zh-CN" sz="60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          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题  </a:t>
              </a:r>
              <a:r>
                <a:rPr b="1" lang="zh-CN" sz="60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是</a:t>
              </a:r>
              <a:r>
                <a:rPr b="1" lang="zh-CN" sz="60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60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页</a:t>
              </a:r>
              <a:r>
                <a:rPr b="1" lang="zh-CN" sz="60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       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张  </a:t>
              </a:r>
              <a:r>
                <a:rPr b="1" lang="zh-CN" sz="60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长</a:t>
              </a:r>
              <a:r>
                <a:rPr b="1" lang="zh-CN" sz="6000" spc="-1" strike="noStrike">
                  <a:solidFill>
                    <a:srgbClr val="000099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60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弓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3886200" y="1905120"/>
              <a:ext cx="2286000" cy="2743200"/>
              <a:chOff x="3886200" y="1905120"/>
              <a:chExt cx="2286000" cy="2743200"/>
            </a:xfrm>
          </p:grpSpPr>
          <p:sp>
            <p:nvSpPr>
              <p:cNvPr id="96" name=""/>
              <p:cNvSpPr/>
              <p:nvPr/>
            </p:nvSpPr>
            <p:spPr>
              <a:xfrm>
                <a:off x="3886200" y="1905120"/>
                <a:ext cx="685800" cy="0"/>
              </a:xfrm>
              <a:prstGeom prst="line">
                <a:avLst/>
              </a:prstGeom>
              <a:ln w="1260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886200" y="3276720"/>
                <a:ext cx="685800" cy="0"/>
              </a:xfrm>
              <a:prstGeom prst="line">
                <a:avLst/>
              </a:prstGeom>
              <a:ln w="1260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86200" y="4648320"/>
                <a:ext cx="685800" cy="0"/>
              </a:xfrm>
              <a:prstGeom prst="line">
                <a:avLst/>
              </a:prstGeom>
              <a:ln w="1260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410080" y="1905120"/>
                <a:ext cx="685800" cy="0"/>
              </a:xfrm>
              <a:prstGeom prst="line">
                <a:avLst/>
              </a:prstGeom>
              <a:ln w="1260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486400" y="3276720"/>
                <a:ext cx="685800" cy="0"/>
              </a:xfrm>
              <a:prstGeom prst="line">
                <a:avLst/>
              </a:prstGeom>
              <a:ln w="1260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410080" y="4648320"/>
                <a:ext cx="685800" cy="0"/>
              </a:xfrm>
              <a:prstGeom prst="line">
                <a:avLst/>
              </a:prstGeom>
              <a:ln w="12600">
                <a:solidFill>
                  <a:srgbClr val="00cc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04920" y="6248520"/>
            <a:ext cx="533160" cy="530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914400" y="6248520"/>
            <a:ext cx="533520" cy="530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1523880" y="6248520"/>
            <a:ext cx="533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133720" y="654120"/>
            <a:ext cx="62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月月在一起，友字最喜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742880" y="6541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185724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一点一横长，口字在中央，大口张着嘴，小口藏里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43800" y="2390760"/>
            <a:ext cx="130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23520" y="356544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一字有十口，现在没有过去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28640" y="4175280"/>
            <a:ext cx="10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古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23520" y="503856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从左看一月半，从右看十五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91920" y="5622840"/>
            <a:ext cx="10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胖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6232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06320" y="946080"/>
            <a:ext cx="740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imes New Roman"/>
                <a:ea typeface="黑体"/>
              </a:rPr>
              <a:t>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imes New Roman"/>
                <a:ea typeface="黑体"/>
              </a:rPr>
              <a:t>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imes New Roman"/>
                <a:ea typeface="黑体"/>
              </a:rPr>
              <a:t>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80880" y="6248520"/>
            <a:ext cx="533520" cy="530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990720" y="6248520"/>
            <a:ext cx="533160" cy="530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1600200" y="6248520"/>
            <a:ext cx="5335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30992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6232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06320" y="946080"/>
            <a:ext cx="740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imes New Roman"/>
                <a:ea typeface="黑体"/>
              </a:rPr>
              <a:t>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imes New Roman"/>
                <a:ea typeface="黑体"/>
              </a:rPr>
              <a:t>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imes New Roman"/>
                <a:ea typeface="黑体"/>
              </a:rPr>
              <a:t>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04920" y="6327720"/>
            <a:ext cx="533160" cy="530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914400" y="6327720"/>
            <a:ext cx="533520" cy="530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1523880" y="6327720"/>
            <a:ext cx="533520" cy="530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2362320" y="304920"/>
            <a:ext cx="67053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fd</cp:lastModifiedBy>
  <dcterms:modified xsi:type="dcterms:W3CDTF">2009-06-01T09:08:31Z</dcterms:modified>
  <cp:revision>39</cp:revision>
  <dc:subject/>
  <dc:title>PowerPoint Presentation</dc:title>
</cp:coreProperties>
</file>