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DED3-DBB8-4FD9-B4E9-BA8990C4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F060-D4BC-4897-8938-0F9C4C78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6BB0-3DDA-481E-95CE-8C5FECA7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209D-53C3-419E-8465-8D651AA0F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C1CE-CFE4-477A-835F-480BB90D2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BEF3-5EBE-4904-B971-988366ED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19D0-6AF1-4890-9A6F-9CDD3034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A244-144E-4F2B-BE4A-C9710B58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28AC-FF67-4906-B2B5-290F1888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012A-A8B5-4F2B-BDB6-9DA8BF6C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CFA8-2046-4293-B81B-A24780E5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59D6-43DA-4EC9-A82B-C312C606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DF26-63A3-4944-A92C-157CBF94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A86C-A73C-4AEE-B63D-4F04E025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1494-FC16-402B-A33B-2B69EC4D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76EE-DF2F-4A94-AA10-562B070A6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AB3E-C23B-4B87-B5E9-FB61EADFB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A07B-0E9B-46F4-AAB5-24A7A7FC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E79E-9C42-405D-B73E-2996D616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8B7E-1C33-4DB7-AD75-EAC60D98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B154-FD99-4BA2-A5F8-175EDA2F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177C-18B0-46D3-BA0D-6E4C8C24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8C43-1935-4031-A0DE-815CA4EC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4810-C813-4841-9DA4-EA6A2FFF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E022-E13B-44A1-9BD0-A32C760AAB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243D-00E4-4D91-9664-AF9F9FB203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9480" y="152388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</a:rPr>
              <a:t>大脑袋，圆肚子，细尾巴，黑身子，变变变，长出四条腿，去了细尾巴。吃饱了，呱呱呱，抓害虫顶呱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2280" y="4952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池塘里有一群小蝌蚪，大大的脑袋，黑灰色的身子，甩着长长的尾巴，快活地游来游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52280" y="495288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池塘里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一群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小蝌蚪，大大的脑袋，黑灰色的身子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甩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长长的尾巴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快活地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游来游去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2209680"/>
            <a:ext cx="64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自由读</a:t>
            </a:r>
            <a:r>
              <a:rPr b="1" lang="zh-CN" sz="4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2—6</a:t>
            </a:r>
            <a:r>
              <a:rPr b="1" lang="zh-CN" sz="4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自然段，用“</a:t>
            </a: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～ ～ ～ ～ ～ ～</a:t>
            </a:r>
            <a:r>
              <a:rPr b="1" lang="zh-CN" sz="4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”画出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描写小蝌蚪变化的句子</a:t>
            </a:r>
            <a:r>
              <a:rPr b="1" lang="zh-CN" sz="4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" y="2286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小蝌蚪游哇游，过了几天，长出了两条后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5238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小蝌蚪游哇游，过了几天，长出两条前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27432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小蝌蚪游哇游，过了几天，尾巴变短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36576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他们后腿一蹬，向前一跳，蹦到了荷叶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知什么时候，小青蛙的尾巴已经不见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9142200" cy="4419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-73080" y="4343400"/>
            <a:ext cx="92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蝌蚪游哇游，过了几天，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长出两条后腿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他们看见鲤鱼妈妈在教小鲤鱼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捕食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就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迎上去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问：“鲤鱼阿姨，我们的妈妈在哪里？“鲤鱼妈妈说：”你们的妈妈四条腿，宽嘴巴。你们到那边去找吧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59385" b="601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486400" y="914400"/>
            <a:ext cx="3352680" cy="2849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鲤鱼阿姨，我们的妈妈在哪里？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你们的妈妈四条腿，宽嘴巴。你们到那边去找吧！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9144000" cy="4191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4267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蝌蚪游哇游，过了几天，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长出两条前腿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他们看见一只乌龟摆动着四条腿在水里游，连忙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追上去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叫着：“妈妈，妈妈！”乌龟笑着说：“我不是你们的妈妈。你们的妈妈头顶上有两只大眼睛，披着绿衣裳。你们到那边去找吧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914400"/>
            <a:ext cx="4267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妈妈，妈妈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我不是你们的妈妈。你们的妈妈头顶上有两只大眼睛，披着绿衣裳。你们到那边去找吧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715000" y="5410080"/>
            <a:ext cx="26668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楷体_GB2312"/>
              </a:rPr>
              <a:t>追</a:t>
            </a:r>
            <a:r>
              <a:rPr b="1" lang="zh-CN" sz="6000" spc="-1" strike="noStrike">
                <a:solidFill>
                  <a:srgbClr val="808080"/>
                </a:solidFill>
                <a:latin typeface="Arial"/>
                <a:ea typeface="楷体_GB2312"/>
              </a:rPr>
              <a:t>上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5410080"/>
            <a:ext cx="274320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楷体_GB2312"/>
              </a:rPr>
              <a:t>迎</a:t>
            </a:r>
            <a:r>
              <a:rPr b="1" lang="zh-CN" sz="6000" spc="-1" strike="noStrike">
                <a:solidFill>
                  <a:srgbClr val="808080"/>
                </a:solidFill>
                <a:latin typeface="Arial"/>
                <a:ea typeface="楷体_GB2312"/>
              </a:rPr>
              <a:t>上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9144000" cy="4649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6320" y="4572000"/>
            <a:ext cx="899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蝌蚪游哇游，过了几天，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尾巴变短了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他们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游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荷花旁边，看见荷叶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蹲着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只大青蛙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披着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碧绿的衣裳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露着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雪白的肚皮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鼓着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对大眼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5" name="" descr=""/>
            <p:cNvPicPr/>
            <p:nvPr/>
          </p:nvPicPr>
          <p:blipFill>
            <a:blip r:embed="rId1">
              <a:lum bright="60000"/>
            </a:blip>
            <a:srcRect l="3335" t="12669" r="3335" b="733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914400" y="1143000"/>
              <a:ext cx="7238880" cy="3519720"/>
            </a:xfrm>
            <a:prstGeom prst="rect">
              <a:avLst/>
            </a:prstGeom>
            <a:solidFill>
              <a:srgbClr val="ffff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                         </a:t>
              </a:r>
              <a:r>
                <a:rPr b="0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寻人启示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0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我是小蝌蚪</a:t>
              </a:r>
              <a:r>
                <a:rPr b="0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</a:t>
              </a:r>
              <a:r>
                <a:rPr b="0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我非常想念我的妈妈</a:t>
              </a:r>
              <a:r>
                <a:rPr b="0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</a:t>
              </a:r>
              <a:r>
                <a:rPr b="0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可我不知道我的妈妈是谁</a:t>
              </a:r>
              <a:r>
                <a:rPr b="0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?</a:t>
              </a:r>
              <a:r>
                <a:rPr b="0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它在哪里</a:t>
              </a:r>
              <a:r>
                <a:rPr b="0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?</a:t>
              </a:r>
              <a:r>
                <a:rPr b="0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听说一</a:t>
              </a:r>
              <a:r>
                <a:rPr b="0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</a:t>
              </a:r>
              <a:r>
                <a:rPr b="0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r>
                <a:rPr b="0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)</a:t>
              </a:r>
              <a:r>
                <a:rPr b="0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班的小朋友是最聪明的</a:t>
              </a:r>
              <a:r>
                <a:rPr b="0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</a:t>
              </a:r>
              <a:r>
                <a:rPr b="0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请你们帮我找找妈妈吧</a:t>
              </a:r>
              <a:r>
                <a:rPr b="0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!</a:t>
              </a:r>
              <a:r>
                <a:rPr b="0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你们愿意帮这个忙吗</a:t>
              </a:r>
              <a:r>
                <a:rPr b="0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 txBox="1"/>
          <p:nvPr/>
        </p:nvSpPr>
        <p:spPr>
          <a:xfrm>
            <a:off x="304920" y="304920"/>
            <a:ext cx="1828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创设情境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9144000" cy="46497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6320" y="4572000"/>
            <a:ext cx="899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蝌蚪游哇游，过了几天，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尾巴变短了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他们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游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荷花旁边，看见荷叶上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蹲着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只大青蛙，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披着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碧绿的衣裳，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露着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雪白的肚皮，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鼓着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对大眼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9144000" cy="4649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6320" y="4572000"/>
            <a:ext cx="89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蝌蚪游哇游，过了几天，尾巴变短了。他们游到荷花旁边，看见荷叶上蹲着一只大青蛙，披着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碧绿的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衣裳，露着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雪白的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肚皮，鼓着一对大眼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421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6320" y="44197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蝌蚪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游过去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叫着：“妈妈，妈妈！”青蛙妈妈低头一看，笑着说：“好孩子，你们已经长成青蛙，快跳上来吧！”他们后腿一蹬，向前一跳，蹦到了荷叶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421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6320" y="44197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蝌蚪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游过去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叫着：“妈妈，妈妈！”青蛙妈妈低头一看，笑着说：“好孩子，你们已经长成青蛙，快跳上来吧！”他们后腿一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蹬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向前一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跳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蹦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了荷叶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59385" b="601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257800" y="-225360"/>
            <a:ext cx="3886200" cy="5020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妈妈，妈妈！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好孩子，你们已经长成青蛙了，快跳上来吧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他们后腿一蹬，向前一跳，蹦到了荷叶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600200" y="1905120"/>
            <a:ext cx="66294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你们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已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长成青蛙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小青蛙的尾巴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已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不见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已经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25520" y="990360"/>
            <a:ext cx="871848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小蝌蚪长着大大的脑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黑灰色的身子，甩着长长的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巴。过了几天长出两条（        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又过了几天，长出两条（        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再过几天，（        ）变短了，渐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地，（        ）已经不见了，小蝌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长成了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19920" y="228600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后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95880" y="289548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前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35053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尾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41148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尾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72428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青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0" t="0" r="59385" b="601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rcRect l="0" t="39625" r="62310" b="40780"/>
          <a:stretch/>
        </p:blipFill>
        <p:spPr>
          <a:xfrm>
            <a:off x="0" y="0"/>
            <a:ext cx="1828800" cy="17524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rcRect l="41848" t="51379" r="37231" b="29357"/>
          <a:stretch/>
        </p:blipFill>
        <p:spPr>
          <a:xfrm>
            <a:off x="1828800" y="1219320"/>
            <a:ext cx="1789200" cy="1752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rcRect l="0" t="51762" r="65543" b="25881"/>
          <a:stretch/>
        </p:blipFill>
        <p:spPr>
          <a:xfrm>
            <a:off x="3581280" y="2438280"/>
            <a:ext cx="1816200" cy="1828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rcRect l="9844" t="68307" r="49541" b="8644"/>
          <a:stretch/>
        </p:blipFill>
        <p:spPr>
          <a:xfrm>
            <a:off x="5410080" y="3657600"/>
            <a:ext cx="1828800" cy="1717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6"/>
          <a:srcRect l="9385" t="68067" r="57390" b="7504"/>
          <a:stretch/>
        </p:blipFill>
        <p:spPr>
          <a:xfrm>
            <a:off x="7238880" y="4876920"/>
            <a:ext cx="1905120" cy="1981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733920" y="609480"/>
            <a:ext cx="5715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你能用自己的话说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蝌蚪的变化过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8600" y="6858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青蛙：两栖动物，头部扁而宽、口阔、眼大，皮肤光滑，颜色因环境而不同，通常为绿色，有灰斑。趾间有薄膜相连，生活在水中或靠近水的地方。善跳跃，会游泳，多在夜间活动。幼体叫蝌蚪，主要吃田间的害虫，对农业有益。又称田鸡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838080" y="2362320"/>
            <a:ext cx="7620120" cy="17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34 </a:t>
            </a: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小蝌蚪找妈妈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53352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教版小学语文第二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8600" y="76212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池塘里有一群小蝌蚪，它们游哇游，过了几天，长出两条（　　），又过了几天，长出两条（　　），没过多久，（　　）不见了，变成了一只只能捉害虫的（　　　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80880" y="1447920"/>
            <a:ext cx="8229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青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蛙四条腿，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________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嘴巴，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________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一对大眼睛，披着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________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，露着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________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微软用户</cp:lastModifiedBy>
  <dcterms:modified xsi:type="dcterms:W3CDTF">2013-05-30T00:11:27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35</vt:lpwstr>
  </property>
  <property fmtid="{D5CDD505-2E9C-101B-9397-08002B2CF9AE}" pid="3" name="Version">
    <vt:r8>1</vt:r8>
  </property>
</Properties>
</file>