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795-E6B9-4AC4-A2D0-0F54E14A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BC3-F20E-4B36-8A82-FFDC98EE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B2C-4B3B-4DCD-AA71-58181406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F10-2995-446E-B855-D31CF90C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68B-7F46-403F-9726-C852600A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1E0-DD42-4C1B-948D-1A235C19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528-EA48-4899-85D4-5C7B676F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B4F-1568-4E7E-8AE4-D1037A34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8D3-1D2C-4A19-BEBC-A69F210C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1B0-D484-4F40-BA9B-4EBDE034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778-1E76-44EE-9762-15216BE8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603-EAAA-438A-91B8-1C1AA433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77B1-1864-4740-9695-A4031E919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1019885477"/>
          <p:cNvPicPr/>
          <p:nvPr/>
        </p:nvPicPr>
        <p:blipFill>
          <a:blip r:embed="rId1"/>
          <a:stretch/>
        </p:blipFill>
        <p:spPr>
          <a:xfrm>
            <a:off x="0" y="0"/>
            <a:ext cx="1029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2916360" y="1557360"/>
            <a:ext cx="367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象鼻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700360" y="479736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26两只小象.mp3" descr=""/>
          <p:cNvPicPr/>
          <p:nvPr/>
        </p:nvPicPr>
        <p:blipFill>
          <a:blip r:embed="rId4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25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408145_079460"/>
          <p:cNvPicPr/>
          <p:nvPr/>
        </p:nvPicPr>
        <p:blipFill>
          <a:blip r:embed="rId1"/>
          <a:stretch/>
        </p:blipFill>
        <p:spPr>
          <a:xfrm>
            <a:off x="0" y="3213000"/>
            <a:ext cx="4464000" cy="364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36807_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39640" y="836640"/>
            <a:ext cx="39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吊   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ldq1"/>
          <p:cNvPicPr/>
          <p:nvPr/>
        </p:nvPicPr>
        <p:blipFill>
          <a:blip r:embed="rId1"/>
          <a:stretch/>
        </p:blipFill>
        <p:spPr>
          <a:xfrm>
            <a:off x="0" y="0"/>
            <a:ext cx="8675640" cy="4005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692360" y="4724280"/>
            <a:ext cx="56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ldq1"/>
          <p:cNvPicPr/>
          <p:nvPr/>
        </p:nvPicPr>
        <p:blipFill>
          <a:blip r:embed="rId1"/>
          <a:stretch/>
        </p:blipFill>
        <p:spPr>
          <a:xfrm>
            <a:off x="0" y="0"/>
            <a:ext cx="8675640" cy="4005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692360" y="4724280"/>
            <a:ext cx="56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铁   索   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2005517125656"/>
          <p:cNvPicPr/>
          <p:nvPr/>
        </p:nvPicPr>
        <p:blipFill>
          <a:blip r:embed="rId1"/>
          <a:stretch/>
        </p:blipFill>
        <p:spPr>
          <a:xfrm>
            <a:off x="0" y="0"/>
            <a:ext cx="4643280" cy="3448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2005122150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W020060116591370782335"/>
          <p:cNvPicPr/>
          <p:nvPr/>
        </p:nvPicPr>
        <p:blipFill>
          <a:blip r:embed="rId3"/>
          <a:stretch/>
        </p:blipFill>
        <p:spPr>
          <a:xfrm>
            <a:off x="0" y="3429000"/>
            <a:ext cx="536400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5724360" y="4437000"/>
            <a:ext cx="3024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5517125656"/>
          <p:cNvPicPr/>
          <p:nvPr/>
        </p:nvPicPr>
        <p:blipFill>
          <a:blip r:embed="rId1"/>
          <a:stretch/>
        </p:blipFill>
        <p:spPr>
          <a:xfrm>
            <a:off x="0" y="0"/>
            <a:ext cx="4643280" cy="3448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005122150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W020060116591370782335"/>
          <p:cNvPicPr/>
          <p:nvPr/>
        </p:nvPicPr>
        <p:blipFill>
          <a:blip r:embed="rId3"/>
          <a:stretch/>
        </p:blipFill>
        <p:spPr>
          <a:xfrm>
            <a:off x="0" y="3429000"/>
            <a:ext cx="536400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724360" y="4437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立交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9042007042 副本副本1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564000" y="5493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象 鼻 桥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摘野果    采蘑菇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走亲戚    看朋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奇怪的桥       一座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静静地站       两头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9042007042 副本副本1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619280" y="333360"/>
            <a:ext cx="691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奇怪的桥       一座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静静地站       两头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课文，找一找，象鼻桥的名字是怎么来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猜一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动物们在这座桥上来来回回的，还可能忙些什么啊？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小刺猬忙着去送信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小猫忙着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小乌龟忙着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——————————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动物们在这座桥上来来回回的，还可能忙些什么啊？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小刺猬忙着去送信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小猫忙着去钓鱼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小乌龟忙着去参加运动会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9042007042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900000" y="40464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每天他们来来往往走过小桥，摘野果，采蘑菇，走亲戚，看朋友，可热闹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9042007042 副本副本1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09042007042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26920" y="404640"/>
            <a:ext cx="79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动物们从“桥”上高兴地走过，脚步放得轻轻的，一边走一边唱起了欢快的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9042007042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24000" y="40464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两只大象在河边静静地站了好几天，动物们非常感动，也很惭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71640" y="1916280"/>
            <a:ext cx="78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因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因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惭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9042007042 副本副本1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09" name="04两只小象（演唱）.wma" descr=""/>
          <p:cNvPicPr/>
          <p:nvPr/>
        </p:nvPicPr>
        <p:blipFill>
          <a:blip r:embed="rId2"/>
          <a:stretch/>
        </p:blipFill>
        <p:spPr>
          <a:xfrm>
            <a:off x="8675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5262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6865"/>
          <p:cNvPicPr/>
          <p:nvPr/>
        </p:nvPicPr>
        <p:blipFill>
          <a:blip r:embed="rId1"/>
          <a:stretch/>
        </p:blipFill>
        <p:spPr>
          <a:xfrm>
            <a:off x="539640" y="272880"/>
            <a:ext cx="374508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6866"/>
          <p:cNvPicPr/>
          <p:nvPr/>
        </p:nvPicPr>
        <p:blipFill>
          <a:blip r:embed="rId1"/>
          <a:stretch/>
        </p:blipFill>
        <p:spPr>
          <a:xfrm>
            <a:off x="900000" y="549360"/>
            <a:ext cx="41036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08000" y="1557000"/>
            <a:ext cx="497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6865"/>
          <p:cNvPicPr/>
          <p:nvPr/>
        </p:nvPicPr>
        <p:blipFill>
          <a:blip r:embed="rId1"/>
          <a:stretch/>
        </p:blipFill>
        <p:spPr>
          <a:xfrm>
            <a:off x="826920" y="78120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6866"/>
          <p:cNvPicPr/>
          <p:nvPr/>
        </p:nvPicPr>
        <p:blipFill>
          <a:blip r:embed="rId2"/>
          <a:stretch/>
        </p:blipFill>
        <p:spPr>
          <a:xfrm>
            <a:off x="4095720" y="260280"/>
            <a:ext cx="2347920" cy="316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6867"/>
          <p:cNvPicPr/>
          <p:nvPr/>
        </p:nvPicPr>
        <p:blipFill>
          <a:blip r:embed="rId3"/>
          <a:stretch/>
        </p:blipFill>
        <p:spPr>
          <a:xfrm>
            <a:off x="2340000" y="3284640"/>
            <a:ext cx="27082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桥梁    桥洞   桥梁  桥墩  天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立交桥      独木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河拆桥  牵线搭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zjwuzhen3"/>
          <p:cNvPicPr/>
          <p:nvPr/>
        </p:nvPicPr>
        <p:blipFill>
          <a:blip r:embed="rId1"/>
          <a:stretch/>
        </p:blipFill>
        <p:spPr>
          <a:xfrm>
            <a:off x="0" y="0"/>
            <a:ext cx="4572000" cy="321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a6a4570eba0123543f1f4a1d8dff93f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213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476360" y="4076640"/>
            <a:ext cx="6551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zjwuzhen3"/>
          <p:cNvPicPr/>
          <p:nvPr/>
        </p:nvPicPr>
        <p:blipFill>
          <a:blip r:embed="rId1"/>
          <a:stretch/>
        </p:blipFill>
        <p:spPr>
          <a:xfrm>
            <a:off x="0" y="0"/>
            <a:ext cx="4572000" cy="321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2a6a4570eba0123543f1f4a1d8dff93f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213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476360" y="407664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石   拱  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1408145_079460"/>
          <p:cNvPicPr/>
          <p:nvPr/>
        </p:nvPicPr>
        <p:blipFill>
          <a:blip r:embed="rId1"/>
          <a:stretch/>
        </p:blipFill>
        <p:spPr>
          <a:xfrm>
            <a:off x="0" y="3213000"/>
            <a:ext cx="4464000" cy="364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36807_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539640" y="83664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1:14:07Z</dcterms:created>
  <dc:creator>user</dc:creator>
  <dc:description/>
  <dc:language>en-US</dc:language>
  <cp:lastModifiedBy>Administrator</cp:lastModifiedBy>
  <dcterms:modified xsi:type="dcterms:W3CDTF">2015-01-30T02:15:31Z</dcterms:modified>
  <cp:revision>22</cp:revision>
  <dc:subject/>
  <dc:title>幻灯片 1</dc:title>
</cp:coreProperties>
</file>