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CB17-44EF-44EC-AC1A-E432EA244D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模板来源于网络，由第一课件网整理发布，免费分享给大家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课件网是国内最专业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分享网站，所有模板均经严格测试，保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载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精彩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精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，敬请访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1keji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时删除此备注即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7120" y="3078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416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3956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2200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712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3956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2200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BAA-4748-4857-A868-9F94F4C9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0C0-627A-4EF4-9826-4C22901B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D4E-9A20-4135-BBC0-87C2958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FBD-6578-4B97-895F-BBDBF8B8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68E-137E-4B4F-BE2A-694005EC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6000840"/>
            <a:ext cx="801504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E71-0B91-47CC-A519-3BE0975C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DAB-A5A4-4EA0-A84D-D3A9082A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416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49D-D193-4656-B106-E86F1D5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3BA-3117-400C-8246-ABAF9E9B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7120" y="3078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5E8-5BD5-4451-9233-CCC90D3D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416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5FC-B02A-4F22-8980-A71C58E2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3956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22000" y="714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712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3956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22000" y="3078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2E5-0BCA-4481-8452-AFD7B274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28760" y="6000840"/>
            <a:ext cx="801504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4160" y="3078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4160" y="714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7120" y="3078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8760" y="600084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B638-4E36-4DB4-BADF-9D4BCA776EC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571680" y="2000160"/>
            <a:ext cx="529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幻灯片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00000" y="278136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东坡下载站编辑整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600084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的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28760" y="1071720"/>
            <a:ext cx="82072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0080" y="2500200"/>
            <a:ext cx="35006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ym148</dc:creator>
  <dc:description/>
  <cp:keywords>lxym148</cp:keywords>
  <dc:language>en-US</dc:language>
  <cp:lastModifiedBy>Sky123.Org</cp:lastModifiedBy>
  <dcterms:modified xsi:type="dcterms:W3CDTF">2015-04-20T06:28:48Z</dcterms:modified>
  <cp:revision>13</cp:revision>
  <dc:subject>lxym148</dc:subject>
  <dc:title>五一特别奉献</dc:title>
</cp:coreProperties>
</file>