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dt" idx="4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ftr" idx="4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 type="sldNum" idx="4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20A0-FB89-4A8E-9026-69A865D2367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4DA1-53F9-47BB-A472-92B14DEEFCA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DCAF-2DA7-4C69-A9F2-2FF40FE3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14FF-76A2-4D43-B1A9-48593E6C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ABE005-86B8-4919-8FCD-A4D3DE0A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202F8D-0120-4D2F-AFDB-94F1554B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CB117E-B907-41CE-840B-F629977C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04A8D3-6289-4188-B69D-7E3E9EDB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622AAC-149F-4FB6-98A1-B227CA21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F19E2C-5E97-4D21-8C7B-21358B7E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768D33-BDF3-4B7E-AFCB-2C8A4D68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0E85CB-EE09-4691-9C1D-F30B553BA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B0FB5B-F987-474F-8D6A-25E998F2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55BD74-A483-46C1-AA04-91ED7178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D593-1181-423B-B6A2-253A2A26E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E9E030-FF80-4B15-9813-E80E5BE2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B5BCF4-637E-4EE7-AE44-F48D5E7B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CC5FC6-6610-42D0-BE86-40905CAC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F9629F-E8A6-44B4-9463-6E506B16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451F0E-BF1D-460A-AF46-885F2329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9C1825-F93E-4AFF-9C80-65333517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7DF244-2FB8-408B-8EB2-C666B8EB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4D368E-F192-4CA8-A679-8C084EAF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0C617F-8B8C-4DE1-8FC1-91689BDB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8646DB-A274-40D9-B362-8DBBE6ADF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0832-7F60-4914-968E-150DB6F6B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AFE56C-60F3-4451-9DA2-81F934E8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E706EC-4316-4F80-A979-2B265F15A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5D69020-4621-447C-B63D-ABB1B845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99A7AA-94D9-4EEE-964D-8388F8AB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62CEC08-2FD7-405B-BAB2-D74EC062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8443B8-9501-4209-BD71-89E59029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DE2B96-A4A2-4309-B71E-374BC68D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CF59CF0-CBB2-452E-ACD3-1E7E3B0A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4455C67-2454-4069-8863-10863B00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CF1A101-2031-4BDB-8F06-3F1E0F3A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B9FA-957D-4244-81E5-EA0A2D627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CB6AA79-7CF4-4F12-9AE4-26ABBC5A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C92E642-F2CD-4B80-A3F7-9C4B379C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022FE31-B748-4CEB-A5ED-6E4B21EB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94BE05-19BD-4664-B96F-3875CE1F5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6994C1-A57F-4B7B-87B3-FE7F8F10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D63B64-1870-4E58-8EAC-C320EB3E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ED0EAA-128E-40BD-A3CE-00C9F934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48476E-34DC-4E40-98A6-0F64248C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A6BA68-DE05-4134-923D-011FA87E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9DAFAD-4DD6-4293-BE1E-BC9DEDD0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DA25-7ECD-4D36-9D23-B633681C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6D63EC-5D43-469D-A655-00313106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0014CB-5229-451B-AAB4-EE8A226A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3C334F-82B7-4652-B96B-1CFEF4F2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5CBBEF-D56D-4066-AF78-D6807E605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1E3BD0-9163-4A60-B619-307F07FAC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947131D-A07A-40A8-A10C-920842B18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7CB7798-E9F6-4D16-B5F0-3C4C039B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DB50514-B3C6-4F1A-A48A-54574C58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4AF404A-3ED4-4A72-8144-59795294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EEEF57B-819C-44A7-8E46-07BC6BBE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B970-93C1-4611-95EF-D2170DD5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F9A1882-4FC6-466A-ADA5-3FEA2710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F20F896-93A1-449B-8EBF-753C9AF2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167CD3D-A9A3-435B-935D-5C13CC0A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59965AC-23AE-4766-B5F4-475AE346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6F80BFE-FFEA-419C-888A-7D56A2A0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9E20A03-B8A0-4DD0-8BE5-06CC332FE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05A53E0-9B97-4C05-BE2B-DBE26CED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914062A-01C7-4C2E-A1AF-CA7A831F8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9902585-2211-4C3B-8C46-B257270D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CF88C8A-17A2-47EC-B1C2-EE177A46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9619-3D71-46E4-90C4-8D293318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D58EC2A-EF38-435B-93AF-13913F62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221A6BC-E794-424E-AB26-B1C8D08F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4D87AE2-4624-404B-AA11-6CD16A80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485D9C5-9526-4BEB-ABD8-59DBA85C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8A9DEA0-1231-4D26-ABB6-AF18E9D4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036960A-62C0-4E2C-BD5D-5521E8CC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2BBC2DE-D502-4836-A34E-768529B1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480E9FE-DA08-4DC5-A4FA-34DEE3E39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A51C101-207A-4F79-BC6C-D225FC506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DB23-EEF0-4D5E-9C81-4FCA301E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A2A2-62BA-4D37-B996-174A8CF7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8AE4-5577-473F-9D69-1DB7F5F9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680F-8F29-40F2-BE45-DF4B2E12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759D-A5D0-45A7-80FC-7D8B431E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48EA-2FAC-460B-98E6-C63091D5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8CBF-4B89-4CB1-9BDD-F05B205D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B8E5-0909-418C-B9E3-7AA425634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7541-B03F-4D5F-A515-F559C944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169271-E820-4B73-A905-D92A185E59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8A25B7-F59D-407E-9C5E-3FE82B11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9F0235-E18E-428B-99E9-CEE7C627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846DC0-27D4-4325-9B89-B6238AE5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44B860-48C2-4745-A179-4DC79AAFD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E7DF-AC3F-4F9A-844C-577FBA45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D8B958-500C-412E-87E1-C932F2386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0DC6C2-E6BB-48D1-BB8A-4ADEB9CE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3909E7-718C-47F0-B8F4-FBAB8A6A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FD13B4-6510-4929-9BE7-9D4D4F74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751287-D700-448C-AA63-B6F07FED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8CA232-76FC-42B5-A519-79D28A16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A0FECA-3004-4BF5-A0E4-240254F23F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D2D26A-EA9A-4B97-BA5D-146D859D4C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1F82D4-BF1C-49D9-BDFC-C4E1D59E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E90985-4C99-4776-867D-9889242B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FC03-E8F7-427F-8983-88DC6F4E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F5CAFA-27A8-493C-8A5C-64C8AE78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A46CA5-A96D-490B-B3AE-F87F54F9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4E2747-50CB-4943-A925-DEAD5A1E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88A3E2-8A96-4ABD-99EE-11495181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DFDA94-C37C-4B67-AE3F-F57F73C9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16DE1B-C385-4669-9149-09D5D74D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CF8481-7971-41EC-AA64-4B2B05D4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3A2DF3-9748-43C8-8935-AE39F074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F2213E-67A9-4D6A-8107-70061D57EE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228714-CCDE-46D3-9F18-51EFC8560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555C-37D9-4C9A-81DD-301691F1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104055-0024-4CC5-A58B-A6ED9A06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A2534E-9AA5-40F1-AF78-BC78EAFE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04631E-2BAF-488A-8563-6F086F38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4B343A-885A-4E16-A5D8-72DC4E75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E245F0-53B2-4625-AF10-B40A77F6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148B75-9DAE-4A59-8544-1A7FDA37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CF5845-8F3A-4A7B-85E8-E4ED431F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F560EC-45C4-4D19-82D6-969856D2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01C828-10FA-4BB3-8E45-7C481EB9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0AE8A1-F3BA-4493-9082-5B06D4F45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489C-A945-4FC0-BFA2-558D2A84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894DB3-A831-4DA2-82ED-5A1DA5A11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F4CC43-9FCC-4064-A913-F3B3E7BD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E4D399-1424-4D5D-93CE-977E2D1B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03CEBF-8239-4C0F-9ABB-A941C65A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953E06-643C-441E-AF09-CBF12623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6D9D09-534E-4088-B2E6-313B1CAF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C58120-C1D7-4E7E-A178-8F0532BD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9CB3BA-1062-48A2-BDC6-1076C703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76ED06-FF82-48EE-B8DF-4E3D9C78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5BDF44-C838-40D6-A40D-B456F43A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6942-2480-45B5-A430-65DFFC74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845557-66E2-4659-A815-5A22D24A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B14172-DB63-47E3-BE85-85C04E03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23642C-2876-43F9-B280-746E9863D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D0688A-47F5-416B-8F31-1DBD65F5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1FFFCE-F986-4B06-A88A-2E2EA8DA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3EC8BE-29A6-4A29-A6C2-FC53880F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F60D96-678B-49F4-9D2C-EA529488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40EC41-BEFD-4F6F-B0BF-1AFA1F63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B86DAB-0964-4795-A28A-4F4A1836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6F0674-D8C4-4F7C-94A5-E329B6EA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597C-9750-434C-B5FD-6D30BAC3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9BDD27-AFEC-43FF-94A8-7F96C0AE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E07E12-9E49-4BAD-9854-9C9F6257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8EFFFE-7F33-4937-81C2-0588FCEF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E5C47A-EA00-446C-B1F2-B2A7E4FD4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47EEF5-D062-4B3B-B05E-7D736B86D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A8F81D-B2E9-4EFE-B8A1-51E0E57C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D4213D-7293-4A5D-8ECB-1C180FA6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1A8E1E-7644-4CB2-90CC-450AA60B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613DAD-00D9-4959-8126-B38F8F26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6796BB-CF30-44EA-A2C1-46E38776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62E9-5FD1-4136-B370-6442B156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E653B3-AB0E-4868-8216-5DEA861A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9355BB-E6B2-4AE4-9794-492D1AA2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995367-5F89-4EF8-A893-E7D1C2EE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4D0B9D-5CF9-4179-BECD-99ABFE97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64B08F-8CCE-4379-9C44-78463B18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63A7B8-3596-461E-A7D2-0FEEC4DE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7604C9-DAE5-4606-AB57-A4DC984CF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2D2B7C-405C-43C6-9F22-768C22542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1E8266-F9AA-4D4B-BB6C-1C326D95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B8FC93-11FB-43CE-BDB5-4E4E46B1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D6BC-37F4-44BA-99DF-A68539B471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7D96-D677-4E4F-A6D3-C9235FC3558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D003-47A9-4DEA-A229-C71B074A1E8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250E-2CB5-4312-A9DA-140970FD2BD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D67E-AE51-417B-BC01-F325392A9EA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1078-A163-4E4E-8BCD-13F504F7090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703D-EB1D-45BB-8ABA-FD4A67A154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28666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C05A-6E35-4631-BD3D-3173F920C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0"/>
          </p:nvPr>
        </p:nvSpPr>
        <p:spPr>
          <a:xfrm>
            <a:off x="28576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7D61-4C42-461F-B1EA-91EEB116F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3034-5637-490B-B056-E8ED52FA93C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66E3-69B2-4A1A-9D64-8FD17C178E1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1BE3-4B0E-4BAB-9E95-F341B0DFD7E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5631-DA19-49B3-99FB-3F5A465827C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9A81-4830-4650-B928-49E522BA220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3347640" y="2492280"/>
            <a:ext cx="403236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a452a"/>
                </a:solidFill>
                <a:latin typeface="汉仪中宋简"/>
                <a:ea typeface="汉仪中宋简"/>
              </a:rPr>
              <a:t>毕业答辩幻灯片模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143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内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3347640" y="2492280"/>
            <a:ext cx="403236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a452a"/>
                </a:solidFill>
                <a:latin typeface="汉仪中宋简"/>
                <a:ea typeface="汉仪中宋简"/>
              </a:rPr>
              <a:t>谢谢观看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矩形 3"/>
          <p:cNvSpPr/>
          <p:nvPr/>
        </p:nvSpPr>
        <p:spPr>
          <a:xfrm>
            <a:off x="108000" y="189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10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2:34:15Z</dcterms:created>
  <dc:creator>BABY</dc:creator>
  <dc:description/>
  <dc:language>en-US</dc:language>
  <cp:lastModifiedBy>admin</cp:lastModifiedBy>
  <dcterms:modified xsi:type="dcterms:W3CDTF">2015-01-19T03:53:06Z</dcterms:modified>
  <cp:revision>53</cp:revision>
  <dc:subject/>
  <dc:title>幻灯片 1</dc:title>
</cp:coreProperties>
</file>