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FC9-D059-44FB-8DB7-9C6C55DC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BDB-E6D5-43B0-8D35-E139CA05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215-F509-48A9-9693-18FBA2E7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AEA-F70A-4B45-AD46-5D408C6A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BAE-B78B-447E-A770-47099472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045-2833-47F3-A608-6ABF8554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DF0-53EC-43EB-833B-9EA16AC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0A9-7CBC-4107-8A46-775BCADC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7B6-1183-4304-A087-400DB16C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BF4-C85D-414B-B141-7251C618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EAB-424E-4067-87C6-AC733693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791-2C68-468E-B197-C8281A2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E315-9E16-4A8D-8EA7-7962D668A2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5160" y="457200"/>
            <a:ext cx="549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91080" y="0"/>
            <a:ext cx="2191320" cy="6477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Times New Roman"/>
                <a:ea typeface="方正舒体"/>
              </a:rPr>
              <a:t>我们家的男子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9920" y="4800600"/>
            <a:ext cx="1521000" cy="2057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王安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27280" y="-587520"/>
            <a:ext cx="5857920" cy="74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对食物有极大的兴趣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对父亲很崇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处处要求独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刚强，男儿有泪不轻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沉着地面对生活的挑战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8360" y="620640"/>
            <a:ext cx="2312640" cy="603000"/>
            <a:chOff x="468360" y="620640"/>
            <a:chExt cx="2312640" cy="603000"/>
          </a:xfrm>
        </p:grpSpPr>
        <p:grpSp>
          <p:nvGrpSpPr>
            <p:cNvPr id="90" name=""/>
            <p:cNvGrpSpPr/>
            <p:nvPr/>
          </p:nvGrpSpPr>
          <p:grpSpPr>
            <a:xfrm>
              <a:off x="468360" y="620640"/>
              <a:ext cx="1800000" cy="574560"/>
              <a:chOff x="468360" y="620640"/>
              <a:chExt cx="1800000" cy="574560"/>
            </a:xfrm>
          </p:grpSpPr>
          <p:sp>
            <p:nvSpPr>
              <p:cNvPr id="91" name=""/>
              <p:cNvSpPr/>
              <p:nvPr/>
            </p:nvSpPr>
            <p:spPr>
              <a:xfrm>
                <a:off x="468360" y="620640"/>
                <a:ext cx="1800000" cy="57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9b5a"/>
                  </a:gs>
                  <a:gs pos="50000">
                    <a:srgbClr val="ff6600">
                      <a:alpha val="99215"/>
                    </a:srgbClr>
                  </a:gs>
                  <a:gs pos="100000">
                    <a:srgbClr val="fe9b5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0080" y="725400"/>
                <a:ext cx="163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男孩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5400000">
              <a:off x="2402640" y="845640"/>
              <a:ext cx="459000" cy="2970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9a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08720" y="620640"/>
            <a:ext cx="1800000" cy="574560"/>
            <a:chOff x="5508720" y="620640"/>
            <a:chExt cx="1800000" cy="574560"/>
          </a:xfrm>
        </p:grpSpPr>
        <p:sp>
          <p:nvSpPr>
            <p:cNvPr id="95" name=""/>
            <p:cNvSpPr/>
            <p:nvPr/>
          </p:nvSpPr>
          <p:spPr>
            <a:xfrm>
              <a:off x="5508720" y="620640"/>
              <a:ext cx="180000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90440" y="725400"/>
              <a:ext cx="16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子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987640" y="620640"/>
            <a:ext cx="2312640" cy="603000"/>
            <a:chOff x="2987640" y="620640"/>
            <a:chExt cx="2312640" cy="603000"/>
          </a:xfrm>
        </p:grpSpPr>
        <p:grpSp>
          <p:nvGrpSpPr>
            <p:cNvPr id="98" name=""/>
            <p:cNvGrpSpPr/>
            <p:nvPr/>
          </p:nvGrpSpPr>
          <p:grpSpPr>
            <a:xfrm>
              <a:off x="2987640" y="620640"/>
              <a:ext cx="1800360" cy="574560"/>
              <a:chOff x="2987640" y="620640"/>
              <a:chExt cx="1800360" cy="574560"/>
            </a:xfrm>
          </p:grpSpPr>
          <p:sp>
            <p:nvSpPr>
              <p:cNvPr id="99" name=""/>
              <p:cNvSpPr/>
              <p:nvPr/>
            </p:nvSpPr>
            <p:spPr>
              <a:xfrm>
                <a:off x="2987640" y="620640"/>
                <a:ext cx="1800360" cy="57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9b5a"/>
                  </a:gs>
                  <a:gs pos="50000">
                    <a:srgbClr val="ff6600">
                      <a:alpha val="99215"/>
                    </a:srgbClr>
                  </a:gs>
                  <a:gs pos="100000">
                    <a:srgbClr val="fe9b5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69360" y="725400"/>
                <a:ext cx="163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男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H="1" rot="5400000">
              <a:off x="4921920" y="845640"/>
              <a:ext cx="459000" cy="2970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9a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80000" y="1700280"/>
            <a:ext cx="1800360" cy="574560"/>
            <a:chOff x="5580000" y="1700280"/>
            <a:chExt cx="1800360" cy="574560"/>
          </a:xfrm>
        </p:grpSpPr>
        <p:sp>
          <p:nvSpPr>
            <p:cNvPr id="103" name=""/>
            <p:cNvSpPr/>
            <p:nvPr/>
          </p:nvSpPr>
          <p:spPr>
            <a:xfrm>
              <a:off x="5580000" y="170028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61720" y="180504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孩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580000" y="2276640"/>
            <a:ext cx="1800360" cy="574560"/>
            <a:chOff x="5580000" y="2276640"/>
            <a:chExt cx="1800360" cy="574560"/>
          </a:xfrm>
        </p:grpSpPr>
        <p:sp>
          <p:nvSpPr>
            <p:cNvPr id="106" name=""/>
            <p:cNvSpPr/>
            <p:nvPr/>
          </p:nvSpPr>
          <p:spPr>
            <a:xfrm>
              <a:off x="5580000" y="227664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61720" y="238140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孩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80000" y="2852640"/>
            <a:ext cx="1800360" cy="574560"/>
            <a:chOff x="5580000" y="2852640"/>
            <a:chExt cx="1800360" cy="574560"/>
          </a:xfrm>
        </p:grpSpPr>
        <p:sp>
          <p:nvSpPr>
            <p:cNvPr id="109" name=""/>
            <p:cNvSpPr/>
            <p:nvPr/>
          </p:nvSpPr>
          <p:spPr>
            <a:xfrm>
              <a:off x="5580000" y="285264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61720" y="295740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580000" y="3429000"/>
            <a:ext cx="1800360" cy="574560"/>
            <a:chOff x="5580000" y="3429000"/>
            <a:chExt cx="1800360" cy="574560"/>
          </a:xfrm>
        </p:grpSpPr>
        <p:sp>
          <p:nvSpPr>
            <p:cNvPr id="112" name=""/>
            <p:cNvSpPr/>
            <p:nvPr/>
          </p:nvSpPr>
          <p:spPr>
            <a:xfrm>
              <a:off x="5580000" y="342900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61720" y="353376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子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580000" y="4005360"/>
            <a:ext cx="1800360" cy="574560"/>
            <a:chOff x="5580000" y="4005360"/>
            <a:chExt cx="1800360" cy="574560"/>
          </a:xfrm>
        </p:grpSpPr>
        <p:sp>
          <p:nvSpPr>
            <p:cNvPr id="115" name=""/>
            <p:cNvSpPr/>
            <p:nvPr/>
          </p:nvSpPr>
          <p:spPr>
            <a:xfrm>
              <a:off x="5580000" y="4005360"/>
              <a:ext cx="1800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9b5a"/>
                </a:gs>
                <a:gs pos="50000">
                  <a:srgbClr val="ff6600">
                    <a:alpha val="99215"/>
                  </a:srgbClr>
                </a:gs>
                <a:gs pos="100000">
                  <a:srgbClr val="fe9b5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61720" y="4110120"/>
              <a:ext cx="163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男子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8486400">
            <a:off x="6876720" y="1988280"/>
            <a:ext cx="1695600" cy="244980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185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9510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本文生动而细腻地描写一个男孩子成长的过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刻画了一个逐步成长的小“男子汉”的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5776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概括这个“男子汉”的特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38080" y="2133720"/>
            <a:ext cx="7620120" cy="1676160"/>
            <a:chOff x="838080" y="2133720"/>
            <a:chExt cx="7620120" cy="1676160"/>
          </a:xfrm>
        </p:grpSpPr>
        <p:sp>
          <p:nvSpPr>
            <p:cNvPr id="121" name=""/>
            <p:cNvSpPr/>
            <p:nvPr/>
          </p:nvSpPr>
          <p:spPr>
            <a:xfrm>
              <a:off x="5715000" y="2590920"/>
              <a:ext cx="274320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114800" cy="1676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55960" y="2262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爽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5280" y="22860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94600" y="2262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坚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03600" y="30243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淘气镇静坦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55960" y="30243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勇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952880" y="2971800"/>
              <a:ext cx="838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0960" y="259092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小小男子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4437000"/>
            <a:ext cx="7467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我们中学生来讲哪些行为可称得上是男子汉的行为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052640"/>
            <a:ext cx="8534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家看下列人物的行为是否属于男子汉的行为，你是否对男子汉的内涵有了新的认识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南京有一位叫汪侠的老人七十多岁了还连续两年参加高考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赖宁为了公共财产不惜牺牲年轻的生命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航天英雄杨利伟成为中国第一位太空人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掏粪工人时传祥曾接受过刘少奇的接见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清洁工人每天起早摸黑维护我们这个城市的卫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6483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实不论年龄长幼、地位尊卑、事业大小只要在勇敢地乐观的拼搏、追求积极的人生都应当被视为男子汉或女强人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89000"/>
            <a:ext cx="40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延伸拓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男子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就是干任何事有耐心而果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自信心足事业心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就是经受得起挫折和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刚中有柔胸襟坦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勇敢地撑住一片沉重的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任何时候都活得潇潇洒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，失意时说风雨中这点痛算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男子汉啊，是一支雄壮的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斩荆披棘的山道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高亢地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堂练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你小时候称得上男子汉的行为用生动幽默的语言写出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248520" y="685800"/>
            <a:ext cx="2616120" cy="358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80880"/>
            <a:ext cx="51818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王安忆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  上海人，当代女作家。</a:t>
            </a:r>
            <a:r>
              <a:rPr b="0" lang="zh-CN" sz="3200" spc="-1" strike="noStrike">
                <a:solidFill>
                  <a:srgbClr val="3366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主要著作</a:t>
            </a:r>
            <a:r>
              <a:rPr b="0" lang="zh-CN" sz="3200" spc="-1" strike="noStrike">
                <a:solidFill>
                  <a:srgbClr val="336600"/>
                </a:solidFill>
                <a:latin typeface="宋体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3366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王安忆中短篇小说集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  </a:t>
            </a:r>
            <a:br>
              <a:rPr sz="3200"/>
            </a:b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 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流逝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小鲍庄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、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小城之恋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等小说集及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长恨歌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纪实与虚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  构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等长篇小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王安忆的小说，多以平凡的小人物为主人公，表现他们平凡生活中的不平凡经历与情感。“理解”与“爱”是她的创作宗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5960" y="0"/>
            <a:ext cx="790200" cy="82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1700280"/>
            <a:ext cx="590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0200" y="1773360"/>
            <a:ext cx="174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700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男孩子、男人、男子汉”三者之间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64960" y="382752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篇课文在结构方面有什么特点？这样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什么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65689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lnSpc>
                <a:spcPct val="100000"/>
              </a:lnSpc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找出作者是从哪些方面来写这个“男子汉”的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9718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对食物有极大的兴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对父亲很崇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处处要求独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刚强，男儿有泪不轻弹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沉着地面对生活的挑战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27880"/>
            <a:ext cx="4130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</a:rPr>
              <a:t>整体感知课文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990720"/>
            <a:ext cx="327672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对食物的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9907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11253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他吃饭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371628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一部份表现了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53440" y="1700280"/>
            <a:ext cx="9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爽气、量很多、范围很广、极有滋味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耐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1480" y="4325760"/>
            <a:ext cx="179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一个孩子，一个男孩子的个性特点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爱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，爱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1197000"/>
            <a:ext cx="7186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他为什么崇拜父亲呢？他崇拜父亲的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父母拌嘴的时候，他为什么总是站在妈妈这边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71628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崇拜父亲：男孩子的天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他认为爸爸“无所不能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保护弱者：男孩子的天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144360"/>
            <a:ext cx="47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对父亲的崇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9907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981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哪些方面可以看出来他对独立的要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1700280"/>
            <a:ext cx="7157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要自己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要自己买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、自己换橘子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0"/>
            <a:ext cx="47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对独立的要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5480" y="458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显示自己长大了，显示自己的成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386064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为什么要求独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9079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15200" y="5327640"/>
            <a:ext cx="1828800" cy="1530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67816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的眼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4221000"/>
            <a:ext cx="47242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刚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男儿有泪不轻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真到动情方流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8000" y="143676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忍再忍”“从不为一些无聊的小事哭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语句表现了他的什么性格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9907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38000" y="2924280"/>
            <a:ext cx="429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捂住了脸”说明他回忆起了什么？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不愿意让别人看见他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7200" y="228240"/>
            <a:ext cx="85964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面对生活的挑战的沉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249228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面对进入陌生的环境这一挑战，镇静、坦然、很快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面对不得不回安徽的事实，勇敢地跳进车厢，踏上回乡之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197000"/>
            <a:ext cx="60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都面对了哪些生活的挑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么解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990720"/>
            <a:ext cx="327636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1-03-17T06:42:05Z</dcterms:modified>
  <cp:revision>56</cp:revision>
  <dc:subject/>
  <dc:title>PowerPoint Presentation</dc:title>
</cp:coreProperties>
</file>