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32.gif" ContentType="image/gif"/>
  <Override PartName="/ppt/media/image5.gif" ContentType="image/gif"/>
  <Override PartName="/ppt/media/image30.gif" ContentType="image/gif"/>
  <Override PartName="/ppt/media/image8.png" ContentType="image/png"/>
  <Override PartName="/ppt/media/image28.gif" ContentType="image/gif"/>
  <Override PartName="/ppt/media/image10.gif" ContentType="image/gif"/>
  <Override PartName="/ppt/media/image31.gif" ContentType="image/gif"/>
  <Override PartName="/ppt/media/image6.gif" ContentType="image/gif"/>
  <Override PartName="/ppt/media/image36.gif" ContentType="image/gif"/>
  <Override PartName="/ppt/media/image9.gif" ContentType="image/gif"/>
  <Override PartName="/ppt/media/image12.png" ContentType="image/png"/>
  <Override PartName="/ppt/media/image18.gif" ContentType="image/gif"/>
  <Override PartName="/ppt/media/image13.jpeg" ContentType="image/jpeg"/>
  <Override PartName="/ppt/media/image11.png" ContentType="image/png"/>
  <Override PartName="/ppt/media/image33.gif" ContentType="image/gif"/>
  <Override PartName="/ppt/media/image34.gif" ContentType="image/gif"/>
  <Override PartName="/ppt/media/image4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19.gif" ContentType="image/gif"/>
  <Override PartName="/ppt/media/image21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205-1A20-4114-826F-ECA7CA80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413-BF4F-4A64-9744-2D875A1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454-5657-4131-B7D1-260CDA58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02F-4FD6-44E1-9573-8C12465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32CF-4CF4-475E-97C0-BA8FAAAC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BA38-D7BE-4092-A330-F7958034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FA76-F62E-4C9C-B58D-9DB20C49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8C3-383D-4A18-854C-B35E507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0F49-D69B-409B-99D1-BD5A4CD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2DED-9A79-40E5-9B86-4D095EF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7EA6-95F2-4F17-A8F5-32FAC64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6C8-C7D9-406D-9C04-EB73ADE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C8E-FF03-4B61-8B36-10A768B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5386-1FF2-47D5-A0CF-2AD857D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421F-42AA-4A26-94ED-F3B432AE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C80F-F829-4E65-B5E3-4D0222F5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3E0-55E5-47F2-BB60-72742787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A89-B5D6-4821-83E8-2A5F822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18D7-BC31-4EB6-91BF-0642481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CF8D-CE91-4D6A-83C0-B6964B50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1822-A884-4FCF-89C3-B8F6A3B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F312-1B0C-45D9-84EA-186E196E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7BA-F79F-4B3E-A0CE-008C614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9A7B-B97A-425F-B8E2-30B08045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0556-4642-44F6-89A0-9247265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E9B9-536F-4322-8259-9726713B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CD94-F4C8-4570-8959-9207A03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DBA8-D302-464F-B6A0-EB287FC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EB93-D57E-476B-8154-81A2E58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F635-86E6-4650-8AFE-0830DFCB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D027-2D5D-4803-9A6B-9377131D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AF0A-8F1A-4D8D-AA31-97A9114C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0E4C-2F5B-4E26-B30D-4BB5336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3BA-0158-4264-B770-3DAF6B0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B979-BF59-4349-966F-A9B0BB7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183D-3A48-4C71-802A-691DB454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E4A7-0EEF-46B2-8303-7C3DF420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976A-B5D1-4F2D-8286-E18AE708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BD95-842A-4427-95DE-C135BC2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5E78-1611-4986-82AE-ABCD574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FC02-55F8-4B44-94C7-DA4369DA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B2A6-713E-46FD-97B6-5F5CE87A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6554-4092-4170-AC6B-22887180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A57C-F1B1-4796-895B-2CD86490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9FE-FFAC-49F5-9235-D49BC573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358F-3C8C-41E8-B027-888786B8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CD23-B709-4AD6-9845-843967C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E445-7759-498A-A416-5AC7BFBE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1AA3-1464-4BE9-983A-FB4B8C1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D959-CA1F-4B4E-A063-F14F59A4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4A6E-E504-470D-8BE1-070A55D5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15F43-3E09-4D1B-8698-98EE5EA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FC19-DE86-4A9C-8485-3F2FA46F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AF26D-2668-413E-9033-08D30F7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D017-F21B-4C39-A224-7378389C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8A1-BA25-44F7-87E6-109AE89D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BC65-BF74-47C8-A0B4-B7C45CBE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0329A-340D-40F8-9FA6-BEC1022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0336-E50E-4B43-AC4E-EFA0AB69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7BD7-82AD-4BEE-8FFC-19D7C38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71B88-54DB-4720-93B8-C3F526DA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953F3-DA45-477C-AB70-736CDA31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BCC98-F399-441F-96AA-D5852817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CF37-1D83-432A-88CC-5C98B57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7C1E-07FD-4E5F-B6B7-608F8FF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FDBF-0FDC-4FA6-BF31-6856A39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933-8BCA-4029-919F-95FB4EE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7914-78C0-4502-B125-1EF8218E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5E1D-240C-4950-93B0-B9A43A0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77BD2-9432-4E57-BBB7-C7364FF4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32B-6D9E-4236-BD5A-9F7DCF1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3EC-CB25-4503-B1FB-9A7C770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FA06-F898-42FE-BBAB-C3644D471CE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B6A-5D33-4BD3-924C-05D675EF56F5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8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4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8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42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56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70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4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98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00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29D-3C74-4222-9042-D0F8B58FB3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6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70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4D0-EADB-430E-A58E-A4C655692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20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12D9-E4DF-4B50-B9AB-821E68FBFFD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DB7-ED44-454F-8A99-467937959F8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38280" cy="20876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8101080" y="4508640"/>
            <a:ext cx="620640" cy="165564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2700360" y="1989000"/>
            <a:ext cx="3556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勤俭节约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364000" y="3789360"/>
            <a:ext cx="28720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——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525600" cy="52524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8244000" y="2421000"/>
            <a:ext cx="660240" cy="21603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0" y="6053040"/>
            <a:ext cx="1622520" cy="8049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5"/>
          <a:stretch/>
        </p:blipFill>
        <p:spPr>
          <a:xfrm>
            <a:off x="4067280" y="558972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140360" y="9079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国家节水标志”由水滴、人手和地球变形而成。绿色的圆形代表地球，象征节约用水是保护地球生态的重要措施。标志留白部分像一只手托起一滴水，手是拼音字母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JS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的变形，寓意节水，表示节水需要公众参与，鼓励人们从我做起，人人动手节约每一滴水；手又象一条蜿蜒的河流，象征滴水汇成江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203640" y="4762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看看节水标志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7"/>
          <a:stretch/>
        </p:blipFill>
        <p:spPr>
          <a:xfrm>
            <a:off x="2843280" y="5950080"/>
            <a:ext cx="525240" cy="52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8436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中国有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亿人口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假如每个人每星期节约一度电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大家想想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一年下来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能为国家节约多少度电呀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那可是一个天文数字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为国家节省了多少能源呀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的一件小事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难道在座的同学们做不到吗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5280" y="2205000"/>
            <a:ext cx="19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下面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问问大家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知不知道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度电能干些什么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请同学们说说你的看法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20328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瓦灯泡连续亮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家用冰箱运行一天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普通电风扇运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视机连续播放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动自行车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里；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斤的水烧开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用电热锅炒两个美味的菜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611280" y="5373720"/>
            <a:ext cx="649080" cy="4651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3"/>
          <a:stretch/>
        </p:blipFill>
        <p:spPr>
          <a:xfrm>
            <a:off x="7885080" y="2133720"/>
            <a:ext cx="789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c8ff"/>
            </a:gs>
            <a:gs pos="50000">
              <a:srgbClr val="ffffff"/>
            </a:gs>
            <a:gs pos="100000">
              <a:srgbClr val="5b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95280" y="260280"/>
            <a:ext cx="619272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如一首歌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歌到情初泪自流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似一杯酒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就将醉时笑语稠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像一首诗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言有尽意而无穷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是一杯茶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茶香满口情悠悠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8564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 rot="20607000">
            <a:off x="179280" y="3213000"/>
            <a:ext cx="171468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809720" cy="6667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979640" y="2565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幼圆"/>
              </a:rPr>
              <a:t>平时上课的时候，光线充足的时候，可以把旁边的一排灯关掉；午休的时候，同学们都离开去吃午饭的话，应该把课室的灯关掉；平时同学们不应该浪费饮水的水．你们的爷爷奶奶也许对你们说过，他们小时侯是多么穷苦，吃不饱，穿不暖，上不起学，今天的我们能开空调，看电视，玩电脑，听ＭＰ３，ＭＰ４，这多么幸福！父母省吃俭用供我们读书大家又是否体谅到他们的辛酸呢？倘若同学们每天少花些零用钱，日积月累，那也是一笔不小的数目啊！何乐而不为呢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66920" y="191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那么我们在日常生活中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应该要怎么做呢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39640" y="1844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览前贤国与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由勤俭败由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商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是你一生中食之不完的美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爱默生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以修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以养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处不省钱袋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托•莫尔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安思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戒奢以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污和浪费是极大的犯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771640" y="189000"/>
            <a:ext cx="36673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13dff"/>
                  </a:solidFill>
                  <a:miter/>
                </a:ln>
                <a:solidFill>
                  <a:srgbClr val="edfad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勤俭节约的名言</a:t>
            </a:r>
            <a:endParaRPr b="1" lang="en-US" sz="4000" spc="1" strike="noStrike">
              <a:ln w="12600">
                <a:solidFill>
                  <a:srgbClr val="013dff"/>
                </a:solidFill>
                <a:miter/>
              </a:ln>
              <a:solidFill>
                <a:srgbClr val="edfad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8101080" y="692280"/>
            <a:ext cx="6048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468360" y="765000"/>
            <a:ext cx="691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幼圆"/>
              </a:rPr>
              <a:t>节俭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滴水，不算多，一滴一滴汇成河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粒米，不算多，一粒一粒积满箩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块石，不算多，一块一块修亭阁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棵树，不算多，一棵一棵绿山坡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晴天防雨天，丰年防灾祸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细水长流不浪费，人人唱好节俭歌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2771640" y="98100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前言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755" name=""/>
          <p:cNvSpPr/>
          <p:nvPr/>
        </p:nvSpPr>
        <p:spPr>
          <a:xfrm>
            <a:off x="1332000" y="2781360"/>
            <a:ext cx="4606920" cy="1008720"/>
          </a:xfrm>
          <a:prstGeom prst="rect">
            <a:avLst/>
          </a:prstGeom>
          <a:noFill/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曾几何时，“谁知盘中餐，粒粒皆辛苦”的诗句常在耳边回响；曾几何时，“一粥一饭，当思来之不易；一丝一缕，恒念物力维艰”的古训仍在心头萦绕；曾几何时，伟大领袖毛泽东掷地有声的一句话：“浪费是极大的犯罪”，指引着几代人艰苦创业、自力更生。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美德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创造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是中华民族的优良传统 。 今天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我们的主题班会就谈谈怎样做到勤俭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rot="21164400">
            <a:off x="4500360" y="9806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24000" y="6343560"/>
            <a:ext cx="8424720" cy="5144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95280" y="98100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艰苦奋斗、勤俭节约是我党我军的优良传统，老一辈无产阶级革命家率先为我们作出了榜样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在毛主席生前用过的一百多件日常生活用品中，有一件穿过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20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多年、已补过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73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次的睡衣。身边的工作人员多次提出给他换一件新的，他都执意不肯，直到逝世前夕，他老人家还是穿着这件补钉缀补钉的睡衣。在国民经济困难时期，他老人家首先倡导不吃肉、不吃水果，常常是几个烤芋头就是一餐饭，与全国人民同甘共苦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7"/>
          <a:stretch/>
        </p:blipFill>
        <p:spPr>
          <a:xfrm>
            <a:off x="0" y="4581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8"/>
          <a:stretch/>
        </p:blipFill>
        <p:spPr>
          <a:xfrm>
            <a:off x="0" y="6353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9"/>
          <a:stretch/>
        </p:blipFill>
        <p:spPr>
          <a:xfrm>
            <a:off x="8783640" y="981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1"/>
          <a:stretch/>
        </p:blipFill>
        <p:spPr>
          <a:xfrm>
            <a:off x="8783640" y="3284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2"/>
          <a:stretch/>
        </p:blipFill>
        <p:spPr>
          <a:xfrm>
            <a:off x="8783640" y="213372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13"/>
          <a:stretch/>
        </p:blipFill>
        <p:spPr>
          <a:xfrm>
            <a:off x="8783640" y="4292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4"/>
          <a:stretch/>
        </p:blipFill>
        <p:spPr>
          <a:xfrm>
            <a:off x="878364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5"/>
          <a:stretch/>
        </p:blipFill>
        <p:spPr>
          <a:xfrm>
            <a:off x="878364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6"/>
          <a:stretch/>
        </p:blipFill>
        <p:spPr>
          <a:xfrm>
            <a:off x="8783640" y="63532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916360" y="404640"/>
            <a:ext cx="3311280" cy="520560"/>
          </a:xfrm>
          <a:prstGeom prst="rect">
            <a:avLst/>
          </a:prstGeom>
          <a:solidFill>
            <a:srgbClr val="f2dffd">
              <a:alpha val="29000"/>
            </a:srgbClr>
          </a:solidFill>
          <a:ln w="57240">
            <a:solidFill>
              <a:srgbClr val="ff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7ff"/>
                </a:solidFill>
                <a:latin typeface="Arial"/>
              </a:rPr>
              <a:t>勤俭节约的故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周总理身上，这样的例子也数不胜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夏，周总理到辽宁省视察工作，刚一住下，他就从口袋里掏出一张纸，交给负责接待的同志，说：“上面写的东西都不能做。”原来，这张单子开着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多种禁吃的菜名，鸡鸭鱼肉之类都包括在内。正是这一桩桩、一件件小事，铸就了他们伟大的人格魅力，使之成为中华民族传统美德和我党我军光荣传统的化身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615960" cy="2016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468000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333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79280" y="189000"/>
            <a:ext cx="7956720" cy="10159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生在老一辈革命家身上的这些故事，虽然已过去几十年了，但今天读来仍感人至深，对我们每一个人仍具有很强的现实教育意义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的生活条件，与毛主席、周总理生活的那个时代不可同日而语。但是生活条件再变，物质再丰富，也不能丢掉艰苦奋斗、勤俭节约的本色。从国家经济建设的大局来说，需要快速的发展，更需要长期、持续的发展。但经济快速增长与我国许多资源短缺的矛盾非常突出，如果我们不注意节约，造成资源的盲目开发和浪费，经济的可持续发展必然难以支撑。这样的基本国情和严峻形势，决定了我们必须长期坚持勤俭节约，勤俭办一切事情。从我们个人来说，是否保持艰苦奋斗、勤俭节约的作风，不仅是个会不会过日子的问题，而且关系到能否保持政治本色的问题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 rot="393600">
            <a:off x="684360" y="5950080"/>
            <a:ext cx="1295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4360" y="476280"/>
            <a:ext cx="6697440" cy="4597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，我们强调艰苦奋斗、勤俭节约，并不排斥量力而行的提高生活水平，过“清教徒” 、“苦行僧”式的生活，不是我们今天倡导勤俭之风的本意。新形势下倡导艰苦奋斗、勤俭节约，就是事业上要拼搏进取，工作上要吃苦耐劳，生活上要量入为出，自觉克服贪图安逸、追求享受的思想，保持共产党人的政治本色。这既是党的事业和部队建设的需要，也是我们立身做人的需要。谁在生活这一关上把不住，让奢靡之风吹昏了头脑，误入享乐主义的泥潭，谁就会葬送自己的政治前途。前车之鉴，不可不慎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 rot="1722600">
            <a:off x="250920" y="5949720"/>
            <a:ext cx="1295280" cy="477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7951680" y="1125360"/>
            <a:ext cx="6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826920" y="141300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有这么一个民间故事：从前，在中原的伏牛山下，住着一个叫吴成的农民，他一生勤俭持家，日子过得无忧无虑，十分美满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相传他临终前，曾把一块写有“勤俭”两字的横匾交给两个儿子，告诫他们说：“你们要想一辈子不受饥挨饿，就一定要照这两个宇去做。”后来，兄弟俩分家时，将匾一锯两半，老大分得了一个“勤”字，老二分得一个“俭”字。老大把“勤”字恭恭敬敬高悬家中，每天“日出而作，日落而息”，年年五谷丰登。然而他的妻子却过日子大手大脚，孩子们常常将白白的馍馍吃了两口就扔掉，久而久之，家里就没有一点余粮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4"/>
          <a:stretch/>
        </p:blipFill>
        <p:spPr>
          <a:xfrm>
            <a:off x="971640" y="404640"/>
            <a:ext cx="741240" cy="74160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 txBox="1"/>
          <p:nvPr/>
        </p:nvSpPr>
        <p:spPr>
          <a:xfrm rot="307200">
            <a:off x="3419640" y="259920"/>
            <a:ext cx="15714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95280" y="765000"/>
            <a:ext cx="8604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老二自从分得半块匾后，也把“俭”字当作“神谕”供放中堂，却把“勤”字忘到九霄云外。他疏于农事，又不肯精耕细作，每年所收获的粮食就不多。尽管一家几口节衣缩食、省吃俭用，毕竟也是难以持久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一年遇上大旱，老大、老二家中都早已是空空如也。 他俩情急之下扯下字匾，将“勤”“俭”二字踩碎在地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时候，突然有纸条从窗外飞进屋内，兄弟俩连忙拾起—看，上面写道：“只勤不俭，好比端个没底的碗，总也盛不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!”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只俭不勤，坐吃山空，一定要受穷挨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兄弟俩恍然大悟，“勤”“俭”两字原来不能分家，相辅相成，缺一不可。吸取教训以后，他俩将 “勤俭持家”四个字贴在自家门上，提醒自己，告诫妻室儿女，身体力行，此后日子过得 一天比一天好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 rot="307200">
            <a:off x="3492360" y="0"/>
            <a:ext cx="15717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56400" cy="6453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179280" y="907920"/>
            <a:ext cx="172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这是一幅十大浪费水的现象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!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试问一下自己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有没有像图中一样如此浪费水呢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!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3:14:49Z</dcterms:created>
  <dc:creator>User</dc:creator>
  <dc:description/>
  <dc:language>en-US</dc:language>
  <cp:lastModifiedBy>User</cp:lastModifiedBy>
  <dcterms:modified xsi:type="dcterms:W3CDTF">2011-10-31T04:42:56Z</dcterms:modified>
  <cp:revision>27</cp:revision>
  <dc:subject/>
  <dc:title>幻灯片 1</dc:title>
</cp:coreProperties>
</file>