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lick.wav" ContentType="audio/x-wav"/>
  <Override PartName="/ppt/media/image7.png" ContentType="image/png"/>
  <Override PartName="/ppt/media/chimes.wav" ContentType="audio/x-wav"/>
  <Override PartName="/ppt/media/arrow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F70-F655-4031-9502-C6746CDC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1CA-0FDA-40CB-9D23-B5D50AE4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FAB-59C6-496E-899C-96558773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9DE-4950-4C1E-8A0D-A82EBC10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F61-02E9-4672-BB08-77C465C8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D43-1F68-43BF-AF85-F282AD39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15B-2DBE-4CE2-8003-D43746B8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FDB-E51B-4ABD-9705-C10D6F29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D5E-8E77-4E48-98BF-81355F9D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01C-0CEE-4054-9EAF-07F4CD4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7E8-DE52-4857-BD68-FC759B37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0EF-AA86-403F-BC8C-D9EF7E6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C143-5B9A-4282-B915-A7026B15E25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audio" Target="../media/arrow.wav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audio" Target="../media/arrow.wav"/><Relationship Id="rId13" Type="http://schemas.openxmlformats.org/officeDocument/2006/relationships/audio" Target="../media/chimes.wav"/><Relationship Id="rId14" Type="http://schemas.openxmlformats.org/officeDocument/2006/relationships/audio" Target="../media/arrow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197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请判断下面哪些是方程，哪些不是方程？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060640"/>
            <a:ext cx="842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5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=11                             (2)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                                     (4)3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&lt;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5)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b=4                             (6)18x=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3860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什么叫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0" y="3846600"/>
            <a:ext cx="65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含有未知数的等式叫做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3498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式和方程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084640"/>
            <a:ext cx="597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方程一定是等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但等式不一定是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349880" y="4653000"/>
            <a:ext cx="4038480" cy="1944720"/>
            <a:chOff x="4349880" y="4653000"/>
            <a:chExt cx="4038480" cy="1944720"/>
          </a:xfrm>
        </p:grpSpPr>
        <p:sp>
          <p:nvSpPr>
            <p:cNvPr id="48" name=""/>
            <p:cNvSpPr/>
            <p:nvPr/>
          </p:nvSpPr>
          <p:spPr>
            <a:xfrm rot="5400000">
              <a:off x="5396760" y="3606120"/>
              <a:ext cx="1944720" cy="4038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5226840" y="5071320"/>
              <a:ext cx="1149120" cy="167472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04000" y="522936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92720" y="566100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方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过关检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8278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后面的括号中哪个是方程的解？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x+32=76      (  x=44,     x=108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2 ) 12-x=4         (  x=16,     x=8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3 ) 3÷x=1.5      (  x=0.5,    x=2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476280"/>
            <a:ext cx="8964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探究创新题。小晴家、小强家和学校都在成一条直线的路上，并且位于学校两侧，小晴从家出发，每分钟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可到学校，小强从家出发，每分钟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可以到学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小晴和小强，谁家离学校远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m=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小晴家与小强家相距多少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981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数学医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91628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5=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=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5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184464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249228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=0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67640" y="184464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÷3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2421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=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31417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3068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5080" y="3284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2200" y="-100080"/>
            <a:ext cx="9506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方程的解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解方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个概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区别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233856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3.3+</a:t>
            </a: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  =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2.5=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0.2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=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0.4 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9320" y="757080"/>
            <a:ext cx="720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口答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:(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式子中数字符号各表示什么数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515772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x=0.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1640" y="416736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x=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317664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x=5.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2780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x=0.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2529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319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52293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57280" y="22780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0.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8720" y="321300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5.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5800" y="4292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8720" y="53020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  <a:ea typeface="宋体"/>
              </a:rPr>
              <a:t>0.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632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能结合具体图例找到等量关系列出方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会根据等式不变的规律解简单的方程，掌握解方程的格式和写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会检验一个具体的值是不是方程的解，掌握检验的格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结合具体题目，进一步理解方程的解与解方程的含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进一步提高学生比较、分析的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705800" cy="2519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6360" y="314172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示自学指导，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完成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，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根据图例能得出什么等量关系，列出方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可利用什么规律来解这个方程呢？试解列出的方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怎么检验解出来的值是这个方程的解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705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学指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893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64216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87280" y="1989000"/>
            <a:ext cx="8569440" cy="227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24000" y="4437000"/>
            <a:ext cx="2808000" cy="181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4895640" cy="2708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例题剖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2200" y="-100080"/>
            <a:ext cx="9506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方程的解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解方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个概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区别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方程的解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两边相等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未知数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叫做方程的解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解方程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求方程的解的过程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7280" y="260280"/>
            <a:ext cx="8569440" cy="4969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5148360" y="-2973960"/>
            <a:ext cx="4176720" cy="280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4:39:44Z</dcterms:created>
  <dc:creator>FtpDown</dc:creator>
  <dc:description/>
  <dc:language>en-US</dc:language>
  <cp:lastModifiedBy>walkinnet</cp:lastModifiedBy>
  <dcterms:modified xsi:type="dcterms:W3CDTF">2011-10-20T14:53:54Z</dcterms:modified>
  <cp:revision>18</cp:revision>
  <dc:subject/>
  <dc:title>PowerPoint 演示文稿</dc:title>
</cp:coreProperties>
</file>