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type.wav" ContentType="audio/x-wav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8A4-11E5-4B64-A3D5-DCE75392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E48-2C79-4516-A10D-EF9D8A41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9E3-B10C-4CF4-B4A3-DAE0B36D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119-01E9-4950-B2EA-D2B27CBC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6CC-70C3-4C86-94AA-5629DAD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439-2A13-4370-B5FC-C0279468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114-20B3-4F8D-97AF-1943183E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451-793F-4783-9E79-EA66F2EB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3E1-9A6B-4ADF-91A3-93719F13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DD6-86D8-4FA3-9DBC-C60D63F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101-7E0B-4EF0-A8DC-53EAF64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005-5EAA-4B14-A195-51F122E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B7DB-742F-4310-B3B2-A0F54474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6321600"/>
            <a:ext cx="111600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404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版一年级数学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03280" y="2276640"/>
            <a:ext cx="6481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>
                    <a:alpha val="92000"/>
                  </a:srgbClr>
                </a:solidFill>
                <a:latin typeface="宋体"/>
              </a:rPr>
              <a:t>加减混合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>
                  <a:alpha val="92000"/>
                </a:srgbClr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+3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-9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0+9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457200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+3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+4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042920" y="333360"/>
            <a:ext cx="1700280" cy="82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口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657600" y="38088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-3+2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-3+3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362320" y="2438280"/>
            <a:ext cx="30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+7-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-4+1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419720" y="457200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+2-8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+1-7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xiaoren"/>
          <p:cNvPicPr/>
          <p:nvPr/>
        </p:nvPicPr>
        <p:blipFill>
          <a:blip r:embed="rId1"/>
          <a:stretch/>
        </p:blipFill>
        <p:spPr>
          <a:xfrm>
            <a:off x="755640" y="1628640"/>
            <a:ext cx="1119240" cy="3600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5"/>
          <p:cNvSpPr/>
          <p:nvPr/>
        </p:nvSpPr>
        <p:spPr>
          <a:xfrm>
            <a:off x="6095880" y="380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095880" y="12794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334120" y="24224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5334120" y="33368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781680" y="455616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6781680" y="547056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1484280"/>
            <a:ext cx="813744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6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学习目标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通过练习，使同学们能够正确地计算加减混合算式，并能够熟练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5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0" y="457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计算，找出得数比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的算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838080" y="17524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+4=8    2+6=8    9-1=8   4+3        2+4         9-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5+4        2+7         9-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1676520" y="25909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4495680" y="259092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238880" y="259092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1" descr="跳舞的熊"/>
          <p:cNvPicPr/>
          <p:nvPr/>
        </p:nvPicPr>
        <p:blipFill>
          <a:blip r:embed="rId1"/>
          <a:stretch/>
        </p:blipFill>
        <p:spPr>
          <a:xfrm>
            <a:off x="5148360" y="4653000"/>
            <a:ext cx="1296720" cy="1235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跳舞的熊"/>
          <p:cNvPicPr/>
          <p:nvPr/>
        </p:nvPicPr>
        <p:blipFill>
          <a:blip r:embed="rId2"/>
          <a:stretch/>
        </p:blipFill>
        <p:spPr>
          <a:xfrm>
            <a:off x="1908000" y="4724280"/>
            <a:ext cx="1297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1628640"/>
            <a:ext cx="8280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总结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通过对本节课的学习，同学们能够熟练计算加减混合算式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43828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43828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12760" y="971640"/>
            <a:ext cx="222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+4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3828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7200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43828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-3+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0" y="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+3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05720" y="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438280" y="3429000"/>
            <a:ext cx="21337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57200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705720" y="3429000"/>
            <a:ext cx="24382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02:24:35Z</dcterms:created>
  <dc:creator>hello</dc:creator>
  <dc:description/>
  <dc:language>en-US</dc:language>
  <cp:lastModifiedBy>Administrator</cp:lastModifiedBy>
  <dcterms:modified xsi:type="dcterms:W3CDTF">2015-01-23T03:48:45Z</dcterms:modified>
  <cp:revision>43</cp:revision>
  <dc:subject/>
  <dc:title>没有幻灯片标题</dc:title>
</cp:coreProperties>
</file>