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02F0-CCE4-435A-9554-971C481B4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C0E8-6D0E-4227-A651-C976D0C42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7F64-41BA-4B0F-9975-8E4A1AC63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B4B7-D558-418C-AAC8-EA4235040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CE70-C463-4D73-B0E8-F9D113FD8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9C68-D94D-406E-BD7D-ACC3FA55D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B8E3-ADD5-4D86-A343-A56FCBE7A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5A15-BC64-4926-9804-1BE0058B6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7C32-FE8B-4F33-9B76-258FC4207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D706-CF00-4299-99C5-D6F37D03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1CD5-2FCC-4597-BDB7-DB74915A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C9BC-70D7-4085-9F75-5BDE7F3B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F2023-0A51-4A41-9498-8C26B3C8287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524880" cy="6842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524880" cy="684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 txBox="1"/>
          <p:nvPr/>
        </p:nvSpPr>
        <p:spPr>
          <a:xfrm>
            <a:off x="1908000" y="988920"/>
            <a:ext cx="6427800" cy="229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81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黑体"/>
              </a:rPr>
              <a:t>量一量 找规律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4" name=""/>
          <p:cNvSpPr/>
          <p:nvPr/>
        </p:nvSpPr>
        <p:spPr>
          <a:xfrm>
            <a:off x="4492800" y="429912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-36360" y="-2700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6360" y="-2700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 txBox="1"/>
          <p:nvPr/>
        </p:nvSpPr>
        <p:spPr>
          <a:xfrm>
            <a:off x="2158920" y="2300400"/>
            <a:ext cx="5653080" cy="199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你有哪些收获？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07960" y="25560"/>
            <a:ext cx="8128080" cy="680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1763640" y="2349360"/>
            <a:ext cx="424836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同学们再见</a:t>
            </a:r>
            <a:r>
              <a:rPr b="1" lang="en-US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!</a:t>
            </a:r>
            <a:endParaRPr b="1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187280" y="187200"/>
            <a:ext cx="7561440" cy="4537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623680" y="4854600"/>
            <a:ext cx="479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你们认为弹簧伸长的长度和拉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的大小有什么关系呢？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26920" y="33336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制作修整简易秤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258920" y="1916280"/>
            <a:ext cx="7200720" cy="4182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7020000" y="-316080"/>
            <a:ext cx="190800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042920" y="409680"/>
            <a:ext cx="7201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实验要点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明确测量的起点和终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稳定状态再测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摆正尺子，不可歪斜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④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读数时，视线要与刻度水平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⑤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设法使铁棒保持水平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边测量数据，边填写实验记录单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84360" y="2421000"/>
            <a:ext cx="7920000" cy="3267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539000" y="114300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完成实验记录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6408720" y="441360"/>
            <a:ext cx="190836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68040" y="189000"/>
            <a:ext cx="267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绘制折线统计图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792000" y="907920"/>
            <a:ext cx="7667640" cy="4537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7020000" y="-63360"/>
            <a:ext cx="1908000" cy="190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20840" y="559584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观察统计图中的曲线信息，你发现了什么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492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042920" y="692280"/>
            <a:ext cx="5594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要称量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书，皮筋会伸长多少呢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56920" y="4221000"/>
            <a:ext cx="358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本书呢？……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对皮筋有什么要求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72000" y="2727360"/>
            <a:ext cx="406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总长＝伸长数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×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本数＋原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171440" y="711360"/>
            <a:ext cx="188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课堂检测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6408720" y="44280"/>
            <a:ext cx="1908360" cy="1908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122720" y="15318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Times New Roman"/>
              </a:rPr>
              <a:t>下面是聪聪和明明用弹簧秤称量语文课本的实验数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826920" y="2851200"/>
          <a:ext cx="8190000" cy="1441440"/>
        </p:xfrm>
        <a:graphic>
          <a:graphicData uri="http://schemas.openxmlformats.org/drawingml/2006/table">
            <a:tbl>
              <a:tblPr/>
              <a:tblGrid>
                <a:gridCol w="1770120"/>
                <a:gridCol w="1113120"/>
                <a:gridCol w="1060200"/>
                <a:gridCol w="1063800"/>
                <a:gridCol w="1060200"/>
                <a:gridCol w="1059120"/>
                <a:gridCol w="1063440"/>
              </a:tblGrid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所称课本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弹簧总长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 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弹簧伸长长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 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 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 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"/>
          <p:cNvSpPr/>
          <p:nvPr/>
        </p:nvSpPr>
        <p:spPr>
          <a:xfrm>
            <a:off x="1204920" y="210816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6600cc"/>
                </a:solidFill>
                <a:latin typeface="Times New Roman"/>
              </a:rPr>
              <a:t>请完成下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81720" y="4551480"/>
            <a:ext cx="601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6600cc"/>
                </a:solidFill>
                <a:latin typeface="Times New Roman"/>
              </a:rPr>
              <a:t>根据实验数据总结出弹簧长度（用</a:t>
            </a:r>
            <a:r>
              <a:rPr b="1" lang="zh-CN" sz="2400" spc="-1" strike="noStrike">
                <a:solidFill>
                  <a:srgbClr val="6600cc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6600cc"/>
                </a:solidFill>
                <a:latin typeface="Times New Roman"/>
              </a:rPr>
              <a:t>表示）和课本数（用</a:t>
            </a:r>
            <a:r>
              <a:rPr b="1" lang="zh-CN" sz="24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6600cc"/>
                </a:solidFill>
                <a:latin typeface="Times New Roman"/>
              </a:rPr>
              <a:t>表示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Times New Roman"/>
              </a:rPr>
              <a:t>之间的关系：＿＿＿＿＿＿＿＿＿＿＿＿＿＿＿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69080" y="3332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81920" y="378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86520" y="3284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108920" y="3789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094520" y="3259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245440" y="3789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245440" y="3284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64720" y="4869000"/>
            <a:ext cx="12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y= 3x+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7020000" y="-63360"/>
            <a:ext cx="1908000" cy="190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171080" y="711360"/>
            <a:ext cx="186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课堂检测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00200" y="1844640"/>
            <a:ext cx="6019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思考题：数学兴趣小组再用皮筋称量数学课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时，在称到第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本时，皮筋总长度是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24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厘米，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到第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11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本时皮筋总长度仍是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24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厘米，请解释是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么原因？如果继续称下去可能会出现什么样的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象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07520" y="4522680"/>
            <a:ext cx="1317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答：皮筋超过其弹性限度，所以不再伸长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能出现皮筋断掉的现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7T07:24:11Z</dcterms:created>
  <dc:creator>teacher1</dc:creator>
  <dc:description/>
  <dc:language>en-US</dc:language>
  <cp:lastModifiedBy>微软用户</cp:lastModifiedBy>
  <dcterms:modified xsi:type="dcterms:W3CDTF">2012-05-24T00:38:59Z</dcterms:modified>
  <cp:revision>17</cp:revision>
  <dc:subject/>
  <dc:title>PowerPoint 演示文稿</dc:title>
</cp:coreProperties>
</file>