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779-8719-45F8-9DFB-2DF6D823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3CC-CE56-4D39-943F-9A14F83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58F-75FB-4139-BE68-BD33D167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A91-CD73-4481-9619-1D3AF093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A1FF-3E2E-4A17-90EE-530D4845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832-77AC-424E-9EF0-82B4C0CE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F4C-69F4-4C13-9B00-1F82667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79F-91FB-4FF3-BC25-D39C7729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220-F144-4B41-B531-C1267ADB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F64-414D-4FD3-B66D-A168B54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13D-733C-4B54-BB9B-B0FED347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680-8010-412C-8635-53EEC78A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AF44-6F06-4A90-A74E-03369C3077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222560" y="10717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501200" y="354204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382400" y="107172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426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640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569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711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712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283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855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52862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3140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3354840" y="398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140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072040" y="1857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855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640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997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4283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26T09:18:47Z</dcterms:modified>
  <cp:revision>49</cp:revision>
  <dc:subject/>
  <dc:title>幻灯片 1</dc:title>
</cp:coreProperties>
</file>