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gif" ContentType="image/gif"/>
  <Override PartName="/ppt/media/image9.jpeg" ContentType="image/jpeg"/>
  <Override PartName="/ppt/media/image11.jpeg" ContentType="image/jpeg"/>
  <Override PartName="/ppt/media/image16.gif" ContentType="image/gif"/>
  <Override PartName="/ppt/media/chimes.wav" ContentType="audio/x-wav"/>
  <Override PartName="/ppt/media/image6.jpeg" ContentType="image/jpeg"/>
  <Override PartName="/ppt/media/image15.png" ContentType="image/png"/>
  <Override PartName="/ppt/media/image14.wmf" ContentType="image/x-wmf"/>
  <Override PartName="/ppt/media/image5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29B3-EC6F-4016-9F61-1E58AF13A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AF73-5F06-4EEE-9B51-620A79D5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DA9EB-D62F-45B0-AE4A-82420F8D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31C491-FCE2-4050-91A5-3E93769C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9E93F-E6FE-4CEA-9F8F-124ED0AE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70841B-0A74-41D9-8A66-A87D740C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67F62-89BF-4B5B-A6EA-9E90F5AE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268E5-5CF1-442F-8A50-3294F759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299DF-2123-4355-8F20-BFEADF0B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478B91-07E7-4009-B546-964F1C67C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E4B92-54A6-44A9-A579-4FDDE1677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3FE0C0-11DB-4756-852F-C63EB5668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82EF-9BE7-43D1-A87E-E6D33BB4F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5E9BA6-61C9-48A3-BEA3-6106B478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C33035-B7D1-4470-B813-79EA24B9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6EE64A-FA30-403A-89BF-78083A0B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46D4D7-9693-4289-A80E-A6D87F0A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43D7A7-6CD7-4064-A10C-A686C49B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0A0A58-D6A6-41DE-A17F-BDAA2AAB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D997EF-2C92-4652-A414-176429CE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3A6ECB-1568-4619-95C9-8898AE06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C788D8-37DC-42F5-BC2A-5E0FA757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FED88-35AA-44F4-B15B-CD8BD8528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0D29-A32A-429E-94B4-B7499369B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59E4F9-EC53-4823-B55F-0EEC7D4C4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CD829B-2844-4733-9004-4864DEC44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78BBC6-9A11-4E22-832D-AE4A5879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77D2C-DFF5-4AFC-B0FD-EFB32FFD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129506-60CD-46BB-8673-3BD46843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30D4F-BF58-44FA-9797-AB9FCD7D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77B05-DC57-4973-90E7-4E4DA8BF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2071C-848D-43E5-899B-1FD4738C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F73FE-D457-41A2-8F36-FC4CF6BA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400D3-8209-401C-B6A1-1EF6C3F2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4588-378E-45A8-8847-48518F637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D3A27-160C-4649-8EA9-FCB79CA0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B79C0-96A2-4CE5-B510-EB7CB1E25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83FA6-6CDF-493E-A865-03B3CC61A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676281-CEDE-4CF6-A574-76A74EBCC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8FABF6-7990-4504-9C61-9EC8CFE3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8C2FAD-0191-4EE1-9D93-ED3D064C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1FFD2D-E584-4041-8CD1-47530CB9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2BA1CC-E7C1-417A-84C1-F6244136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EF5EA2-B014-4FEE-9708-D1C0D3ED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451D11-677F-4F3D-9DA1-80493B07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A83B-F6DB-4E2D-8B08-4436FACE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F28C56-B09E-44FE-8CB7-FEB1444F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73A7B7-3979-476B-835D-BC8C36ED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9CE10F-B71F-413A-A546-B7F3A1C8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9D1595-4D8F-4D91-9A8F-951F5E258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CF79B0-6BA6-4487-95B1-23CA39AB1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83ACF-24F4-4F93-A5AD-94913151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0B3C-0846-4739-ADB9-CCE0E8D2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E916-07CB-4248-B9CC-34D87A59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D6A4-3AAF-4690-ACFF-44E9DA29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DDA21-E39C-4FEC-A684-65E67D2F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6911-4C82-461D-B19D-7252E22C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5B10-2F0E-469A-87FB-0576E890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B83E-2441-44DA-A103-D9EEAAFF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7CBB-EEDE-450B-A27F-92DAF25A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22196-0B0C-4E66-8160-91F972708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06AC-5CCC-4350-A4CA-DB71BAC9F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C02E7-512B-4D08-A914-FC25AE7FB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0B149-930F-446E-A34A-4ED22E0D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37111-9BD5-4382-AD90-72AC41E6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3A41C-2C90-4829-A880-062829B7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2A4C1-3752-41F6-9C50-D04F83E9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0F6A-6A7D-4E10-9F47-4B9EA642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A738D-0D36-47A1-8AF6-026C9A46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8B342-6BDC-4A2B-980F-7C7F5BCA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3CBF2-1151-4F06-8219-2973668D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BA4E0-BE5E-44AE-B0B6-B0940E6D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CEE99-F498-4E7F-A006-C09B8395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B6869-7958-4537-BCC8-F0A843F67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CF207-E96B-4288-B9E1-758D46A4A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A2985-A117-4286-9925-182CFF77A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98260-CC23-46F6-BB76-D812CA3B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707DE-F360-4688-87BD-BB60B5DF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7C51-643C-48DA-8F4A-6E184C1D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1CDB0-FBE3-44CC-99DF-984DC91B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146AE-DA00-48CB-A84A-E4B28546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6290C-1769-44BB-AD98-522ED4F6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795E3-BA47-4E61-A7D3-B00B68C6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6031D-C4CF-4C8F-8074-2F80F527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6FD4C-DDB6-49F8-842C-6228A343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AE0E1-7B69-4624-8394-93E97755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8A7C9-3907-4D05-AB97-B2E7FDC1F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81AED-C968-493B-9AD1-2E6B69D8E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7A726-2A74-426C-9C1D-E8A489531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3A4F-8BCA-44B7-A948-495FD883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19710-E423-4669-8022-278A53DE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F5AE3-EA91-4643-8EBC-AC8FF62D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7489A-2E9D-4E66-97FA-FF2BDB9F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39F26-A8C0-402F-8C46-A8D10E37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7B147-ECE6-4DC4-B3CF-D333BE7D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D8E70-7BD9-40D0-88D4-97FA5337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498ED-6870-4041-8FA1-C74DC70B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B1F5C-B8AA-4BCC-9C74-07DD71E3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6C93D-07AA-4A78-AB81-A1701552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12598-5CAB-4EAD-B1A1-A5CDBA37F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937C-E411-4F82-AE71-FF2D9851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4F2BA-C113-4FA8-9CF6-646FF174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6A43E-715D-4031-9735-A588E116F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56B4A-62E6-4638-B77E-ABA0E830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59C79-BB4C-42C3-B090-C99D3EE7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82385-665B-42DC-B9DD-726543B6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78DEB-A5C4-474F-8C6B-9BD8B454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42DAB-778B-45AA-B487-2766788E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8C319-8772-4CE6-AB24-E1017023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FB5C9-1462-4FD3-BC1E-371C5912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012A1-1DFF-4A7A-8C4B-0D9F8DC9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074D-F4D3-4548-84A2-FD40DFBB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A6217-8F5A-4A9D-86B6-88588371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4BFB3-C11A-4608-980F-1FA23EBD9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BDEEE-311C-4516-9921-97F3C5CC4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F545E-46D6-47F5-B54A-17967BFAE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F98F5-161D-41FF-A1CC-68BF6C76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0B8F7-9ECD-40D7-9639-62B2F6C7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CF8E2-D98A-4FA9-B957-DC735E64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46B81-34B1-48D3-8E51-2D3CCCB4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B9B2C-8824-4FDC-8BA0-00A76818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6F948-2430-4C12-AB0A-F7E30E35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DBE5-8B90-4A08-BDD9-E6A4EEAC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05644-9BC0-4DDF-BF34-97EE7891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1292F-AE29-4534-91E8-965CC1E2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E410C-E993-4C3A-B047-D25C2140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2E508-9B79-4EE6-BBEE-A8B4F6A6C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8661B-2CCD-482C-9017-ECB8E3ABB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BE7A9-27BF-4626-AF9A-8ACDA6EB8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602A9-20BA-4B85-9BE2-28544877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44844-DC5F-425E-878F-7A2686C4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1AB6C-A39E-475B-BDBE-78700514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9F42D-A3EF-4598-BCCB-65E64803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833B-A01B-446B-AE97-EE03C755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AD907-D12A-44E4-8935-89F98DC2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DC587-FCC1-4B37-8E76-8CCDB9F3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CFEB7-91C0-4866-B1D0-C0F4A093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EEBD0-D775-4433-A265-3D917AD5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0557F-5009-45B9-ADD2-691A47A9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9B1FB-5CDB-43E2-B370-06C4F3883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3756F-DA12-42BE-9606-DCE6855EC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3F1B5-BD37-42A6-90E0-F85D9A908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1A1CF-DB73-4E19-BBA9-3CCE61D3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73142-82E8-4E35-AA43-90A49250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65E2-2141-43E7-9E95-4E0ED4C11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1382-9AB0-44D7-9FF1-1B927B7EA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7D5B-42EE-4D42-8599-D326DB4FE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7844-AAF3-4DC9-BECB-87DDF0ADD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0410-C6C4-4669-B808-00D448853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8767-A165-4777-85B0-AAA9A73EA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EF89-2DE7-4CD3-B6CF-87A98A754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ECC9-6D4A-4643-9ECA-4EB1692B0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FE5D-A310-4502-A7D1-9A56007FB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DB23-FE36-473F-8D56-731032387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D093-B066-49DC-BF7C-2A8C912EA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2FEB-1FD8-433B-A9B6-E202EAC99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hi.baidu.com/poeticchemistry/album/item/09f4c7005557b7cd267fb586.html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cs.sucaiw.com/images.asp?url=http://py.sucaiw.com/&#21160;&#30011;&#31867;/&#19968;&#33324;&#21160;&#30011;/&#9733;&#20799;&#31461;//&amp;pic=gif&amp;num=356&amp;ext=.gif&amp;picall=388" TargetMode="External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6.xm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5"/>
          <p:cNvSpPr/>
          <p:nvPr/>
        </p:nvSpPr>
        <p:spPr>
          <a:xfrm>
            <a:off x="1714680" y="1928880"/>
            <a:ext cx="4730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楷体"/>
                <a:ea typeface="楷体"/>
              </a:rPr>
              <a:t>春 晓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2" descr="09f4c7005557b7cd267fb58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3"/>
          <p:cNvSpPr/>
          <p:nvPr/>
        </p:nvSpPr>
        <p:spPr>
          <a:xfrm>
            <a:off x="3348000" y="436572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Arial"/>
                <a:ea typeface="楷体_GB2312"/>
              </a:rPr>
              <a:t>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5867280" y="4437000"/>
            <a:ext cx="12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Arial"/>
                <a:ea typeface="楷体_GB2312"/>
              </a:rPr>
              <a:t>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5" descr="点击放大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429000"/>
            <a:ext cx="2195640" cy="2120760"/>
          </a:xfrm>
          <a:prstGeom prst="rect">
            <a:avLst/>
          </a:prstGeom>
          <a:ln w="0">
            <a:noFill/>
          </a:ln>
        </p:spPr>
      </p:pic>
      <p:sp>
        <p:nvSpPr>
          <p:cNvPr id="529" name="AutoShape 6"/>
          <p:cNvSpPr/>
          <p:nvPr/>
        </p:nvSpPr>
        <p:spPr>
          <a:xfrm>
            <a:off x="0" y="1413000"/>
            <a:ext cx="1476360" cy="1584360"/>
          </a:xfrm>
          <a:prstGeom prst="wedgeEllipseCallout">
            <a:avLst>
              <a:gd name="adj1" fmla="val 30754"/>
              <a:gd name="adj2" fmla="val 745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帮我认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7"/>
          <p:cNvSpPr/>
          <p:nvPr/>
        </p:nvSpPr>
        <p:spPr>
          <a:xfrm>
            <a:off x="3417120" y="227664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Arial"/>
              </a:rPr>
              <a:t>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8"/>
          <p:cNvSpPr/>
          <p:nvPr/>
        </p:nvSpPr>
        <p:spPr>
          <a:xfrm>
            <a:off x="3047400" y="1446120"/>
            <a:ext cx="12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宋体"/>
              </a:rPr>
              <a:t>ju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9"/>
          <p:cNvSpPr/>
          <p:nvPr/>
        </p:nvSpPr>
        <p:spPr>
          <a:xfrm>
            <a:off x="7449120" y="227664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Arial"/>
              </a:rPr>
              <a:t>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0"/>
          <p:cNvSpPr/>
          <p:nvPr/>
        </p:nvSpPr>
        <p:spPr>
          <a:xfrm>
            <a:off x="5504400" y="227664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Arial"/>
              </a:rPr>
              <a:t>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1"/>
          <p:cNvSpPr/>
          <p:nvPr/>
        </p:nvSpPr>
        <p:spPr>
          <a:xfrm>
            <a:off x="5459040" y="1425600"/>
            <a:ext cx="68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宋体"/>
              </a:rPr>
              <a:t>t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12"/>
          <p:cNvSpPr/>
          <p:nvPr/>
        </p:nvSpPr>
        <p:spPr>
          <a:xfrm>
            <a:off x="6892200" y="1341360"/>
            <a:ext cx="162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宋体"/>
              </a:rPr>
              <a:t>wé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3"/>
          <p:cNvSpPr/>
          <p:nvPr/>
        </p:nvSpPr>
        <p:spPr>
          <a:xfrm>
            <a:off x="3054960" y="3645000"/>
            <a:ext cx="160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宋体"/>
              </a:rPr>
              <a:t>miá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4"/>
          <p:cNvSpPr/>
          <p:nvPr/>
        </p:nvSpPr>
        <p:spPr>
          <a:xfrm>
            <a:off x="5636520" y="3716280"/>
            <a:ext cx="120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宋体"/>
              </a:rPr>
              <a:t>ch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2"/>
          <p:cNvSpPr/>
          <p:nvPr/>
        </p:nvSpPr>
        <p:spPr>
          <a:xfrm>
            <a:off x="1001160" y="11970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522240" y="11253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5609520" y="11970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1835280" y="3789360"/>
            <a:ext cx="140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眠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5249160" y="39337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395280" y="620640"/>
            <a:ext cx="468000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  <a:ea typeface="仿宋_GB2312"/>
              </a:rPr>
              <a:t>春 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仿宋_GB2312"/>
              </a:rPr>
              <a:t>　　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春 眠 不 觉 晓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处 处 闻 啼 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夜 来 风 雨 声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花 落 知 多 少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仿宋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3" descr="Snap28"/>
          <p:cNvPicPr/>
          <p:nvPr/>
        </p:nvPicPr>
        <p:blipFill>
          <a:blip r:embed="rId1"/>
          <a:stretch/>
        </p:blipFill>
        <p:spPr>
          <a:xfrm>
            <a:off x="4498920" y="2643120"/>
            <a:ext cx="4105440" cy="221472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4"/>
          <p:cNvSpPr/>
          <p:nvPr/>
        </p:nvSpPr>
        <p:spPr>
          <a:xfrm>
            <a:off x="2536920" y="1641600"/>
            <a:ext cx="160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孟浩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3" descr="Snap27"/>
          <p:cNvPicPr/>
          <p:nvPr/>
        </p:nvPicPr>
        <p:blipFill>
          <a:blip r:embed="rId1"/>
          <a:stretch/>
        </p:blipFill>
        <p:spPr>
          <a:xfrm>
            <a:off x="4284720" y="1052640"/>
            <a:ext cx="4427640" cy="417672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5"/>
          <p:cNvSpPr/>
          <p:nvPr/>
        </p:nvSpPr>
        <p:spPr>
          <a:xfrm>
            <a:off x="395280" y="620640"/>
            <a:ext cx="468000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  <a:ea typeface="仿宋_GB2312"/>
              </a:rPr>
              <a:t>春 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仿宋_GB2312"/>
              </a:rPr>
              <a:t>　　　　　孟浩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春 眠 不 觉 晓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处 处 闻 啼 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夜 来 风 雨 声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花 落 知 多 少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仿宋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春晓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-360" y="404280"/>
            <a:ext cx="442764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0066ff"/>
                </a:solidFill>
                <a:latin typeface="Arial"/>
              </a:rPr>
              <a:t>《</a:t>
            </a:r>
            <a:r>
              <a:rPr b="1" lang="zh-CN" sz="6000" spc="-1" strike="noStrike">
                <a:solidFill>
                  <a:srgbClr val="0066ff"/>
                </a:solidFill>
                <a:latin typeface="Arial"/>
              </a:rPr>
              <a:t>春晓</a:t>
            </a:r>
            <a:r>
              <a:rPr b="1" lang="en-US" sz="6000" spc="-1" strike="noStrike">
                <a:solidFill>
                  <a:srgbClr val="0066ff"/>
                </a:solidFill>
                <a:latin typeface="Arial"/>
              </a:rPr>
              <a:t>》</a:t>
            </a:r>
            <a:br>
              <a:rPr sz="6000"/>
            </a:br>
            <a:r>
              <a:rPr b="1" lang="en-US" sz="6000" spc="-1" strike="noStrike">
                <a:solidFill>
                  <a:srgbClr val="0066ff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孟浩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79280" y="2216160"/>
            <a:ext cx="432144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春眠不觉晓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处处闻啼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夜来风雨声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花落知多少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C:\wangcui\IMAGES\A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3"/>
          <p:cNvSpPr/>
          <p:nvPr/>
        </p:nvSpPr>
        <p:spPr>
          <a:xfrm>
            <a:off x="304920" y="1523880"/>
            <a:ext cx="121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2514600" y="304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眠：睡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2514600" y="16765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晓：天亮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2514600" y="23623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闻：听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2514600" y="31240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啼鸟：鸟啼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—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鸟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8"/>
          <p:cNvSpPr/>
          <p:nvPr/>
        </p:nvSpPr>
        <p:spPr>
          <a:xfrm>
            <a:off x="2514600" y="9907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觉：觉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3"/>
          <p:cNvSpPr/>
          <p:nvPr/>
        </p:nvSpPr>
        <p:spPr>
          <a:xfrm>
            <a:off x="228600" y="3809880"/>
            <a:ext cx="121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14"/>
          <p:cNvSpPr/>
          <p:nvPr/>
        </p:nvSpPr>
        <p:spPr>
          <a:xfrm>
            <a:off x="1523880" y="533520"/>
            <a:ext cx="685800" cy="3124080"/>
          </a:xfrm>
          <a:custGeom>
            <a:avLst/>
            <a:gdLst>
              <a:gd name="textAreaLeft" fmla="*/ 438120 w 685800"/>
              <a:gd name="textAreaRight" fmla="*/ 686160 w 68580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23"/>
          <p:cNvSpPr/>
          <p:nvPr/>
        </p:nvSpPr>
        <p:spPr>
          <a:xfrm>
            <a:off x="1600200" y="403848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春眠不觉晓，处处闻啼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26"/>
          <p:cNvSpPr/>
          <p:nvPr/>
        </p:nvSpPr>
        <p:spPr>
          <a:xfrm>
            <a:off x="685800" y="54864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释义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</a:rPr>
              <a:t>：</a:t>
            </a:r>
            <a:r>
              <a:rPr b="0" lang="zh-CN" sz="2400" spc="-1" strike="noStrike" u="sng">
                <a:solidFill>
                  <a:srgbClr val="ffff66"/>
                </a:solidFill>
                <a:uFillTx/>
                <a:latin typeface="Times New Roman"/>
              </a:rPr>
              <a:t>                                                                           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27"/>
          <p:cNvSpPr/>
          <p:nvPr/>
        </p:nvSpPr>
        <p:spPr>
          <a:xfrm>
            <a:off x="1828800" y="50292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春天的夜里睡的很香，不知不觉地天已亮了，窗外传来一片悦耳的鸟叫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C:\wangcui\IMAGES\A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64" name="Rectangle 3"/>
          <p:cNvSpPr/>
          <p:nvPr/>
        </p:nvSpPr>
        <p:spPr>
          <a:xfrm>
            <a:off x="3171960" y="1523880"/>
            <a:ext cx="597204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春眠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/</a:t>
            </a:r>
            <a:r>
              <a:rPr b="1" lang="zh-CN" sz="6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不</a:t>
            </a: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觉晓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处处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/</a:t>
            </a:r>
            <a:r>
              <a:rPr b="1" lang="zh-CN" sz="6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闻</a:t>
            </a: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啼鸟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4"/>
          <p:cNvSpPr/>
          <p:nvPr/>
        </p:nvSpPr>
        <p:spPr>
          <a:xfrm>
            <a:off x="2362320" y="1905120"/>
            <a:ext cx="533160" cy="2057400"/>
          </a:xfrm>
          <a:custGeom>
            <a:avLst/>
            <a:gdLst>
              <a:gd name="textAreaLeft" fmla="*/ 340560 w 533160"/>
              <a:gd name="textAreaRight" fmla="*/ 533520 w 53316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766440" y="1752480"/>
            <a:ext cx="15210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99"/>
                </a:solidFill>
                <a:latin typeface="隶书"/>
                <a:ea typeface="隶书"/>
              </a:rPr>
              <a:t>所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C:\wangcui\IMAGES\A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68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2860560" cy="2370240"/>
          </a:xfrm>
          <a:prstGeom prst="rect">
            <a:avLst/>
          </a:prstGeom>
          <a:ln w="0">
            <a:noFill/>
          </a:ln>
        </p:spPr>
      </p:pic>
      <p:sp>
        <p:nvSpPr>
          <p:cNvPr id="569" name="WordArt 5"/>
          <p:cNvSpPr txBox="1"/>
          <p:nvPr/>
        </p:nvSpPr>
        <p:spPr>
          <a:xfrm>
            <a:off x="2590920" y="380880"/>
            <a:ext cx="2286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自  学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0" name="Text Box 6"/>
          <p:cNvSpPr/>
          <p:nvPr/>
        </p:nvSpPr>
        <p:spPr>
          <a:xfrm>
            <a:off x="2209680" y="175248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夜来风雨声，花落知多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762120" y="358128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隶书"/>
              </a:rPr>
              <a:t>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8"/>
          <p:cNvSpPr/>
          <p:nvPr/>
        </p:nvSpPr>
        <p:spPr>
          <a:xfrm>
            <a:off x="1600200" y="2971800"/>
            <a:ext cx="380880" cy="2057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9"/>
          <p:cNvSpPr/>
          <p:nvPr/>
        </p:nvSpPr>
        <p:spPr>
          <a:xfrm>
            <a:off x="2133720" y="28195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夜：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Times New Roman"/>
              </a:rPr>
              <a:t>            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0"/>
          <p:cNvSpPr/>
          <p:nvPr/>
        </p:nvSpPr>
        <p:spPr>
          <a:xfrm>
            <a:off x="2133720" y="34290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声：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Times New Roman"/>
              </a:rPr>
              <a:t>            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1"/>
          <p:cNvSpPr/>
          <p:nvPr/>
        </p:nvSpPr>
        <p:spPr>
          <a:xfrm>
            <a:off x="2133720" y="396252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落：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Times New Roman"/>
              </a:rPr>
              <a:t>            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2"/>
          <p:cNvSpPr/>
          <p:nvPr/>
        </p:nvSpPr>
        <p:spPr>
          <a:xfrm>
            <a:off x="2133720" y="457200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知：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Times New Roman"/>
              </a:rPr>
              <a:t>            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3"/>
          <p:cNvSpPr/>
          <p:nvPr/>
        </p:nvSpPr>
        <p:spPr>
          <a:xfrm>
            <a:off x="685800" y="556272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隶书"/>
              </a:rPr>
              <a:t>句：</a:t>
            </a:r>
            <a:r>
              <a:rPr b="1" lang="zh-CN" sz="4800" spc="-1" strike="noStrike" u="sng">
                <a:solidFill>
                  <a:srgbClr val="333399"/>
                </a:solidFill>
                <a:uFillTx/>
                <a:latin typeface="Times New Roman"/>
                <a:ea typeface="隶书"/>
              </a:rPr>
              <a:t>                                        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隶书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5"/>
          <p:cNvSpPr/>
          <p:nvPr/>
        </p:nvSpPr>
        <p:spPr>
          <a:xfrm>
            <a:off x="3200400" y="27432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夜  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6"/>
          <p:cNvSpPr/>
          <p:nvPr/>
        </p:nvSpPr>
        <p:spPr>
          <a:xfrm>
            <a:off x="3124080" y="3505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8"/>
          <p:cNvSpPr/>
          <p:nvPr/>
        </p:nvSpPr>
        <p:spPr>
          <a:xfrm>
            <a:off x="3200400" y="33526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声  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20"/>
          <p:cNvSpPr/>
          <p:nvPr/>
        </p:nvSpPr>
        <p:spPr>
          <a:xfrm>
            <a:off x="3200400" y="3886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落下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21"/>
          <p:cNvSpPr/>
          <p:nvPr/>
        </p:nvSpPr>
        <p:spPr>
          <a:xfrm>
            <a:off x="3200400" y="44956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知   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23"/>
          <p:cNvSpPr/>
          <p:nvPr/>
        </p:nvSpPr>
        <p:spPr>
          <a:xfrm>
            <a:off x="2057400" y="51814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我忽然想起昨夜的风雨声，花儿落下了不知道有多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75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75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75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75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C:\wangcui\IMAGES\A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85" name="Rectangle 3"/>
          <p:cNvSpPr/>
          <p:nvPr/>
        </p:nvSpPr>
        <p:spPr>
          <a:xfrm>
            <a:off x="3703680" y="1447920"/>
            <a:ext cx="41655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夜来</a:t>
            </a:r>
            <a:r>
              <a:rPr b="1" lang="en-US" sz="7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/</a:t>
            </a:r>
            <a:r>
              <a:rPr b="1" lang="zh-CN" sz="7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风雨声</a:t>
            </a:r>
            <a:r>
              <a:rPr b="1" lang="zh-CN" sz="7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花落</a:t>
            </a:r>
            <a:r>
              <a:rPr b="1" lang="en-US" sz="7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/</a:t>
            </a:r>
            <a:r>
              <a:rPr b="1" lang="zh-CN" sz="7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知多少</a:t>
            </a:r>
            <a:r>
              <a:rPr b="1" lang="zh-CN" sz="7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4"/>
          <p:cNvSpPr/>
          <p:nvPr/>
        </p:nvSpPr>
        <p:spPr>
          <a:xfrm>
            <a:off x="2209680" y="1676520"/>
            <a:ext cx="533520" cy="2361960"/>
          </a:xfrm>
          <a:custGeom>
            <a:avLst/>
            <a:gdLst>
              <a:gd name="textAreaLeft" fmla="*/ 340920 w 533520"/>
              <a:gd name="textAreaRight" fmla="*/ 533880 w 53352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5"/>
          <p:cNvSpPr/>
          <p:nvPr/>
        </p:nvSpPr>
        <p:spPr>
          <a:xfrm>
            <a:off x="-179280" y="1676520"/>
            <a:ext cx="237492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99"/>
                </a:solidFill>
                <a:latin typeface="经典隶书简"/>
                <a:ea typeface="经典隶书简"/>
              </a:rPr>
              <a:t>所 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6" descr="C:\Htm\ARRO13W1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162920" y="5562720"/>
            <a:ext cx="1371600" cy="8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4"/>
          <p:cNvSpPr/>
          <p:nvPr/>
        </p:nvSpPr>
        <p:spPr>
          <a:xfrm>
            <a:off x="5328000" y="2343240"/>
            <a:ext cx="274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第一句讲春天的夜里睡得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香，不知不觉地天已亮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窗外传来一片悦耳的鸟叫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5221080" y="4149720"/>
            <a:ext cx="295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第二句讲蒙胧中想起昨天夜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听见刮风下雨的声音，经过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吹雨打，不知有多少花朵凋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6"/>
          <p:cNvSpPr/>
          <p:nvPr/>
        </p:nvSpPr>
        <p:spPr>
          <a:xfrm>
            <a:off x="395280" y="620640"/>
            <a:ext cx="468000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  <a:ea typeface="仿宋_GB2312"/>
              </a:rPr>
              <a:t>春 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仿宋_GB2312"/>
              </a:rPr>
              <a:t>　　　　　孟浩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春 眠 不 觉 晓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处 处 闻 啼 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夜 来 风 雨 声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花 落 知 多 少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仿宋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2" descr="E:\wendang\My Pictures\spring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4" name="Text Box 5"/>
          <p:cNvSpPr/>
          <p:nvPr/>
        </p:nvSpPr>
        <p:spPr>
          <a:xfrm>
            <a:off x="1676520" y="525780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春天，万木吐绿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1.wav" descr=""/>
          <p:cNvPicPr/>
          <p:nvPr/>
        </p:nvPicPr>
        <p:blipFill>
          <a:blip r:embed="rId2"/>
          <a:stretch/>
        </p:blipFill>
        <p:spPr>
          <a:xfrm>
            <a:off x="8381880" y="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2"/>
          <p:cNvSpPr/>
          <p:nvPr/>
        </p:nvSpPr>
        <p:spPr>
          <a:xfrm>
            <a:off x="838080" y="6858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3"/>
          <p:cNvSpPr/>
          <p:nvPr/>
        </p:nvSpPr>
        <p:spPr>
          <a:xfrm>
            <a:off x="1371600" y="304920"/>
            <a:ext cx="5257800" cy="20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5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8000"/>
                </a:solidFill>
                <a:latin typeface="Times New Roman"/>
                <a:ea typeface="经典楷体简"/>
              </a:rPr>
              <a:t>春眠不觉晓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8000"/>
                </a:solidFill>
                <a:latin typeface="Times New Roman"/>
                <a:ea typeface="经典楷体简"/>
              </a:rPr>
              <a:t>处处闻啼鸟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228600" y="2514600"/>
            <a:ext cx="815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经典黑体简"/>
              </a:rPr>
              <a:t>               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经典黑体简"/>
              </a:rPr>
              <a:t>春天夜里睡得很熟，天亮了还不知道。醒来以后，听到到处都 是鸟儿的叫声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3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3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3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63244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经典仿宋简"/>
              </a:rPr>
              <a:t>夜来风雨声，</a:t>
            </a:r>
            <a:br>
              <a:rPr sz="7200"/>
            </a:b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经典仿宋简"/>
              </a:rPr>
              <a:t>花落知多少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0" y="2666880"/>
            <a:ext cx="91440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经典楷体简"/>
              </a:rPr>
              <a:t>       </a:t>
            </a:r>
            <a:r>
              <a:rPr b="1" lang="zh-CN" sz="6000" spc="-1" strike="noStrike">
                <a:solidFill>
                  <a:srgbClr val="008000"/>
                </a:solidFill>
                <a:latin typeface="Arial"/>
                <a:ea typeface="经典楷体简"/>
              </a:rPr>
              <a:t>昨夜里听到一阵阵风雨声，被风吹雨打落下的花儿不知道有多少呢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2"/>
          <p:cNvSpPr/>
          <p:nvPr/>
        </p:nvSpPr>
        <p:spPr>
          <a:xfrm>
            <a:off x="1835280" y="620640"/>
            <a:ext cx="5256000" cy="49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  <a:ea typeface="仿宋_GB2312"/>
              </a:rPr>
              <a:t>春 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春 眠 </a:t>
            </a: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／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不 觉 晓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处 处 </a:t>
            </a: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／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闻 啼 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夜 来 </a:t>
            </a: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／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风 雨 声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花 落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仿宋_GB2312"/>
              </a:rPr>
              <a:t> </a:t>
            </a: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／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知 多 少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仿宋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3"/>
          <p:cNvSpPr/>
          <p:nvPr/>
        </p:nvSpPr>
        <p:spPr>
          <a:xfrm>
            <a:off x="3997440" y="186696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3997440" y="263700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3997080" y="3429000"/>
            <a:ext cx="18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.   .  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6"/>
          <p:cNvSpPr/>
          <p:nvPr/>
        </p:nvSpPr>
        <p:spPr>
          <a:xfrm>
            <a:off x="3997080" y="4221000"/>
            <a:ext cx="18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.   .  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ext Box 4"/>
          <p:cNvSpPr/>
          <p:nvPr/>
        </p:nvSpPr>
        <p:spPr>
          <a:xfrm>
            <a:off x="395280" y="620640"/>
            <a:ext cx="468000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  <a:ea typeface="仿宋_GB2312"/>
              </a:rPr>
              <a:t>春 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仿宋_GB2312"/>
              </a:rPr>
              <a:t>　　　　　孟浩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春 眠 不 觉 晓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处 处 闻 啼 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夜 来 风 雨 声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花 落 知 多 少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仿宋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5"/>
          <p:cNvSpPr/>
          <p:nvPr/>
        </p:nvSpPr>
        <p:spPr>
          <a:xfrm>
            <a:off x="5220720" y="2338560"/>
            <a:ext cx="274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思考：这首诗表达了作者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么样的思想感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6"/>
          <p:cNvSpPr/>
          <p:nvPr/>
        </p:nvSpPr>
        <p:spPr>
          <a:xfrm>
            <a:off x="6592320" y="3500280"/>
            <a:ext cx="35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这首诗表达了作者热爱春天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珍惜春光的思想感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8" descr="图片1"/>
          <p:cNvPicPr/>
          <p:nvPr/>
        </p:nvPicPr>
        <p:blipFill>
          <a:blip r:embed="rId1"/>
          <a:stretch/>
        </p:blipFill>
        <p:spPr>
          <a:xfrm>
            <a:off x="5508720" y="476280"/>
            <a:ext cx="2666880" cy="185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楷体_GB2312"/>
              </a:rPr>
              <a:t>近义词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3000"/>
          </a:bodyPr>
          <a:p>
            <a:pPr marL="7884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闻</a:t>
            </a:r>
            <a:r>
              <a:rPr b="1" lang="en-US" sz="8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---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7884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啼 </a:t>
            </a:r>
            <a:r>
              <a:rPr b="1" lang="en-US" sz="8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---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7884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处处</a:t>
            </a:r>
            <a:r>
              <a:rPr b="1" lang="en-US" sz="8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---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4"/>
          <p:cNvSpPr/>
          <p:nvPr/>
        </p:nvSpPr>
        <p:spPr>
          <a:xfrm>
            <a:off x="4876920" y="1447920"/>
            <a:ext cx="320040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7c80"/>
                </a:solidFill>
                <a:latin typeface="Times New Roman"/>
                <a:ea typeface="楷体_GB2312"/>
              </a:rPr>
              <a:t>听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7c80"/>
                </a:solidFill>
                <a:latin typeface="Times New Roman"/>
                <a:ea typeface="楷体_GB2312"/>
              </a:rPr>
              <a:t>叫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7c80"/>
                </a:solidFill>
                <a:latin typeface="Times New Roman"/>
                <a:ea typeface="楷体_GB2312"/>
              </a:rPr>
              <a:t>到处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327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ff"/>
                </a:solidFill>
                <a:latin typeface="Arial"/>
                <a:ea typeface="楷体_GB2312"/>
              </a:rPr>
              <a:t>反义词</a:t>
            </a:r>
            <a:r>
              <a:rPr b="0" lang="zh-CN" sz="6600" spc="-1" strike="noStrike">
                <a:solidFill>
                  <a:srgbClr val="0066ff"/>
                </a:solidFill>
                <a:latin typeface="Arial"/>
                <a:ea typeface="楷体_GB2312"/>
              </a:rPr>
              <a:t>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ff"/>
                </a:solidFill>
                <a:latin typeface="Arial"/>
                <a:ea typeface="楷体_GB2312"/>
              </a:rPr>
              <a:t>多</a:t>
            </a:r>
            <a:r>
              <a:rPr b="1" lang="en-US" sz="9600" spc="-1" strike="noStrike">
                <a:solidFill>
                  <a:srgbClr val="cc00ff"/>
                </a:solidFill>
                <a:latin typeface="Arial"/>
                <a:ea typeface="楷体_GB2312"/>
              </a:rPr>
              <a:t>---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ff"/>
                </a:solidFill>
                <a:latin typeface="Arial"/>
                <a:ea typeface="楷体_GB2312"/>
              </a:rPr>
              <a:t>来</a:t>
            </a:r>
            <a:r>
              <a:rPr b="1" lang="en-US" sz="9600" spc="-1" strike="noStrike">
                <a:solidFill>
                  <a:srgbClr val="cc00ff"/>
                </a:solidFill>
                <a:latin typeface="Arial"/>
                <a:ea typeface="楷体_GB2312"/>
              </a:rPr>
              <a:t>---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4"/>
          <p:cNvSpPr/>
          <p:nvPr/>
        </p:nvSpPr>
        <p:spPr>
          <a:xfrm>
            <a:off x="3733920" y="2209680"/>
            <a:ext cx="2514600" cy="30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9900"/>
                </a:solidFill>
                <a:latin typeface="Times New Roman"/>
                <a:ea typeface="经典楷体简"/>
              </a:rPr>
              <a:t>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9900"/>
                </a:solidFill>
                <a:latin typeface="Times New Roman"/>
                <a:ea typeface="经典楷体简"/>
              </a:rPr>
              <a:t>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3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30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3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3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00"/>
                </a:solidFill>
                <a:latin typeface="Arial"/>
                <a:ea typeface="楷体_GB2312"/>
              </a:rPr>
              <a:t>把笔画相同的字写在一起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0" y="198108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雨 来 春 知 声 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533520" y="3286080"/>
            <a:ext cx="8305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七画    八画    九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5"/>
          <p:cNvSpPr/>
          <p:nvPr/>
        </p:nvSpPr>
        <p:spPr>
          <a:xfrm>
            <a:off x="-228600" y="4267080"/>
            <a:ext cx="304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来 声</a:t>
            </a:r>
            <a:r>
              <a:rPr b="1" lang="en-US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2819520" y="4267080"/>
            <a:ext cx="320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雨 知</a:t>
            </a:r>
            <a:r>
              <a:rPr b="1" lang="en-US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7"/>
          <p:cNvSpPr/>
          <p:nvPr/>
        </p:nvSpPr>
        <p:spPr>
          <a:xfrm>
            <a:off x="5791320" y="4267080"/>
            <a:ext cx="3352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春 闻</a:t>
            </a:r>
            <a:r>
              <a:rPr b="1" lang="en-US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3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4"/>
          <p:cNvSpPr/>
          <p:nvPr/>
        </p:nvSpPr>
        <p:spPr>
          <a:xfrm>
            <a:off x="611280" y="1125360"/>
            <a:ext cx="8064360" cy="39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作业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、背诵并默写这首古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、搜集一篇有关描写春天的古诗背一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4" descr="E:\wendang\My Pictures\b04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5"/>
          <p:cNvSpPr/>
          <p:nvPr/>
        </p:nvSpPr>
        <p:spPr>
          <a:xfrm>
            <a:off x="2514600" y="525780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春天，山花烂漫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2.wav" descr=""/>
          <p:cNvPicPr/>
          <p:nvPr/>
        </p:nvPicPr>
        <p:blipFill>
          <a:blip r:embed="rId2"/>
          <a:stretch/>
        </p:blipFill>
        <p:spPr>
          <a:xfrm>
            <a:off x="990720" y="9144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99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499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4" descr="E:\wendang\My Pictures\er_inf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5"/>
          <p:cNvSpPr/>
          <p:nvPr/>
        </p:nvSpPr>
        <p:spPr>
          <a:xfrm>
            <a:off x="1676520" y="480060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春天，流水潺潺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3.wav" descr=""/>
          <p:cNvPicPr/>
          <p:nvPr/>
        </p:nvPicPr>
        <p:blipFill>
          <a:blip r:embed="rId2"/>
          <a:stretch/>
        </p:blipFill>
        <p:spPr>
          <a:xfrm>
            <a:off x="762120" y="9144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03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503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4" descr="E:\wendang\My Pictures\spring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5"/>
          <p:cNvSpPr/>
          <p:nvPr/>
        </p:nvSpPr>
        <p:spPr>
          <a:xfrm>
            <a:off x="2209680" y="5334120"/>
            <a:ext cx="609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春天，繁花满树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4.wav" descr=""/>
          <p:cNvPicPr/>
          <p:nvPr/>
        </p:nvPicPr>
        <p:blipFill>
          <a:blip r:embed="rId2"/>
          <a:stretch/>
        </p:blipFill>
        <p:spPr>
          <a:xfrm>
            <a:off x="762120" y="7621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5" descr="E:\wendang\编辑\下学期\二册\二单元\2春晓\图片 副本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9" name="Text Box 6"/>
          <p:cNvSpPr/>
          <p:nvPr/>
        </p:nvSpPr>
        <p:spPr>
          <a:xfrm>
            <a:off x="685800" y="3049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春天，有一位诗人写下了一首春天的诗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5.wav" descr=""/>
          <p:cNvPicPr/>
          <p:nvPr/>
        </p:nvPicPr>
        <p:blipFill>
          <a:blip r:embed="rId2"/>
          <a:stretch/>
        </p:blipFill>
        <p:spPr>
          <a:xfrm>
            <a:off x="838080" y="30492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5" dur="1" fill="hold"/>
                                  <p:tgtEl>
                                    <p:spTgt spid="5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510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510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5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目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认识古诗中的生字。正确流利地朗读古诗，背诵古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" descr="C:\wangcui\IMAGES\A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5" name="Text Box 4"/>
          <p:cNvSpPr/>
          <p:nvPr/>
        </p:nvSpPr>
        <p:spPr>
          <a:xfrm>
            <a:off x="1752480" y="380880"/>
            <a:ext cx="56390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春   晓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5"/>
          <p:cNvSpPr/>
          <p:nvPr/>
        </p:nvSpPr>
        <p:spPr>
          <a:xfrm flipH="1">
            <a:off x="2590560" y="2133720"/>
            <a:ext cx="6858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6"/>
          <p:cNvSpPr/>
          <p:nvPr/>
        </p:nvSpPr>
        <p:spPr>
          <a:xfrm>
            <a:off x="5867280" y="2133720"/>
            <a:ext cx="6858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7"/>
          <p:cNvSpPr/>
          <p:nvPr/>
        </p:nvSpPr>
        <p:spPr>
          <a:xfrm>
            <a:off x="1066680" y="31240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春    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8"/>
          <p:cNvSpPr/>
          <p:nvPr/>
        </p:nvSpPr>
        <p:spPr>
          <a:xfrm>
            <a:off x="5029200" y="31240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早   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13"/>
          <p:cNvGrpSpPr/>
          <p:nvPr/>
        </p:nvGrpSpPr>
        <p:grpSpPr>
          <a:xfrm>
            <a:off x="2666880" y="3962520"/>
            <a:ext cx="3657600" cy="1218960"/>
            <a:chOff x="2666880" y="3962520"/>
            <a:chExt cx="3657600" cy="1218960"/>
          </a:xfrm>
        </p:grpSpPr>
        <p:sp>
          <p:nvSpPr>
            <p:cNvPr id="521" name="Line 9"/>
            <p:cNvSpPr/>
            <p:nvPr/>
          </p:nvSpPr>
          <p:spPr>
            <a:xfrm>
              <a:off x="2666880" y="3962520"/>
              <a:ext cx="1676520" cy="1218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10"/>
            <p:cNvSpPr/>
            <p:nvPr/>
          </p:nvSpPr>
          <p:spPr>
            <a:xfrm flipH="1">
              <a:off x="4495680" y="3962520"/>
              <a:ext cx="1828800" cy="1207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Text Box 11"/>
          <p:cNvSpPr/>
          <p:nvPr/>
        </p:nvSpPr>
        <p:spPr>
          <a:xfrm>
            <a:off x="2514600" y="5105520"/>
            <a:ext cx="464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ffff66"/>
                </a:solidFill>
                <a:uFillTx/>
                <a:latin typeface="Times New Roman"/>
                <a:ea typeface="楷体_GB2312"/>
              </a:rPr>
              <a:t>春天的早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3"/>
          <p:cNvSpPr/>
          <p:nvPr/>
        </p:nvSpPr>
        <p:spPr>
          <a:xfrm>
            <a:off x="2124000" y="620640"/>
            <a:ext cx="4680000" cy="49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  <a:ea typeface="仿宋_GB2312"/>
              </a:rPr>
              <a:t>春 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春 眠 不 觉 晓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处 处 闻 啼 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夜 来 风 雨 声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花 落 知 多 少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仿宋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7T09:24:23Z</dcterms:created>
  <dc:creator>微软用户</dc:creator>
  <dc:description/>
  <dc:language>en-US</dc:language>
  <cp:lastModifiedBy>Administrator</cp:lastModifiedBy>
  <dcterms:modified xsi:type="dcterms:W3CDTF">2015-01-27T09:35:52Z</dcterms:modified>
  <cp:revision>17</cp:revision>
  <dc:subject/>
  <dc:title>幻灯片 1</dc:title>
</cp:coreProperties>
</file>