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F773756-9D65-40E1-86E8-B2CCDA32F35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95640" y="19890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中宋"/>
                <a:ea typeface="华文中宋"/>
              </a:rPr>
              <a:t>除法的初步认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04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华文中宋"/>
              </a:rPr>
              <a:t>人教版小学数学二年级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537372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38280" y="1905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8        4  =  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304920"/>
            <a:ext cx="5486400" cy="1295280"/>
          </a:xfrm>
          <a:prstGeom prst="cloudCallout">
            <a:avLst>
              <a:gd name="adj1" fmla="val -52259"/>
              <a:gd name="adj2" fmla="val 411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填上正确的答案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581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均分成           份，每份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365760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365760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191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0        2  =  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        平均分成           份，每份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5334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5334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05320" y="3581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581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334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1295640" cy="10224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304920" y="9907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943600" y="48006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30481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0       5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472428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5        3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1676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8        2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32004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18288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762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下面的算式，用       摆一摆，再填得数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6858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3124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1828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971800" y="472428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819520" y="1676520"/>
            <a:ext cx="1295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12193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火柴平均分成几堆，有几种不同分法？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（先分一分，再写出算式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4674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8580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61722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55627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49528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44197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"/>
          <a:stretch/>
        </p:blipFill>
        <p:spPr>
          <a:xfrm>
            <a:off x="39625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9"/>
          <a:stretch/>
        </p:blipFill>
        <p:spPr>
          <a:xfrm>
            <a:off x="34290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0"/>
          <a:stretch/>
        </p:blipFill>
        <p:spPr>
          <a:xfrm>
            <a:off x="28195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1"/>
          <a:stretch/>
        </p:blipFill>
        <p:spPr>
          <a:xfrm>
            <a:off x="22096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2"/>
          <a:stretch/>
        </p:blipFill>
        <p:spPr>
          <a:xfrm>
            <a:off x="15238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990720" y="3581280"/>
            <a:ext cx="2854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4038480"/>
            <a:ext cx="3504960" cy="259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4038480"/>
            <a:ext cx="1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4038480"/>
            <a:ext cx="1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4114800"/>
            <a:ext cx="3809880" cy="251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411480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5410080"/>
            <a:ext cx="380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685800"/>
            <a:ext cx="830556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6858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362320"/>
            <a:ext cx="830592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58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990720" y="54100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342900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289548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342900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297180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2133720" y="54100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182880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2133720" y="4114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175248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7620120" y="4191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723888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6"/>
          <a:stretch/>
        </p:blipFill>
        <p:spPr>
          <a:xfrm>
            <a:off x="640080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7"/>
          <a:stretch/>
        </p:blipFill>
        <p:spPr>
          <a:xfrm>
            <a:off x="586728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8"/>
          <a:stretch/>
        </p:blipFill>
        <p:spPr>
          <a:xfrm>
            <a:off x="525780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9"/>
          <a:stretch/>
        </p:blipFill>
        <p:spPr>
          <a:xfrm>
            <a:off x="76201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0"/>
          <a:stretch/>
        </p:blipFill>
        <p:spPr>
          <a:xfrm>
            <a:off x="71629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1"/>
          <a:stretch/>
        </p:blipFill>
        <p:spPr>
          <a:xfrm>
            <a:off x="6324480" y="54864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2"/>
          <a:stretch/>
        </p:blipFill>
        <p:spPr>
          <a:xfrm>
            <a:off x="57913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3"/>
          <a:stretch/>
        </p:blipFill>
        <p:spPr>
          <a:xfrm>
            <a:off x="53341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4"/>
          <a:stretch/>
        </p:blipFill>
        <p:spPr>
          <a:xfrm>
            <a:off x="8077320" y="4191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5"/>
          <a:stretch/>
        </p:blipFill>
        <p:spPr>
          <a:xfrm>
            <a:off x="80773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6"/>
          <a:stretch/>
        </p:blipFill>
        <p:spPr>
          <a:xfrm>
            <a:off x="80773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7"/>
          <a:stretch/>
        </p:blipFill>
        <p:spPr>
          <a:xfrm>
            <a:off x="74674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8"/>
          <a:stretch/>
        </p:blipFill>
        <p:spPr>
          <a:xfrm>
            <a:off x="67816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9"/>
          <a:stretch/>
        </p:blipFill>
        <p:spPr>
          <a:xfrm>
            <a:off x="60958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0"/>
          <a:stretch/>
        </p:blipFill>
        <p:spPr>
          <a:xfrm>
            <a:off x="54864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1"/>
          <a:stretch/>
        </p:blipFill>
        <p:spPr>
          <a:xfrm>
            <a:off x="48769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2"/>
          <a:stretch/>
        </p:blipFill>
        <p:spPr>
          <a:xfrm>
            <a:off x="38862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3"/>
          <a:stretch/>
        </p:blipFill>
        <p:spPr>
          <a:xfrm>
            <a:off x="32767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4"/>
          <a:stretch/>
        </p:blipFill>
        <p:spPr>
          <a:xfrm>
            <a:off x="13716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5"/>
          <a:stretch/>
        </p:blipFill>
        <p:spPr>
          <a:xfrm>
            <a:off x="25909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6"/>
          <a:stretch/>
        </p:blipFill>
        <p:spPr>
          <a:xfrm>
            <a:off x="19051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7"/>
          <a:stretch/>
        </p:blipFill>
        <p:spPr>
          <a:xfrm>
            <a:off x="7621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8"/>
          <a:stretch/>
        </p:blipFill>
        <p:spPr>
          <a:xfrm>
            <a:off x="8381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9"/>
          <a:stretch/>
        </p:blipFill>
        <p:spPr>
          <a:xfrm>
            <a:off x="77724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0"/>
          <a:stretch/>
        </p:blipFill>
        <p:spPr>
          <a:xfrm>
            <a:off x="68580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1"/>
          <a:stretch/>
        </p:blipFill>
        <p:spPr>
          <a:xfrm>
            <a:off x="63244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2"/>
          <a:stretch/>
        </p:blipFill>
        <p:spPr>
          <a:xfrm>
            <a:off x="5562720" y="2438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3"/>
          <a:stretch/>
        </p:blipFill>
        <p:spPr>
          <a:xfrm>
            <a:off x="4952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4"/>
          <a:stretch/>
        </p:blipFill>
        <p:spPr>
          <a:xfrm>
            <a:off x="41148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5"/>
          <a:stretch/>
        </p:blipFill>
        <p:spPr>
          <a:xfrm>
            <a:off x="36576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6"/>
          <a:stretch/>
        </p:blipFill>
        <p:spPr>
          <a:xfrm>
            <a:off x="1447920" y="2438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7"/>
          <a:stretch/>
        </p:blipFill>
        <p:spPr>
          <a:xfrm>
            <a:off x="2666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8"/>
          <a:stretch/>
        </p:blipFill>
        <p:spPr>
          <a:xfrm>
            <a:off x="19810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9"/>
          <a:stretch/>
        </p:blipFill>
        <p:spPr>
          <a:xfrm>
            <a:off x="838080" y="2438280"/>
            <a:ext cx="2858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14400" y="762120"/>
            <a:ext cx="74674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欢迎多提宝贵意见！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1066680"/>
            <a:ext cx="4952880" cy="160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9051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971800"/>
            <a:ext cx="4952880" cy="342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6483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97180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1143000"/>
            <a:ext cx="190512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27432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47242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04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同学们：判断一下，哪组是平均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523880" y="121932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971800" y="1219320"/>
            <a:ext cx="838080" cy="59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8954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9810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10666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4800600" y="1981080"/>
            <a:ext cx="838080" cy="59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3657600" y="5486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4267080" y="47242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2438280" y="55627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1371600" y="5486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1981080" y="47242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266688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137160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1905120" y="30481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4343400" y="30481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9"/>
          <a:stretch/>
        </p:blipFill>
        <p:spPr>
          <a:xfrm>
            <a:off x="373392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0"/>
          <a:stretch/>
        </p:blipFill>
        <p:spPr>
          <a:xfrm>
            <a:off x="487692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1"/>
          <a:stretch/>
        </p:blipFill>
        <p:spPr>
          <a:xfrm>
            <a:off x="4724280" y="55627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2"/>
          <a:stretch/>
        </p:blipFill>
        <p:spPr>
          <a:xfrm>
            <a:off x="7391520" y="1523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3"/>
          <a:stretch/>
        </p:blipFill>
        <p:spPr>
          <a:xfrm>
            <a:off x="7391520" y="281952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4"/>
          <a:stretch/>
        </p:blipFill>
        <p:spPr>
          <a:xfrm>
            <a:off x="7467480" y="3733920"/>
            <a:ext cx="76068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5"/>
          <a:stretch/>
        </p:blipFill>
        <p:spPr>
          <a:xfrm>
            <a:off x="8001000" y="563868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6"/>
          <a:stretch/>
        </p:blipFill>
        <p:spPr>
          <a:xfrm>
            <a:off x="6934320" y="5562720"/>
            <a:ext cx="691920" cy="76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7"/>
          <a:stretch/>
        </p:blipFill>
        <p:spPr>
          <a:xfrm>
            <a:off x="7467480" y="4800600"/>
            <a:ext cx="623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925560" cy="1981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520" y="304920"/>
            <a:ext cx="5943600" cy="1447560"/>
          </a:xfrm>
          <a:prstGeom prst="cloudCallout">
            <a:avLst>
              <a:gd name="adj1" fmla="val -65356"/>
              <a:gd name="adj2" fmla="val 2532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小朋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现在我们来分一分下面的梨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819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把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个梨平均放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个盆里，每盆几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57520" cy="141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248520" y="4038480"/>
            <a:ext cx="857160" cy="141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90324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581280" y="3962520"/>
            <a:ext cx="92088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2209680" y="3962520"/>
            <a:ext cx="949320" cy="1571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8080" y="3886200"/>
            <a:ext cx="9954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495680"/>
            <a:ext cx="2438280" cy="106704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572000"/>
            <a:ext cx="2438280" cy="106668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4572000"/>
            <a:ext cx="2438280" cy="106668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286000"/>
            <a:ext cx="0" cy="15238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2209680"/>
            <a:ext cx="990360" cy="1828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2362320"/>
            <a:ext cx="2743200" cy="19047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285640" y="2286000"/>
            <a:ext cx="2514600" cy="1752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28840" y="2286000"/>
            <a:ext cx="1066680" cy="1752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2438280"/>
            <a:ext cx="228600" cy="16765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1105200" cy="1805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124080" y="609480"/>
            <a:ext cx="1090800" cy="1781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419720" y="609480"/>
            <a:ext cx="1011240" cy="1652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638680" y="685800"/>
            <a:ext cx="1011240" cy="1652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934320" y="838080"/>
            <a:ext cx="1011240" cy="1652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57200" y="457200"/>
            <a:ext cx="1152360" cy="188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629400" y="4114800"/>
            <a:ext cx="857160" cy="140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3581280" y="4038480"/>
            <a:ext cx="855720" cy="1400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609480" y="3962520"/>
            <a:ext cx="85572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467480" y="4191120"/>
            <a:ext cx="809640" cy="132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4419720" y="4114800"/>
            <a:ext cx="858600" cy="1400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1447920" y="4038480"/>
            <a:ext cx="857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1095480" cy="2438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1676520"/>
            <a:ext cx="6858000" cy="1371600"/>
          </a:xfrm>
          <a:prstGeom prst="cloudCallout">
            <a:avLst>
              <a:gd name="adj1" fmla="val -47824"/>
              <a:gd name="adj2" fmla="val 4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同学们：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根火柴平均分成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份，每份几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H="1">
            <a:off x="990360" y="2895480"/>
            <a:ext cx="152280" cy="1524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895480"/>
            <a:ext cx="198108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2895480"/>
            <a:ext cx="388620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371240" y="2895480"/>
            <a:ext cx="160020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895480"/>
            <a:ext cx="45720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2895480"/>
            <a:ext cx="251460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52480" y="2895480"/>
            <a:ext cx="2819520" cy="1600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95680" y="2895480"/>
            <a:ext cx="609840" cy="1600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895480"/>
            <a:ext cx="1295280" cy="1600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2895480"/>
            <a:ext cx="41148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76920" y="2895480"/>
            <a:ext cx="21333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467480" y="2895480"/>
            <a:ext cx="15264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先摆一摆，再写算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419720"/>
            <a:ext cx="16765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4419720"/>
            <a:ext cx="16765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419720"/>
            <a:ext cx="16761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4674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858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1722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562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952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419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962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3429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819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22096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1523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990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19810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160020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>
            <a:off x="1219320" y="44956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>
            <a:off x="8380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8"/>
          <a:stretch/>
        </p:blipFill>
        <p:spPr>
          <a:xfrm>
            <a:off x="47242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"/>
          <a:stretch/>
        </p:blipFill>
        <p:spPr>
          <a:xfrm>
            <a:off x="434340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0"/>
          <a:stretch/>
        </p:blipFill>
        <p:spPr>
          <a:xfrm>
            <a:off x="3962520" y="44956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1"/>
          <a:stretch/>
        </p:blipFill>
        <p:spPr>
          <a:xfrm>
            <a:off x="35812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2"/>
          <a:stretch/>
        </p:blipFill>
        <p:spPr>
          <a:xfrm>
            <a:off x="731520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6934320" y="44956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4"/>
          <a:stretch/>
        </p:blipFill>
        <p:spPr>
          <a:xfrm>
            <a:off x="65530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5"/>
          <a:stretch/>
        </p:blipFill>
        <p:spPr>
          <a:xfrm>
            <a:off x="6172200" y="4495680"/>
            <a:ext cx="2858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33720" y="228600"/>
            <a:ext cx="5410080" cy="1143000"/>
          </a:xfrm>
          <a:prstGeom prst="cloudCallout">
            <a:avLst>
              <a:gd name="adj1" fmla="val -52375"/>
              <a:gd name="adj2" fmla="val 281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刚才我们已经看过了，现在写一下算式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304812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0481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=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0481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3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048120" y="3048120"/>
            <a:ext cx="1295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>
            <a:off x="990360" y="2895480"/>
            <a:ext cx="15228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895480"/>
            <a:ext cx="6858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895480"/>
            <a:ext cx="18288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2819520"/>
            <a:ext cx="3352680" cy="1752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371600" y="2895480"/>
            <a:ext cx="2209680" cy="1676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895120" y="2895480"/>
            <a:ext cx="121932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895480"/>
            <a:ext cx="7632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895480"/>
            <a:ext cx="1828800" cy="1752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828440" y="2895480"/>
            <a:ext cx="38862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52320" y="2895480"/>
            <a:ext cx="29718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81480" y="2895480"/>
            <a:ext cx="18288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238520" y="2895480"/>
            <a:ext cx="38124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先摆一摆，再写算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4495680"/>
            <a:ext cx="1143000" cy="12956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674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858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1722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562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952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4419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3962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3429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2819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22096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1523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990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24382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5238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1219320" y="45720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9144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45720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42670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3048120" y="45720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27432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70866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67816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64008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5"/>
          <a:stretch/>
        </p:blipFill>
        <p:spPr>
          <a:xfrm>
            <a:off x="4876920" y="4572000"/>
            <a:ext cx="2854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3520" y="4495680"/>
            <a:ext cx="3047760" cy="1676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4495680"/>
            <a:ext cx="3047760" cy="1676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352680"/>
            <a:ext cx="380880" cy="19051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352680"/>
            <a:ext cx="4038480" cy="198144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19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足球平均放在两个盒子里，每盒几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701120" y="1905120"/>
            <a:ext cx="144288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066680" y="1981080"/>
            <a:ext cx="1400400" cy="177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213372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4267080" y="1981080"/>
            <a:ext cx="1400400" cy="1776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533412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640080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609480" y="4952880"/>
            <a:ext cx="998640" cy="1266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5562720" y="4876920"/>
            <a:ext cx="998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9T07:59:54Z</dcterms:created>
  <dc:creator>绿色圃中小学教育网http://www.lspjy.com</dc:creator>
  <dc:description/>
  <cp:keywords>绿色圃中小学教育网http://www.lspjy.com</cp:keywords>
  <dc:language>en-US</dc:language>
  <cp:lastModifiedBy>微软用户</cp:lastModifiedBy>
  <dcterms:modified xsi:type="dcterms:W3CDTF">2012-11-22T11:12:53Z</dcterms:modified>
  <cp:revision>36</cp:revision>
  <dc:subject/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