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660-1CD7-4852-B901-B057844B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F67-446C-4283-B244-7F39C9BD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59F-CA59-428A-A5C5-49CE855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F32-F4DD-465C-96AF-D9096C8A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5AB-357E-415E-AEEA-065C65AE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2AF-C35C-4F36-ACA2-6651A64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FF6-DE64-45F6-8A80-1E3937E2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A62-011C-4B80-83C1-0CFA1B7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D77-97A8-4329-916A-A2D37B81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264-F7FC-4D0D-A011-A848488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A38-1204-48D9-94E3-47A101C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8C8-35E4-42AF-AAB7-032520A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3"/>
          <a:srcRect l="7351" t="-3529" r="6161" b="0"/>
          <a:stretch/>
        </p:blipFill>
        <p:spPr>
          <a:xfrm>
            <a:off x="0" y="3573360"/>
            <a:ext cx="70167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466560" y="765000"/>
            <a:ext cx="8209080" cy="56167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EB547BCE-068C-4D32-A975-5380E49A4EE1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4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"/>
          <p:cNvPicPr/>
          <p:nvPr/>
        </p:nvPicPr>
        <p:blipFill>
          <a:blip r:embed="rId5"/>
          <a:stretch/>
        </p:blipFill>
        <p:spPr>
          <a:xfrm>
            <a:off x="477720" y="765000"/>
            <a:ext cx="81885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1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2"/>
          <a:srcRect l="7351" t="-3529" r="6161" b="0"/>
          <a:stretch/>
        </p:blipFill>
        <p:spPr>
          <a:xfrm>
            <a:off x="0" y="1930320"/>
            <a:ext cx="9144000" cy="4953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3760" y="1333080"/>
            <a:ext cx="5639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绿色地球绿色环保</a:t>
            </a:r>
            <a:r>
              <a:rPr b="0" lang="en-US" sz="3200" spc="-1" strike="noStrike">
                <a:solidFill>
                  <a:srgbClr val="467908"/>
                </a:solidFill>
                <a:latin typeface="微软雅黑"/>
              </a:rPr>
              <a:t>PPT</a:t>
            </a: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63760" y="2112840"/>
            <a:ext cx="56390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7908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76677693-027E-474A-AADD-348353E5E0FF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DEA5FAD1-0879-449C-A2D5-D6010FA81998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3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dffbbf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9"/>
          <p:cNvSpPr/>
          <p:nvPr/>
        </p:nvSpPr>
        <p:spPr>
          <a:xfrm>
            <a:off x="1568520" y="3848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e4f0e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6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13"/>
          <a:srcRect l="7351" t="-3529" r="6161" b="0"/>
          <a:stretch/>
        </p:blipFill>
        <p:spPr>
          <a:xfrm>
            <a:off x="0" y="2792520"/>
            <a:ext cx="5713560" cy="3093840"/>
          </a:xfrm>
          <a:prstGeom prst="rect">
            <a:avLst/>
          </a:prstGeom>
          <a:ln w="0">
            <a:noFill/>
          </a:ln>
        </p:spPr>
      </p:pic>
      <p:sp>
        <p:nvSpPr>
          <p:cNvPr id="112" name="标题 3"/>
          <p:cNvSpPr/>
          <p:nvPr/>
        </p:nvSpPr>
        <p:spPr>
          <a:xfrm>
            <a:off x="5003640" y="2714760"/>
            <a:ext cx="360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副标题 4"/>
          <p:cNvSpPr/>
          <p:nvPr/>
        </p:nvSpPr>
        <p:spPr>
          <a:xfrm>
            <a:off x="5003640" y="351792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7532640" y="981000"/>
            <a:ext cx="11098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826920" y="836640"/>
            <a:ext cx="309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第一PPT</dc:creator>
  <dc:description>www.1ppt.com</dc:description>
  <cp:keywords/>
  <dc:language>en-US</dc:language>
  <cp:lastModifiedBy>Administrator</cp:lastModifiedBy>
  <dcterms:modified xsi:type="dcterms:W3CDTF">2015-01-16T03:26:27Z</dcterms:modified>
  <cp:revision>348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