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A99-D1E7-4787-932A-6659D73B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1C4-199C-409D-9307-543F3604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E96-B45A-4CE3-9FC2-D0558F1E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481-467D-4C38-91AA-B7036527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FB6-3DCC-474A-AFEF-A813AD7D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BE2-D521-451C-B64F-13A021B0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31E-EFAC-411F-AAA7-52024962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888-668E-4868-B44F-EF185A3A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4EA-8C89-41BE-A661-D8A3D76F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F8A-599F-43A9-BB14-D53F5E44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FAB-616D-4539-BE6B-5A91288A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60C-1B77-41E5-89C8-040EC929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3495-5B69-4735-B148-656AE720E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封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871640" y="2095560"/>
            <a:ext cx="53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836720" y="299736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输入标题文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2360" y="5086440"/>
            <a:ext cx="78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目录页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6300720" y="29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黑体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348000" y="29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黑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66560" y="29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黑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71640" y="1989000"/>
            <a:ext cx="1647720" cy="916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造字工房悦黑演示版常规体"/>
              </a:rPr>
              <a:t>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852720" y="1989000"/>
            <a:ext cx="1648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造字工房悦黑演示版常规体"/>
              </a:rPr>
              <a:t>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04000" y="1989000"/>
            <a:ext cx="1647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造字工房悦黑演示版常规体"/>
              </a:rPr>
              <a:t>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403280" y="4581360"/>
            <a:ext cx="633744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692360" y="4726080"/>
            <a:ext cx="58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依照用途进行划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8172360" y="3933720"/>
            <a:ext cx="576360" cy="1511280"/>
          </a:xfrm>
          <a:custGeom>
            <a:avLst/>
            <a:gdLst>
              <a:gd name="textAreaLeft" fmla="*/ 77040 w 576360"/>
              <a:gd name="textAreaRight" fmla="*/ 499320 w 57636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 rot="11040000">
            <a:off x="538920" y="4005360"/>
            <a:ext cx="576360" cy="1512720"/>
          </a:xfrm>
          <a:custGeom>
            <a:avLst/>
            <a:gdLst>
              <a:gd name="textAreaLeft" fmla="*/ 77040 w 576360"/>
              <a:gd name="textAreaRight" fmla="*/ 499320 w 57636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项目页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6877080" y="3286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Impact"/>
                <a:ea typeface="黑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411280" y="2349360"/>
            <a:ext cx="164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造字工房悦黑演示版常规体"/>
              </a:rPr>
              <a:t>请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曲线 48"/>
          <p:cNvSpPr/>
          <p:nvPr/>
        </p:nvSpPr>
        <p:spPr>
          <a:xfrm>
            <a:off x="-22320" y="2173320"/>
            <a:ext cx="9186840" cy="1919160"/>
          </a:xfrm>
          <a:custGeom>
            <a:avLst/>
            <a:gdLst>
              <a:gd name="textAreaLeft" fmla="*/ 0 w 9186840"/>
              <a:gd name="textAreaRight" fmla="*/ 9187200 w 9186840"/>
              <a:gd name="textAreaTop" fmla="*/ 0 h 1919160"/>
              <a:gd name="textAreaBottom" fmla="*/ 1919520 h 1919160"/>
            </a:gdLst>
            <a:ahLst/>
            <a:rect l="textAreaLeft" t="textAreaTop" r="textAreaRight" b="textAreaBottom"/>
            <a:pathLst>
              <a:path w="21600" h="21600">
                <a:moveTo>
                  <a:pt x="21600" y="15901"/>
                </a:moveTo>
                <a:cubicBezTo>
                  <a:pt x="20770" y="15165"/>
                  <a:pt x="18996" y="10853"/>
                  <a:pt x="16622" y="11482"/>
                </a:cubicBezTo>
                <a:cubicBezTo>
                  <a:pt x="14247" y="12112"/>
                  <a:pt x="10120" y="21600"/>
                  <a:pt x="7349" y="19683"/>
                </a:cubicBezTo>
                <a:cubicBezTo>
                  <a:pt x="4579" y="17767"/>
                  <a:pt x="1225" y="3281"/>
                  <a:pt x="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内容"/>
          <p:cNvPicPr/>
          <p:nvPr/>
        </p:nvPicPr>
        <p:blipFill>
          <a:blip r:embed="rId1"/>
          <a:stretch/>
        </p:blipFill>
        <p:spPr>
          <a:xfrm>
            <a:off x="0" y="-2556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68b49f53jw1dym8qpyqrwj"/>
          <p:cNvPicPr/>
          <p:nvPr/>
        </p:nvPicPr>
        <p:blipFill>
          <a:blip r:embed="rId2"/>
          <a:srcRect l="0" t="24846" r="0" b="55897"/>
          <a:stretch/>
        </p:blipFill>
        <p:spPr>
          <a:xfrm>
            <a:off x="4716360" y="3573360"/>
            <a:ext cx="2124000" cy="230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68b49f53jw1dym8qpyqrwj"/>
          <p:cNvPicPr/>
          <p:nvPr/>
        </p:nvPicPr>
        <p:blipFill>
          <a:blip r:embed="rId3"/>
          <a:srcRect l="0" t="0" r="0" b="75456"/>
          <a:stretch/>
        </p:blipFill>
        <p:spPr>
          <a:xfrm>
            <a:off x="2543040" y="838080"/>
            <a:ext cx="1906560" cy="229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8b49f53jw1dym8qpyqrwj"/>
          <p:cNvPicPr/>
          <p:nvPr/>
        </p:nvPicPr>
        <p:blipFill>
          <a:blip r:embed="rId4"/>
          <a:srcRect l="0" t="44306" r="0" b="36481"/>
          <a:stretch/>
        </p:blipFill>
        <p:spPr>
          <a:xfrm>
            <a:off x="6877080" y="3573360"/>
            <a:ext cx="2246400" cy="2260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-246600" y="2276640"/>
            <a:ext cx="21913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请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573440" y="836640"/>
            <a:ext cx="43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556000" y="357336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项目页副本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Oval 4"/>
          <p:cNvSpPr/>
          <p:nvPr/>
        </p:nvSpPr>
        <p:spPr>
          <a:xfrm>
            <a:off x="3708360" y="1197000"/>
            <a:ext cx="2016000" cy="20160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曲线 89"/>
          <p:cNvSpPr/>
          <p:nvPr/>
        </p:nvSpPr>
        <p:spPr>
          <a:xfrm rot="20760000">
            <a:off x="6049440" y="3104640"/>
            <a:ext cx="1127160" cy="129564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18162" y="19190"/>
                </a:moveTo>
                <a:cubicBezTo>
                  <a:pt x="15084" y="16780"/>
                  <a:pt x="3016" y="8274"/>
                  <a:pt x="1508" y="5176"/>
                </a:cubicBezTo>
                <a:cubicBezTo>
                  <a:pt x="0" y="2079"/>
                  <a:pt x="6064" y="0"/>
                  <a:pt x="9112" y="606"/>
                </a:cubicBezTo>
                <a:cubicBezTo>
                  <a:pt x="12159" y="1213"/>
                  <a:pt x="17988" y="5623"/>
                  <a:pt x="19794" y="8800"/>
                </a:cubicBezTo>
                <a:cubicBezTo>
                  <a:pt x="21600" y="11978"/>
                  <a:pt x="20245" y="17931"/>
                  <a:pt x="19978" y="19663"/>
                </a:cubicBezTo>
                <a:cubicBezTo>
                  <a:pt x="19711" y="21394"/>
                  <a:pt x="21240" y="21600"/>
                  <a:pt x="18162" y="19190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曲线 91"/>
          <p:cNvSpPr/>
          <p:nvPr/>
        </p:nvSpPr>
        <p:spPr>
          <a:xfrm>
            <a:off x="7213680" y="2743200"/>
            <a:ext cx="1500120" cy="158112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600" h="21600">
                <a:moveTo>
                  <a:pt x="649" y="21600"/>
                </a:moveTo>
                <a:cubicBezTo>
                  <a:pt x="1591" y="18839"/>
                  <a:pt x="3795" y="8447"/>
                  <a:pt x="6291" y="5052"/>
                </a:cubicBezTo>
                <a:cubicBezTo>
                  <a:pt x="8788" y="1658"/>
                  <a:pt x="13342" y="0"/>
                  <a:pt x="15655" y="1224"/>
                </a:cubicBezTo>
                <a:cubicBezTo>
                  <a:pt x="17969" y="2448"/>
                  <a:pt x="21600" y="9419"/>
                  <a:pt x="20173" y="12406"/>
                </a:cubicBezTo>
                <a:cubicBezTo>
                  <a:pt x="18746" y="15392"/>
                  <a:pt x="10470" y="17667"/>
                  <a:pt x="7105" y="19143"/>
                </a:cubicBezTo>
                <a:cubicBezTo>
                  <a:pt x="3740" y="20618"/>
                  <a:pt x="1179" y="20931"/>
                  <a:pt x="0" y="21287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曲线 92"/>
          <p:cNvSpPr/>
          <p:nvPr/>
        </p:nvSpPr>
        <p:spPr>
          <a:xfrm>
            <a:off x="6300720" y="4292640"/>
            <a:ext cx="908280" cy="1098360"/>
          </a:xfrm>
          <a:custGeom>
            <a:avLst/>
            <a:gdLst>
              <a:gd name="textAreaLeft" fmla="*/ 0 w 908280"/>
              <a:gd name="textAreaRight" fmla="*/ 908640 w 908280"/>
              <a:gd name="textAreaTop" fmla="*/ 0 h 1098360"/>
              <a:gd name="textAreaBottom" fmla="*/ 1098720 h 109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14" y="1836"/>
                  <a:pt x="7869" y="7420"/>
                  <a:pt x="4274" y="11018"/>
                </a:cubicBezTo>
                <a:cubicBezTo>
                  <a:pt x="679" y="14616"/>
                  <a:pt x="709" y="19838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曲线 93"/>
          <p:cNvSpPr/>
          <p:nvPr/>
        </p:nvSpPr>
        <p:spPr>
          <a:xfrm>
            <a:off x="7237440" y="4294080"/>
            <a:ext cx="1446120" cy="236232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2456" y="1091"/>
                  <a:pt x="12000" y="3709"/>
                  <a:pt x="14732" y="6559"/>
                </a:cubicBezTo>
                <a:cubicBezTo>
                  <a:pt x="17464" y="9409"/>
                  <a:pt x="15433" y="14715"/>
                  <a:pt x="16411" y="17107"/>
                </a:cubicBezTo>
                <a:cubicBezTo>
                  <a:pt x="17388" y="19498"/>
                  <a:pt x="19731" y="20195"/>
                  <a:pt x="20594" y="20897"/>
                </a:cubicBezTo>
                <a:cubicBezTo>
                  <a:pt x="21457" y="21600"/>
                  <a:pt x="21429" y="21240"/>
                  <a:pt x="21600" y="21309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 flipH="1">
            <a:off x="38160" y="4255920"/>
            <a:ext cx="9144000" cy="1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68720" y="1773360"/>
            <a:ext cx="144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再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5:23:09Z</dcterms:created>
  <dc:creator>Administrator</dc:creator>
  <dc:description/>
  <cp:keywords/>
  <dc:language>en-US</dc:language>
  <cp:lastModifiedBy>Administrator</cp:lastModifiedBy>
  <dcterms:modified xsi:type="dcterms:W3CDTF">2015-01-26T09:41:15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