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C6FA6-356D-4F57-A24E-B23323E908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8229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4952520"/>
            <a:ext cx="86104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920" y="5151960"/>
            <a:ext cx="86104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38C37-DB4E-4C40-913D-9E964DDB9E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8229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4952520"/>
            <a:ext cx="42015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7080" y="4952520"/>
            <a:ext cx="42015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5151960"/>
            <a:ext cx="42015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7080" y="5151960"/>
            <a:ext cx="42015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70123-442C-40B1-B7C3-1622CFD09A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8229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4952520"/>
            <a:ext cx="2772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6240" y="4952520"/>
            <a:ext cx="2772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7560" y="4952520"/>
            <a:ext cx="2772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920" y="5151960"/>
            <a:ext cx="2772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6240" y="5151960"/>
            <a:ext cx="2772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7560" y="5151960"/>
            <a:ext cx="2772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429AB-0EB1-4976-89C5-9D1A30329E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8229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04920" y="4952520"/>
            <a:ext cx="8610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8229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4952520"/>
            <a:ext cx="861048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8229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4952520"/>
            <a:ext cx="42015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17080" y="4952520"/>
            <a:ext cx="42015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8229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8229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4952520"/>
            <a:ext cx="42015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7080" y="4952520"/>
            <a:ext cx="42015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920" y="5151960"/>
            <a:ext cx="42015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8229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920" y="4952520"/>
            <a:ext cx="8610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8D824-04E7-40BE-9AB9-A8F4512232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8229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4952520"/>
            <a:ext cx="42015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7080" y="4952520"/>
            <a:ext cx="42015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17080" y="5151960"/>
            <a:ext cx="42015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8229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4952520"/>
            <a:ext cx="42015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7080" y="4952520"/>
            <a:ext cx="42015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5151960"/>
            <a:ext cx="86104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8229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4952520"/>
            <a:ext cx="86104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4920" y="5151960"/>
            <a:ext cx="86104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8229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4952520"/>
            <a:ext cx="42015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7080" y="4952520"/>
            <a:ext cx="42015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04920" y="5151960"/>
            <a:ext cx="42015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17080" y="5151960"/>
            <a:ext cx="42015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8229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4952520"/>
            <a:ext cx="2772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16240" y="4952520"/>
            <a:ext cx="2772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7560" y="4952520"/>
            <a:ext cx="2772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04920" y="5151960"/>
            <a:ext cx="2772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16240" y="5151960"/>
            <a:ext cx="2772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27560" y="5151960"/>
            <a:ext cx="2772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8229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4952520"/>
            <a:ext cx="861048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01F4D-DE9A-473E-9916-4182777949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8229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4952520"/>
            <a:ext cx="42015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7080" y="4952520"/>
            <a:ext cx="42015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C4FD4-3E2D-45BB-82AB-6832937381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8229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F35E8-EAF6-420A-9124-4CA855588F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E1385-B0BA-4F6B-AC0D-C3A324458F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8229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4952520"/>
            <a:ext cx="42015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7080" y="4952520"/>
            <a:ext cx="42015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920" y="5151960"/>
            <a:ext cx="42015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95F7E-F8C6-472F-92B0-F351533EC7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8229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4952520"/>
            <a:ext cx="42015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7080" y="4952520"/>
            <a:ext cx="42015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17080" y="5151960"/>
            <a:ext cx="42015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28627-75D3-4594-9DA3-94BB4CBF1F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8229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4952520"/>
            <a:ext cx="42015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17080" y="4952520"/>
            <a:ext cx="42015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5151960"/>
            <a:ext cx="86104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712E3-0558-4E25-948C-A1B621329B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189000"/>
          <a:ext cx="9144000" cy="92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89000"/>
                    <a:ext cx="914400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8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ldNum" idx="1"/>
          </p:nvPr>
        </p:nvSpPr>
        <p:spPr>
          <a:xfrm>
            <a:off x="3428640" y="650844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1DFBB-6DF0-4C78-8153-A1DC5AD040F0}" type="slidenum">
              <a:rPr b="1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95880" y="6559200"/>
            <a:ext cx="28958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1920" cy="51768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4941720"/>
            <a:ext cx="915516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388120"/>
            <a:ext cx="9155160" cy="148104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8229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3886200" y="59436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1d528d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d528d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d528d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9600" y="1973160"/>
            <a:ext cx="8107200" cy="61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PowerPoint Templat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04920" y="4952520"/>
            <a:ext cx="8610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676520" y="1749600"/>
            <a:ext cx="5410080" cy="1199880"/>
            <a:chOff x="1676520" y="1749600"/>
            <a:chExt cx="5410080" cy="1199880"/>
          </a:xfrm>
        </p:grpSpPr>
        <p:sp>
          <p:nvSpPr>
            <p:cNvPr id="249" name=""/>
            <p:cNvSpPr/>
            <p:nvPr/>
          </p:nvSpPr>
          <p:spPr>
            <a:xfrm>
              <a:off x="1676520" y="1749600"/>
              <a:ext cx="5410080" cy="11998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1794240" y="1859760"/>
              <a:ext cx="1042920" cy="981360"/>
              <a:chOff x="1794240" y="1859760"/>
              <a:chExt cx="1042920" cy="981360"/>
            </a:xfrm>
          </p:grpSpPr>
          <p:sp>
            <p:nvSpPr>
              <p:cNvPr id="251" name=""/>
              <p:cNvSpPr/>
              <p:nvPr/>
            </p:nvSpPr>
            <p:spPr>
              <a:xfrm>
                <a:off x="1794240" y="1859760"/>
                <a:ext cx="1042920" cy="9813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2b8a91"/>
                  </a:gs>
                  <a:gs pos="100000">
                    <a:srgbClr val="1d5f64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859400" y="1922760"/>
                <a:ext cx="519840" cy="49068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bec2"/>
                  </a:gs>
                  <a:gs pos="50000">
                    <a:srgbClr val="2b8a91">
                      <a:alpha val="0"/>
                    </a:srgbClr>
                  </a:gs>
                  <a:gs pos="100000">
                    <a:srgbClr val="8abec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878840" y="212796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254" name=""/>
            <p:cNvSpPr/>
            <p:nvPr/>
          </p:nvSpPr>
          <p:spPr>
            <a:xfrm>
              <a:off x="2980080" y="1933560"/>
              <a:ext cx="3976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ucaiFengbao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1676520" y="3200400"/>
            <a:ext cx="5410080" cy="1200240"/>
            <a:chOff x="1676520" y="3200400"/>
            <a:chExt cx="5410080" cy="1200240"/>
          </a:xfrm>
        </p:grpSpPr>
        <p:sp>
          <p:nvSpPr>
            <p:cNvPr id="256" name=""/>
            <p:cNvSpPr/>
            <p:nvPr/>
          </p:nvSpPr>
          <p:spPr>
            <a:xfrm>
              <a:off x="1676520" y="3200400"/>
              <a:ext cx="5410080" cy="12002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0f0f0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1794240" y="3310560"/>
              <a:ext cx="1042920" cy="981720"/>
              <a:chOff x="1794240" y="3310560"/>
              <a:chExt cx="1042920" cy="981720"/>
            </a:xfrm>
          </p:grpSpPr>
          <p:sp>
            <p:nvSpPr>
              <p:cNvPr id="258" name=""/>
              <p:cNvSpPr/>
              <p:nvPr/>
            </p:nvSpPr>
            <p:spPr>
              <a:xfrm>
                <a:off x="1794240" y="3310560"/>
                <a:ext cx="1042920" cy="9817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b4b4fe"/>
                  </a:gs>
                  <a:gs pos="100000">
                    <a:srgbClr val="9999ff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859400" y="3373560"/>
                <a:ext cx="519840" cy="49068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99ff">
                      <a:alpha val="0"/>
                    </a:srgbClr>
                  </a:gs>
                  <a:gs pos="100000">
                    <a:srgbClr val="d2d2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878840" y="357912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2980080" y="3364560"/>
              <a:ext cx="3976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ucaiFengbao</a:t>
              </a:r>
              <a:r>
                <a:rPr b="0" lang="en-US" sz="1800" spc="-1" strike="noStrike">
                  <a:solidFill>
                    <a:srgbClr val="1d528d"/>
                  </a:solidFill>
                  <a:latin typeface="Arial"/>
                  <a:ea typeface="宋体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1676520" y="4648320"/>
            <a:ext cx="5410080" cy="1199880"/>
            <a:chOff x="1676520" y="4648320"/>
            <a:chExt cx="5410080" cy="1199880"/>
          </a:xfrm>
        </p:grpSpPr>
        <p:sp>
          <p:nvSpPr>
            <p:cNvPr id="263" name=""/>
            <p:cNvSpPr/>
            <p:nvPr/>
          </p:nvSpPr>
          <p:spPr>
            <a:xfrm>
              <a:off x="1676520" y="4648320"/>
              <a:ext cx="5410080" cy="11998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deded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1794240" y="4758480"/>
              <a:ext cx="1042920" cy="981360"/>
              <a:chOff x="1794240" y="4758480"/>
              <a:chExt cx="1042920" cy="981360"/>
            </a:xfrm>
          </p:grpSpPr>
          <p:sp>
            <p:nvSpPr>
              <p:cNvPr id="265" name=""/>
              <p:cNvSpPr/>
              <p:nvPr/>
            </p:nvSpPr>
            <p:spPr>
              <a:xfrm>
                <a:off x="1794240" y="4758480"/>
                <a:ext cx="1042920" cy="9813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bbbbbb"/>
                  </a:gs>
                  <a:gs pos="100000">
                    <a:srgbClr val="969696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859400" y="4821480"/>
                <a:ext cx="519840" cy="49068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9696">
                      <a:alpha val="0"/>
                    </a:srgbClr>
                  </a:gs>
                  <a:gs pos="100000">
                    <a:srgbClr val="cbcbc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1878840" y="502668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268" name=""/>
            <p:cNvSpPr/>
            <p:nvPr/>
          </p:nvSpPr>
          <p:spPr>
            <a:xfrm>
              <a:off x="2980080" y="4812480"/>
              <a:ext cx="3976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ucaiFengbao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1447920" y="1600200"/>
            <a:ext cx="7391160" cy="4419720"/>
            <a:chOff x="1447920" y="1600200"/>
            <a:chExt cx="7391160" cy="4419720"/>
          </a:xfrm>
        </p:grpSpPr>
        <p:sp>
          <p:nvSpPr>
            <p:cNvPr id="271" name=""/>
            <p:cNvSpPr/>
            <p:nvPr/>
          </p:nvSpPr>
          <p:spPr>
            <a:xfrm>
              <a:off x="1447920" y="1981080"/>
              <a:ext cx="5943600" cy="4038840"/>
            </a:xfrm>
            <a:custGeom>
              <a:avLst/>
              <a:gdLst/>
              <a:ahLst/>
              <a:rect l="l" t="t" r="r" b="b"/>
              <a:pathLst>
                <a:path w="2820" h="2912">
                  <a:moveTo>
                    <a:pt x="1244" y="0"/>
                  </a:moveTo>
                  <a:lnTo>
                    <a:pt x="1092" y="50"/>
                  </a:lnTo>
                  <a:lnTo>
                    <a:pt x="952" y="106"/>
                  </a:lnTo>
                  <a:lnTo>
                    <a:pt x="822" y="168"/>
                  </a:lnTo>
                  <a:lnTo>
                    <a:pt x="704" y="232"/>
                  </a:lnTo>
                  <a:lnTo>
                    <a:pt x="594" y="300"/>
                  </a:lnTo>
                  <a:lnTo>
                    <a:pt x="494" y="372"/>
                  </a:lnTo>
                  <a:lnTo>
                    <a:pt x="406" y="446"/>
                  </a:lnTo>
                  <a:lnTo>
                    <a:pt x="324" y="524"/>
                  </a:lnTo>
                  <a:lnTo>
                    <a:pt x="254" y="604"/>
                  </a:lnTo>
                  <a:lnTo>
                    <a:pt x="192" y="686"/>
                  </a:lnTo>
                  <a:lnTo>
                    <a:pt x="140" y="772"/>
                  </a:lnTo>
                  <a:lnTo>
                    <a:pt x="96" y="856"/>
                  </a:lnTo>
                  <a:lnTo>
                    <a:pt x="60" y="944"/>
                  </a:lnTo>
                  <a:lnTo>
                    <a:pt x="32" y="1032"/>
                  </a:lnTo>
                  <a:lnTo>
                    <a:pt x="14" y="1122"/>
                  </a:lnTo>
                  <a:lnTo>
                    <a:pt x="2" y="1210"/>
                  </a:lnTo>
                  <a:lnTo>
                    <a:pt x="0" y="1300"/>
                  </a:lnTo>
                  <a:lnTo>
                    <a:pt x="4" y="1388"/>
                  </a:lnTo>
                  <a:lnTo>
                    <a:pt x="18" y="1476"/>
                  </a:lnTo>
                  <a:lnTo>
                    <a:pt x="36" y="1564"/>
                  </a:lnTo>
                  <a:lnTo>
                    <a:pt x="64" y="1650"/>
                  </a:lnTo>
                  <a:lnTo>
                    <a:pt x="96" y="1736"/>
                  </a:lnTo>
                  <a:lnTo>
                    <a:pt x="138" y="1818"/>
                  </a:lnTo>
                  <a:lnTo>
                    <a:pt x="184" y="1900"/>
                  </a:lnTo>
                  <a:lnTo>
                    <a:pt x="238" y="1978"/>
                  </a:lnTo>
                  <a:lnTo>
                    <a:pt x="298" y="2054"/>
                  </a:lnTo>
                  <a:lnTo>
                    <a:pt x="364" y="2126"/>
                  </a:lnTo>
                  <a:lnTo>
                    <a:pt x="434" y="2196"/>
                  </a:lnTo>
                  <a:lnTo>
                    <a:pt x="512" y="2262"/>
                  </a:lnTo>
                  <a:lnTo>
                    <a:pt x="596" y="2324"/>
                  </a:lnTo>
                  <a:lnTo>
                    <a:pt x="684" y="2382"/>
                  </a:lnTo>
                  <a:lnTo>
                    <a:pt x="776" y="2436"/>
                  </a:lnTo>
                  <a:lnTo>
                    <a:pt x="874" y="2484"/>
                  </a:lnTo>
                  <a:lnTo>
                    <a:pt x="978" y="2526"/>
                  </a:lnTo>
                  <a:lnTo>
                    <a:pt x="1086" y="2564"/>
                  </a:lnTo>
                  <a:lnTo>
                    <a:pt x="1198" y="2596"/>
                  </a:lnTo>
                  <a:lnTo>
                    <a:pt x="1314" y="2622"/>
                  </a:lnTo>
                  <a:lnTo>
                    <a:pt x="1434" y="2642"/>
                  </a:lnTo>
                  <a:lnTo>
                    <a:pt x="1558" y="2654"/>
                  </a:lnTo>
                  <a:lnTo>
                    <a:pt x="1686" y="2660"/>
                  </a:lnTo>
                  <a:lnTo>
                    <a:pt x="1818" y="2658"/>
                  </a:lnTo>
                  <a:lnTo>
                    <a:pt x="1952" y="2650"/>
                  </a:lnTo>
                  <a:lnTo>
                    <a:pt x="2090" y="2632"/>
                  </a:lnTo>
                  <a:lnTo>
                    <a:pt x="2230" y="2608"/>
                  </a:lnTo>
                  <a:lnTo>
                    <a:pt x="2374" y="2574"/>
                  </a:lnTo>
                  <a:lnTo>
                    <a:pt x="2542" y="2912"/>
                  </a:lnTo>
                  <a:lnTo>
                    <a:pt x="2544" y="2912"/>
                  </a:lnTo>
                  <a:lnTo>
                    <a:pt x="2820" y="1934"/>
                  </a:lnTo>
                  <a:lnTo>
                    <a:pt x="1868" y="1552"/>
                  </a:lnTo>
                  <a:lnTo>
                    <a:pt x="2036" y="1894"/>
                  </a:lnTo>
                  <a:lnTo>
                    <a:pt x="1956" y="1914"/>
                  </a:lnTo>
                  <a:lnTo>
                    <a:pt x="1872" y="1928"/>
                  </a:lnTo>
                  <a:lnTo>
                    <a:pt x="1788" y="1936"/>
                  </a:lnTo>
                  <a:lnTo>
                    <a:pt x="1702" y="1938"/>
                  </a:lnTo>
                  <a:lnTo>
                    <a:pt x="1616" y="1934"/>
                  </a:lnTo>
                  <a:lnTo>
                    <a:pt x="1528" y="1926"/>
                  </a:lnTo>
                  <a:lnTo>
                    <a:pt x="1442" y="1912"/>
                  </a:lnTo>
                  <a:lnTo>
                    <a:pt x="1356" y="1894"/>
                  </a:lnTo>
                  <a:lnTo>
                    <a:pt x="1272" y="1872"/>
                  </a:lnTo>
                  <a:lnTo>
                    <a:pt x="1188" y="1844"/>
                  </a:lnTo>
                  <a:lnTo>
                    <a:pt x="1108" y="1812"/>
                  </a:lnTo>
                  <a:lnTo>
                    <a:pt x="1028" y="1776"/>
                  </a:lnTo>
                  <a:lnTo>
                    <a:pt x="952" y="1736"/>
                  </a:lnTo>
                  <a:lnTo>
                    <a:pt x="880" y="1692"/>
                  </a:lnTo>
                  <a:lnTo>
                    <a:pt x="810" y="1646"/>
                  </a:lnTo>
                  <a:lnTo>
                    <a:pt x="744" y="1596"/>
                  </a:lnTo>
                  <a:lnTo>
                    <a:pt x="684" y="1542"/>
                  </a:lnTo>
                  <a:lnTo>
                    <a:pt x="628" y="1486"/>
                  </a:lnTo>
                  <a:lnTo>
                    <a:pt x="578" y="1428"/>
                  </a:lnTo>
                  <a:lnTo>
                    <a:pt x="532" y="1366"/>
                  </a:lnTo>
                  <a:lnTo>
                    <a:pt x="494" y="1304"/>
                  </a:lnTo>
                  <a:lnTo>
                    <a:pt x="462" y="1238"/>
                  </a:lnTo>
                  <a:lnTo>
                    <a:pt x="438" y="1170"/>
                  </a:lnTo>
                  <a:lnTo>
                    <a:pt x="420" y="1102"/>
                  </a:lnTo>
                  <a:lnTo>
                    <a:pt x="410" y="1032"/>
                  </a:lnTo>
                  <a:lnTo>
                    <a:pt x="410" y="960"/>
                  </a:lnTo>
                  <a:lnTo>
                    <a:pt x="416" y="888"/>
                  </a:lnTo>
                  <a:lnTo>
                    <a:pt x="434" y="816"/>
                  </a:lnTo>
                  <a:lnTo>
                    <a:pt x="460" y="742"/>
                  </a:lnTo>
                  <a:lnTo>
                    <a:pt x="496" y="668"/>
                  </a:lnTo>
                  <a:lnTo>
                    <a:pt x="544" y="592"/>
                  </a:lnTo>
                  <a:lnTo>
                    <a:pt x="602" y="518"/>
                  </a:lnTo>
                  <a:lnTo>
                    <a:pt x="670" y="444"/>
                  </a:lnTo>
                  <a:lnTo>
                    <a:pt x="752" y="370"/>
                  </a:lnTo>
                  <a:lnTo>
                    <a:pt x="844" y="298"/>
                  </a:lnTo>
                  <a:lnTo>
                    <a:pt x="950" y="226"/>
                  </a:lnTo>
                  <a:lnTo>
                    <a:pt x="1070" y="154"/>
                  </a:lnTo>
                  <a:lnTo>
                    <a:pt x="1202" y="84"/>
                  </a:lnTo>
                  <a:lnTo>
                    <a:pt x="1348" y="16"/>
                  </a:lnTo>
                  <a:lnTo>
                    <a:pt x="1244" y="0"/>
                  </a:lnTo>
                  <a:lnTo>
                    <a:pt x="1244" y="0"/>
                  </a:lnTo>
                  <a:lnTo>
                    <a:pt x="1244" y="0"/>
                  </a:lnTo>
                  <a:close/>
                  <a:moveTo>
                    <a:pt x="2820" y="1934"/>
                  </a:moveTo>
                  <a:lnTo>
                    <a:pt x="2820" y="1934"/>
                  </a:lnTo>
                  <a:lnTo>
                    <a:pt x="2820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2b8a91"/>
                </a:gs>
              </a:gsLst>
              <a:lin ang="5400000"/>
            </a:gradFill>
            <a:ln w="0">
              <a:noFill/>
            </a:ln>
            <a:effectLst>
              <a:outerShdw dist="206639" dir="8248269" blurRad="0" rotWithShape="0">
                <a:srgbClr val="c1d1d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172200" y="373392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itle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3400560" y="3753000"/>
              <a:ext cx="1704960" cy="2028600"/>
              <a:chOff x="3400560" y="3753000"/>
              <a:chExt cx="1704960" cy="2028600"/>
            </a:xfrm>
          </p:grpSpPr>
          <p:sp>
            <p:nvSpPr>
              <p:cNvPr id="274" name=""/>
              <p:cNvSpPr/>
              <p:nvPr/>
            </p:nvSpPr>
            <p:spPr>
              <a:xfrm rot="20876400">
                <a:off x="3468600" y="4971960"/>
                <a:ext cx="1438200" cy="66672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400560" y="3753000"/>
                <a:ext cx="1704960" cy="17064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421080" y="3762360"/>
                <a:ext cx="1665360" cy="16635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438360" y="3778200"/>
                <a:ext cx="1584360" cy="15559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530520" y="3822840"/>
                <a:ext cx="1409760" cy="1261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818160" y="4379760"/>
                <a:ext cx="872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ext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1549440" y="3371760"/>
              <a:ext cx="1371240" cy="1718640"/>
              <a:chOff x="1549440" y="3371760"/>
              <a:chExt cx="1371240" cy="1718640"/>
            </a:xfrm>
          </p:grpSpPr>
          <p:sp>
            <p:nvSpPr>
              <p:cNvPr id="281" name=""/>
              <p:cNvSpPr/>
              <p:nvPr/>
            </p:nvSpPr>
            <p:spPr>
              <a:xfrm rot="20826600">
                <a:off x="1625760" y="4362120"/>
                <a:ext cx="1133280" cy="60948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1549440" y="3371760"/>
                <a:ext cx="1371240" cy="1441080"/>
                <a:chOff x="1549440" y="3371760"/>
                <a:chExt cx="1371240" cy="1441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1549440" y="3371760"/>
                  <a:ext cx="1371240" cy="1441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1567080" y="3380040"/>
                  <a:ext cx="1337400" cy="140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1580400" y="3393720"/>
                  <a:ext cx="1271880" cy="1313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1652040" y="3430440"/>
                  <a:ext cx="1131840" cy="106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1829880" y="3877920"/>
                  <a:ext cx="773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Text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8" name=""/>
            <p:cNvGrpSpPr/>
            <p:nvPr/>
          </p:nvGrpSpPr>
          <p:grpSpPr>
            <a:xfrm>
              <a:off x="1490760" y="2060640"/>
              <a:ext cx="1100160" cy="1139760"/>
              <a:chOff x="1490760" y="2060640"/>
              <a:chExt cx="1100160" cy="1139760"/>
            </a:xfrm>
          </p:grpSpPr>
          <p:sp>
            <p:nvSpPr>
              <p:cNvPr id="289" name=""/>
              <p:cNvSpPr/>
              <p:nvPr/>
            </p:nvSpPr>
            <p:spPr>
              <a:xfrm>
                <a:off x="1490760" y="2666880"/>
                <a:ext cx="914400" cy="53352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566720" y="2060640"/>
                <a:ext cx="1024200" cy="10238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579680" y="206532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90840" y="2076480"/>
                <a:ext cx="950760" cy="9334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644480" y="2101680"/>
                <a:ext cx="847800" cy="757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764000" y="2409840"/>
                <a:ext cx="650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ext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2714760" y="1600200"/>
              <a:ext cx="804600" cy="762120"/>
              <a:chOff x="2714760" y="1600200"/>
              <a:chExt cx="804600" cy="762120"/>
            </a:xfrm>
          </p:grpSpPr>
          <p:sp>
            <p:nvSpPr>
              <p:cNvPr id="296" name=""/>
              <p:cNvSpPr/>
              <p:nvPr/>
            </p:nvSpPr>
            <p:spPr>
              <a:xfrm>
                <a:off x="2714760" y="2133720"/>
                <a:ext cx="685800" cy="22860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836800" y="1600200"/>
                <a:ext cx="682560" cy="6825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846520" y="1603440"/>
                <a:ext cx="664920" cy="6667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852640" y="1609560"/>
                <a:ext cx="633600" cy="6224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889360" y="1628640"/>
                <a:ext cx="563400" cy="5032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907360" y="1824120"/>
                <a:ext cx="546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ext</a:t>
                </a:r>
                <a:endParaRPr b="0" lang="en-US" sz="1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ycle 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990720" y="1447920"/>
            <a:ext cx="7543800" cy="4570200"/>
            <a:chOff x="990720" y="1447920"/>
            <a:chExt cx="7543800" cy="4570200"/>
          </a:xfrm>
        </p:grpSpPr>
        <p:sp>
          <p:nvSpPr>
            <p:cNvPr id="304" name=""/>
            <p:cNvSpPr/>
            <p:nvPr/>
          </p:nvSpPr>
          <p:spPr>
            <a:xfrm>
              <a:off x="2911320" y="2212920"/>
              <a:ext cx="3633840" cy="365472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2b8a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05" name=""/>
            <p:cNvGrpSpPr/>
            <p:nvPr/>
          </p:nvGrpSpPr>
          <p:grpSpPr>
            <a:xfrm>
              <a:off x="3801960" y="3127320"/>
              <a:ext cx="1852560" cy="1967040"/>
              <a:chOff x="3801960" y="3127320"/>
              <a:chExt cx="1852560" cy="1967040"/>
            </a:xfrm>
          </p:grpSpPr>
          <p:sp>
            <p:nvSpPr>
              <p:cNvPr id="306" name=""/>
              <p:cNvSpPr/>
              <p:nvPr/>
            </p:nvSpPr>
            <p:spPr>
              <a:xfrm>
                <a:off x="3801960" y="3127320"/>
                <a:ext cx="1852560" cy="196704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732e00"/>
                  </a:gs>
                </a:gsLst>
                <a:lin ang="5400000"/>
              </a:gra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013640" y="3159720"/>
                <a:ext cx="1429200" cy="7423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08" name=""/>
            <p:cNvSpPr/>
            <p:nvPr/>
          </p:nvSpPr>
          <p:spPr>
            <a:xfrm>
              <a:off x="4066560" y="390060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宋体"/>
                </a:rPr>
                <a:t>Concept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09" name=""/>
            <p:cNvGrpSpPr/>
            <p:nvPr/>
          </p:nvGrpSpPr>
          <p:grpSpPr>
            <a:xfrm>
              <a:off x="4351320" y="1862280"/>
              <a:ext cx="617400" cy="608040"/>
              <a:chOff x="4351320" y="1862280"/>
              <a:chExt cx="617400" cy="608040"/>
            </a:xfrm>
          </p:grpSpPr>
          <p:grpSp>
            <p:nvGrpSpPr>
              <p:cNvPr id="310" name=""/>
              <p:cNvGrpSpPr/>
              <p:nvPr/>
            </p:nvGrpSpPr>
            <p:grpSpPr>
              <a:xfrm>
                <a:off x="4351320" y="1862280"/>
                <a:ext cx="617400" cy="608040"/>
                <a:chOff x="4351320" y="1862280"/>
                <a:chExt cx="617400" cy="608040"/>
              </a:xfrm>
            </p:grpSpPr>
            <p:sp>
              <p:nvSpPr>
                <p:cNvPr id="311" name=""/>
                <p:cNvSpPr/>
                <p:nvPr/>
              </p:nvSpPr>
              <p:spPr>
                <a:xfrm>
                  <a:off x="4351320" y="1862280"/>
                  <a:ext cx="617400" cy="608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6b4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4421880" y="1872360"/>
                  <a:ext cx="476280" cy="2293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99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3" name=""/>
              <p:cNvSpPr/>
              <p:nvPr/>
            </p:nvSpPr>
            <p:spPr>
              <a:xfrm>
                <a:off x="4480560" y="1955880"/>
                <a:ext cx="38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B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14" name=""/>
            <p:cNvGrpSpPr/>
            <p:nvPr/>
          </p:nvGrpSpPr>
          <p:grpSpPr>
            <a:xfrm>
              <a:off x="3750480" y="4892040"/>
              <a:ext cx="333360" cy="307440"/>
              <a:chOff x="3750480" y="4892040"/>
              <a:chExt cx="333360" cy="307440"/>
            </a:xfrm>
          </p:grpSpPr>
          <p:sp>
            <p:nvSpPr>
              <p:cNvPr id="315" name=""/>
              <p:cNvSpPr/>
              <p:nvPr/>
            </p:nvSpPr>
            <p:spPr>
              <a:xfrm rot="18226800">
                <a:off x="3775320" y="5052600"/>
                <a:ext cx="120600" cy="12420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636363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400" bIns="414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8226800">
                <a:off x="3938400" y="4914360"/>
                <a:ext cx="120600" cy="12420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636363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400" bIns="414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184560" y="5160960"/>
              <a:ext cx="617400" cy="631800"/>
              <a:chOff x="3184560" y="5160960"/>
              <a:chExt cx="617400" cy="631800"/>
            </a:xfrm>
          </p:grpSpPr>
          <p:grpSp>
            <p:nvGrpSpPr>
              <p:cNvPr id="318" name=""/>
              <p:cNvGrpSpPr/>
              <p:nvPr/>
            </p:nvGrpSpPr>
            <p:grpSpPr>
              <a:xfrm>
                <a:off x="3184560" y="5160960"/>
                <a:ext cx="617400" cy="631800"/>
                <a:chOff x="3184560" y="5160960"/>
                <a:chExt cx="617400" cy="63180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3184560" y="5160960"/>
                  <a:ext cx="617400" cy="631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69696"/>
                    </a:gs>
                    <a:gs pos="100000">
                      <a:srgbClr val="24242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3255120" y="5171400"/>
                  <a:ext cx="476280" cy="2383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6969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1" name=""/>
              <p:cNvSpPr/>
              <p:nvPr/>
            </p:nvSpPr>
            <p:spPr>
              <a:xfrm>
                <a:off x="3309480" y="5279400"/>
                <a:ext cx="35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E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6205680" y="3127320"/>
              <a:ext cx="614160" cy="640080"/>
              <a:chOff x="6205680" y="3127320"/>
              <a:chExt cx="614160" cy="640080"/>
            </a:xfrm>
          </p:grpSpPr>
          <p:grpSp>
            <p:nvGrpSpPr>
              <p:cNvPr id="323" name=""/>
              <p:cNvGrpSpPr/>
              <p:nvPr/>
            </p:nvGrpSpPr>
            <p:grpSpPr>
              <a:xfrm>
                <a:off x="6205680" y="3127320"/>
                <a:ext cx="614160" cy="640080"/>
                <a:chOff x="6205680" y="3127320"/>
                <a:chExt cx="614160" cy="64008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6205680" y="3127320"/>
                  <a:ext cx="614160" cy="640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99ff"/>
                    </a:gs>
                    <a:gs pos="100000">
                      <a:srgbClr val="c3c3f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6275880" y="3137760"/>
                  <a:ext cx="473760" cy="2415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999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6" name=""/>
              <p:cNvSpPr/>
              <p:nvPr/>
            </p:nvSpPr>
            <p:spPr>
              <a:xfrm>
                <a:off x="6319080" y="3215160"/>
                <a:ext cx="37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C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5654520" y="5164200"/>
              <a:ext cx="587520" cy="574560"/>
              <a:chOff x="5654520" y="5164200"/>
              <a:chExt cx="587520" cy="5745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5654520" y="5164200"/>
                <a:ext cx="587520" cy="574560"/>
                <a:chOff x="5654520" y="5164200"/>
                <a:chExt cx="587520" cy="57456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5654520" y="5164200"/>
                  <a:ext cx="587520" cy="57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6464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5721480" y="5173560"/>
                  <a:ext cx="453240" cy="216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5776200" y="519480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D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32" name=""/>
            <p:cNvGrpSpPr/>
            <p:nvPr/>
          </p:nvGrpSpPr>
          <p:grpSpPr>
            <a:xfrm>
              <a:off x="2705040" y="3127320"/>
              <a:ext cx="617760" cy="632160"/>
              <a:chOff x="2705040" y="3127320"/>
              <a:chExt cx="617760" cy="632160"/>
            </a:xfrm>
          </p:grpSpPr>
          <p:grpSp>
            <p:nvGrpSpPr>
              <p:cNvPr id="333" name=""/>
              <p:cNvGrpSpPr/>
              <p:nvPr/>
            </p:nvGrpSpPr>
            <p:grpSpPr>
              <a:xfrm>
                <a:off x="2705040" y="3127320"/>
                <a:ext cx="617760" cy="632160"/>
                <a:chOff x="2705040" y="3127320"/>
                <a:chExt cx="617760" cy="63216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2705040" y="3127320"/>
                  <a:ext cx="617760" cy="632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b8a91"/>
                    </a:gs>
                    <a:gs pos="100000">
                      <a:srgbClr val="133e4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2775600" y="3137760"/>
                  <a:ext cx="476640" cy="2386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2b8a9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6" name=""/>
              <p:cNvSpPr/>
              <p:nvPr/>
            </p:nvSpPr>
            <p:spPr>
              <a:xfrm>
                <a:off x="2830680" y="319752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37" name=""/>
            <p:cNvSpPr/>
            <p:nvPr/>
          </p:nvSpPr>
          <p:spPr>
            <a:xfrm rot="18226800">
              <a:off x="5587920" y="5020560"/>
              <a:ext cx="119160" cy="12564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929292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rot="18226800">
              <a:off x="5449680" y="4881240"/>
              <a:ext cx="120600" cy="12384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929292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39" name=""/>
            <p:cNvGrpSpPr/>
            <p:nvPr/>
          </p:nvGrpSpPr>
          <p:grpSpPr>
            <a:xfrm>
              <a:off x="3367800" y="3523680"/>
              <a:ext cx="375840" cy="238680"/>
              <a:chOff x="3367800" y="3523680"/>
              <a:chExt cx="375840" cy="238680"/>
            </a:xfrm>
          </p:grpSpPr>
          <p:sp>
            <p:nvSpPr>
              <p:cNvPr id="340" name=""/>
              <p:cNvSpPr/>
              <p:nvPr/>
            </p:nvSpPr>
            <p:spPr>
              <a:xfrm rot="18226800">
                <a:off x="3392640" y="3546000"/>
                <a:ext cx="120240" cy="124200"/>
              </a:xfrm>
              <a:prstGeom prst="ellipse">
                <a:avLst/>
              </a:prstGeom>
              <a:gradFill rotWithShape="0">
                <a:gsLst>
                  <a:gs pos="0">
                    <a:srgbClr val="2b8a91"/>
                  </a:gs>
                  <a:gs pos="100000">
                    <a:srgbClr val="184f53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400" bIns="414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rot="18226800">
                <a:off x="3598560" y="3615840"/>
                <a:ext cx="119880" cy="124200"/>
              </a:xfrm>
              <a:prstGeom prst="ellipse">
                <a:avLst/>
              </a:prstGeom>
              <a:gradFill rotWithShape="0">
                <a:gsLst>
                  <a:gs pos="0">
                    <a:srgbClr val="2b8a91"/>
                  </a:gs>
                  <a:gs pos="100000">
                    <a:srgbClr val="14424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400" bIns="414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42" name=""/>
            <p:cNvGrpSpPr/>
            <p:nvPr/>
          </p:nvGrpSpPr>
          <p:grpSpPr>
            <a:xfrm>
              <a:off x="4603320" y="2580480"/>
              <a:ext cx="169560" cy="429120"/>
              <a:chOff x="4603320" y="2580480"/>
              <a:chExt cx="169560" cy="429120"/>
            </a:xfrm>
          </p:grpSpPr>
          <p:sp>
            <p:nvSpPr>
              <p:cNvPr id="343" name=""/>
              <p:cNvSpPr/>
              <p:nvPr/>
            </p:nvSpPr>
            <p:spPr>
              <a:xfrm rot="18226800">
                <a:off x="4628160" y="2602800"/>
                <a:ext cx="119880" cy="123840"/>
              </a:xfrm>
              <a:prstGeom prst="ellips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7345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rot="18226800">
                <a:off x="4628160" y="2863440"/>
                <a:ext cx="119880" cy="123840"/>
              </a:xfrm>
              <a:prstGeom prst="ellips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7b4a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45" name=""/>
            <p:cNvSpPr/>
            <p:nvPr/>
          </p:nvSpPr>
          <p:spPr>
            <a:xfrm rot="18226800">
              <a:off x="5947560" y="3572280"/>
              <a:ext cx="120600" cy="125640"/>
            </a:xfrm>
            <a:prstGeom prst="ellipse">
              <a:avLst/>
            </a:prstGeom>
            <a:gradFill rotWithShape="0">
              <a:gsLst>
                <a:gs pos="0">
                  <a:srgbClr val="b1b1fe"/>
                </a:gs>
                <a:gs pos="100000">
                  <a:srgbClr val="9999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rot="18226800">
              <a:off x="5725080" y="3687120"/>
              <a:ext cx="118800" cy="123840"/>
            </a:xfrm>
            <a:prstGeom prst="ellipse">
              <a:avLst/>
            </a:prstGeom>
            <a:gradFill rotWithShape="0">
              <a:gsLst>
                <a:gs pos="0">
                  <a:srgbClr val="b1b1fe"/>
                </a:gs>
                <a:gs pos="100000">
                  <a:srgbClr val="9999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990720" y="3267360"/>
              <a:ext cx="1714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d528d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276720" y="1447920"/>
              <a:ext cx="297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d528d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819840" y="3281400"/>
              <a:ext cx="171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d528d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333440" y="5375520"/>
              <a:ext cx="171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d528d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270480" y="5375520"/>
              <a:ext cx="171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d528d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54" name="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60" name="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61" name="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SucaiFengbao is a Design Digital Content &amp; Contents mall developed by Guild Design Inc.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69" name="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SucaiFengbao is a Design Digital Content &amp; Contents mall developed by Guild Design Inc.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383" name="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388" name="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93" name="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SucaiFengbao is a Design Digital Content &amp; Contents mall developed by Guild Design Inc.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0" y="1828800"/>
            <a:ext cx="9144000" cy="4188960"/>
            <a:chOff x="0" y="1828800"/>
            <a:chExt cx="9144000" cy="4188960"/>
          </a:xfrm>
        </p:grpSpPr>
        <p:grpSp>
          <p:nvGrpSpPr>
            <p:cNvPr id="399" name=""/>
            <p:cNvGrpSpPr/>
            <p:nvPr/>
          </p:nvGrpSpPr>
          <p:grpSpPr>
            <a:xfrm>
              <a:off x="0" y="3238560"/>
              <a:ext cx="9144000" cy="122040"/>
              <a:chOff x="0" y="3238560"/>
              <a:chExt cx="9144000" cy="122040"/>
            </a:xfrm>
          </p:grpSpPr>
          <p:sp>
            <p:nvSpPr>
              <p:cNvPr id="400" name=""/>
              <p:cNvSpPr/>
              <p:nvPr/>
            </p:nvSpPr>
            <p:spPr>
              <a:xfrm>
                <a:off x="0" y="3238560"/>
                <a:ext cx="9144000" cy="475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0" y="3285360"/>
                <a:ext cx="9144000" cy="75240"/>
              </a:xfrm>
              <a:prstGeom prst="rect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762120" y="2685960"/>
              <a:ext cx="1932480" cy="3265200"/>
              <a:chOff x="762120" y="2685960"/>
              <a:chExt cx="1932480" cy="3265200"/>
            </a:xfrm>
          </p:grpSpPr>
          <p:grpSp>
            <p:nvGrpSpPr>
              <p:cNvPr id="403" name=""/>
              <p:cNvGrpSpPr/>
              <p:nvPr/>
            </p:nvGrpSpPr>
            <p:grpSpPr>
              <a:xfrm>
                <a:off x="1170720" y="3529080"/>
                <a:ext cx="1523880" cy="2422080"/>
                <a:chOff x="1170720" y="3529080"/>
                <a:chExt cx="1523880" cy="2422080"/>
              </a:xfrm>
            </p:grpSpPr>
            <p:grpSp>
              <p:nvGrpSpPr>
                <p:cNvPr id="404" name=""/>
                <p:cNvGrpSpPr/>
                <p:nvPr/>
              </p:nvGrpSpPr>
              <p:grpSpPr>
                <a:xfrm>
                  <a:off x="1170720" y="3686760"/>
                  <a:ext cx="1418760" cy="2264400"/>
                  <a:chOff x="1170720" y="3686760"/>
                  <a:chExt cx="1418760" cy="2264400"/>
                </a:xfrm>
              </p:grpSpPr>
              <p:sp>
                <p:nvSpPr>
                  <p:cNvPr id="405" name=""/>
                  <p:cNvSpPr/>
                  <p:nvPr/>
                </p:nvSpPr>
                <p:spPr>
                  <a:xfrm rot="3876600">
                    <a:off x="743040" y="4573080"/>
                    <a:ext cx="2273400" cy="491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 rot="3876600">
                    <a:off x="2108880" y="5451480"/>
                    <a:ext cx="357120" cy="40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7" name=""/>
                <p:cNvGrpSpPr/>
                <p:nvPr/>
              </p:nvGrpSpPr>
              <p:grpSpPr>
                <a:xfrm>
                  <a:off x="1605960" y="3529080"/>
                  <a:ext cx="1088640" cy="1737720"/>
                  <a:chOff x="1605960" y="3529080"/>
                  <a:chExt cx="1088640" cy="1737720"/>
                </a:xfrm>
              </p:grpSpPr>
              <p:sp>
                <p:nvSpPr>
                  <p:cNvPr id="408" name=""/>
                  <p:cNvSpPr/>
                  <p:nvPr/>
                </p:nvSpPr>
                <p:spPr>
                  <a:xfrm flipV="1" rot="3876600">
                    <a:off x="1277640" y="4209120"/>
                    <a:ext cx="1744560" cy="37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 flipV="1" rot="3876600">
                    <a:off x="2310840" y="4889520"/>
                    <a:ext cx="273960" cy="3085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0" name=""/>
              <p:cNvGrpSpPr/>
              <p:nvPr/>
            </p:nvGrpSpPr>
            <p:grpSpPr>
              <a:xfrm>
                <a:off x="762120" y="2685960"/>
                <a:ext cx="1268280" cy="1308240"/>
                <a:chOff x="762120" y="2685960"/>
                <a:chExt cx="1268280" cy="1308240"/>
              </a:xfrm>
            </p:grpSpPr>
            <p:sp>
              <p:nvSpPr>
                <p:cNvPr id="411" name=""/>
                <p:cNvSpPr/>
                <p:nvPr/>
              </p:nvSpPr>
              <p:spPr>
                <a:xfrm>
                  <a:off x="762120" y="2685960"/>
                  <a:ext cx="1268280" cy="130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762120" y="2685960"/>
                  <a:ext cx="1268280" cy="130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845640" y="2770920"/>
                  <a:ext cx="110052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845640" y="2773800"/>
                  <a:ext cx="110052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900360" y="2828520"/>
                  <a:ext cx="991440" cy="1022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grpSp>
              <p:nvGrpSpPr>
                <p:cNvPr id="416" name=""/>
                <p:cNvGrpSpPr/>
                <p:nvPr/>
              </p:nvGrpSpPr>
              <p:grpSpPr>
                <a:xfrm>
                  <a:off x="915840" y="2844360"/>
                  <a:ext cx="960480" cy="992520"/>
                  <a:chOff x="915840" y="2844360"/>
                  <a:chExt cx="960480" cy="992520"/>
                </a:xfrm>
              </p:grpSpPr>
              <p:sp>
                <p:nvSpPr>
                  <p:cNvPr id="417" name=""/>
                  <p:cNvSpPr/>
                  <p:nvPr/>
                </p:nvSpPr>
                <p:spPr>
                  <a:xfrm>
                    <a:off x="915840" y="2844360"/>
                    <a:ext cx="960480" cy="992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927720" y="2849760"/>
                    <a:ext cx="937440" cy="968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937800" y="2859120"/>
                    <a:ext cx="891360" cy="904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990000" y="2884680"/>
                    <a:ext cx="792360" cy="734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21" name=""/>
              <p:cNvSpPr/>
              <p:nvPr/>
            </p:nvSpPr>
            <p:spPr>
              <a:xfrm rot="3925800">
                <a:off x="1126800" y="45014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rot="3925800">
                <a:off x="1591200" y="42256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d528d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2509920" y="2685960"/>
              <a:ext cx="1930320" cy="3265200"/>
              <a:chOff x="2509920" y="2685960"/>
              <a:chExt cx="1930320" cy="3265200"/>
            </a:xfrm>
          </p:grpSpPr>
          <p:grpSp>
            <p:nvGrpSpPr>
              <p:cNvPr id="424" name=""/>
              <p:cNvGrpSpPr/>
              <p:nvPr/>
            </p:nvGrpSpPr>
            <p:grpSpPr>
              <a:xfrm>
                <a:off x="2916360" y="3529080"/>
                <a:ext cx="1523880" cy="2422080"/>
                <a:chOff x="2916360" y="3529080"/>
                <a:chExt cx="1523880" cy="2422080"/>
              </a:xfrm>
            </p:grpSpPr>
            <p:grpSp>
              <p:nvGrpSpPr>
                <p:cNvPr id="425" name=""/>
                <p:cNvGrpSpPr/>
                <p:nvPr/>
              </p:nvGrpSpPr>
              <p:grpSpPr>
                <a:xfrm>
                  <a:off x="2916360" y="3686760"/>
                  <a:ext cx="1418760" cy="2264400"/>
                  <a:chOff x="2916360" y="3686760"/>
                  <a:chExt cx="1418760" cy="2264400"/>
                </a:xfrm>
              </p:grpSpPr>
              <p:sp>
                <p:nvSpPr>
                  <p:cNvPr id="426" name=""/>
                  <p:cNvSpPr/>
                  <p:nvPr/>
                </p:nvSpPr>
                <p:spPr>
                  <a:xfrm rot="3876600">
                    <a:off x="2488680" y="4573080"/>
                    <a:ext cx="2273400" cy="491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 rot="3876600">
                    <a:off x="3854520" y="5451480"/>
                    <a:ext cx="357120" cy="40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8" name=""/>
                <p:cNvGrpSpPr/>
                <p:nvPr/>
              </p:nvGrpSpPr>
              <p:grpSpPr>
                <a:xfrm>
                  <a:off x="3351600" y="3529080"/>
                  <a:ext cx="1088640" cy="1737720"/>
                  <a:chOff x="3351600" y="3529080"/>
                  <a:chExt cx="1088640" cy="1737720"/>
                </a:xfrm>
              </p:grpSpPr>
              <p:sp>
                <p:nvSpPr>
                  <p:cNvPr id="429" name=""/>
                  <p:cNvSpPr/>
                  <p:nvPr/>
                </p:nvSpPr>
                <p:spPr>
                  <a:xfrm flipV="1" rot="3876600">
                    <a:off x="3023280" y="4209120"/>
                    <a:ext cx="1744560" cy="37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 flipV="1" rot="3876600">
                    <a:off x="4056480" y="4889880"/>
                    <a:ext cx="273960" cy="3085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1" name=""/>
              <p:cNvGrpSpPr/>
              <p:nvPr/>
            </p:nvGrpSpPr>
            <p:grpSpPr>
              <a:xfrm>
                <a:off x="2509920" y="2685960"/>
                <a:ext cx="1268280" cy="1308240"/>
                <a:chOff x="2509920" y="2685960"/>
                <a:chExt cx="1268280" cy="1308240"/>
              </a:xfrm>
            </p:grpSpPr>
            <p:sp>
              <p:nvSpPr>
                <p:cNvPr id="432" name=""/>
                <p:cNvSpPr/>
                <p:nvPr/>
              </p:nvSpPr>
              <p:spPr>
                <a:xfrm>
                  <a:off x="2509920" y="2685960"/>
                  <a:ext cx="1268280" cy="130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2509920" y="2685960"/>
                  <a:ext cx="1268280" cy="130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2593440" y="2770920"/>
                  <a:ext cx="110052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2593440" y="2773800"/>
                  <a:ext cx="110052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2648160" y="2828520"/>
                  <a:ext cx="991440" cy="1022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grpSp>
              <p:nvGrpSpPr>
                <p:cNvPr id="437" name=""/>
                <p:cNvGrpSpPr/>
                <p:nvPr/>
              </p:nvGrpSpPr>
              <p:grpSpPr>
                <a:xfrm>
                  <a:off x="2663640" y="2844360"/>
                  <a:ext cx="960480" cy="992520"/>
                  <a:chOff x="2663640" y="2844360"/>
                  <a:chExt cx="960480" cy="992520"/>
                </a:xfrm>
              </p:grpSpPr>
              <p:sp>
                <p:nvSpPr>
                  <p:cNvPr id="438" name=""/>
                  <p:cNvSpPr/>
                  <p:nvPr/>
                </p:nvSpPr>
                <p:spPr>
                  <a:xfrm>
                    <a:off x="2663640" y="2844360"/>
                    <a:ext cx="960480" cy="992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>
                    <a:off x="2675520" y="2849760"/>
                    <a:ext cx="937440" cy="968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2685600" y="2859120"/>
                    <a:ext cx="891360" cy="904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2737800" y="2884680"/>
                    <a:ext cx="792360" cy="734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42" name=""/>
              <p:cNvSpPr/>
              <p:nvPr/>
            </p:nvSpPr>
            <p:spPr>
              <a:xfrm rot="3925800">
                <a:off x="2868120" y="45014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rot="3925800">
                <a:off x="3332880" y="42256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d528d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44" name=""/>
            <p:cNvGrpSpPr/>
            <p:nvPr/>
          </p:nvGrpSpPr>
          <p:grpSpPr>
            <a:xfrm>
              <a:off x="4313160" y="2685960"/>
              <a:ext cx="1932120" cy="3265200"/>
              <a:chOff x="4313160" y="2685960"/>
              <a:chExt cx="1932120" cy="3265200"/>
            </a:xfrm>
          </p:grpSpPr>
          <p:grpSp>
            <p:nvGrpSpPr>
              <p:cNvPr id="445" name=""/>
              <p:cNvGrpSpPr/>
              <p:nvPr/>
            </p:nvGrpSpPr>
            <p:grpSpPr>
              <a:xfrm>
                <a:off x="4721400" y="3529080"/>
                <a:ext cx="1523880" cy="2422080"/>
                <a:chOff x="4721400" y="3529080"/>
                <a:chExt cx="1523880" cy="2422080"/>
              </a:xfrm>
            </p:grpSpPr>
            <p:grpSp>
              <p:nvGrpSpPr>
                <p:cNvPr id="446" name=""/>
                <p:cNvGrpSpPr/>
                <p:nvPr/>
              </p:nvGrpSpPr>
              <p:grpSpPr>
                <a:xfrm>
                  <a:off x="4721400" y="3686760"/>
                  <a:ext cx="1418760" cy="2264400"/>
                  <a:chOff x="4721400" y="3686760"/>
                  <a:chExt cx="1418760" cy="2264400"/>
                </a:xfrm>
              </p:grpSpPr>
              <p:sp>
                <p:nvSpPr>
                  <p:cNvPr id="447" name=""/>
                  <p:cNvSpPr/>
                  <p:nvPr/>
                </p:nvSpPr>
                <p:spPr>
                  <a:xfrm rot="3876600">
                    <a:off x="4293720" y="4573080"/>
                    <a:ext cx="2273400" cy="491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 rot="3876600">
                    <a:off x="5659560" y="5451480"/>
                    <a:ext cx="357120" cy="40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9" name=""/>
                <p:cNvGrpSpPr/>
                <p:nvPr/>
              </p:nvGrpSpPr>
              <p:grpSpPr>
                <a:xfrm>
                  <a:off x="5156640" y="3529080"/>
                  <a:ext cx="1088640" cy="1737720"/>
                  <a:chOff x="5156640" y="3529080"/>
                  <a:chExt cx="1088640" cy="1737720"/>
                </a:xfrm>
              </p:grpSpPr>
              <p:sp>
                <p:nvSpPr>
                  <p:cNvPr id="450" name=""/>
                  <p:cNvSpPr/>
                  <p:nvPr/>
                </p:nvSpPr>
                <p:spPr>
                  <a:xfrm flipV="1" rot="3876600">
                    <a:off x="4828320" y="4209120"/>
                    <a:ext cx="1744560" cy="37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 flipV="1" rot="3876600">
                    <a:off x="5861520" y="4889880"/>
                    <a:ext cx="273960" cy="3085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52" name=""/>
              <p:cNvGrpSpPr/>
              <p:nvPr/>
            </p:nvGrpSpPr>
            <p:grpSpPr>
              <a:xfrm>
                <a:off x="4313160" y="2685960"/>
                <a:ext cx="1270080" cy="1308240"/>
                <a:chOff x="4313160" y="2685960"/>
                <a:chExt cx="1270080" cy="1308240"/>
              </a:xfrm>
            </p:grpSpPr>
            <p:sp>
              <p:nvSpPr>
                <p:cNvPr id="453" name=""/>
                <p:cNvSpPr/>
                <p:nvPr/>
              </p:nvSpPr>
              <p:spPr>
                <a:xfrm>
                  <a:off x="4313160" y="2685960"/>
                  <a:ext cx="1270080" cy="130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4313160" y="2685960"/>
                  <a:ext cx="1270080" cy="130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4396680" y="2770920"/>
                  <a:ext cx="110232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4396680" y="2773800"/>
                  <a:ext cx="110232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4451400" y="2828520"/>
                  <a:ext cx="992880" cy="1022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grpSp>
              <p:nvGrpSpPr>
                <p:cNvPr id="458" name=""/>
                <p:cNvGrpSpPr/>
                <p:nvPr/>
              </p:nvGrpSpPr>
              <p:grpSpPr>
                <a:xfrm>
                  <a:off x="4466880" y="2844360"/>
                  <a:ext cx="961920" cy="992520"/>
                  <a:chOff x="4466880" y="2844360"/>
                  <a:chExt cx="961920" cy="992520"/>
                </a:xfrm>
              </p:grpSpPr>
              <p:sp>
                <p:nvSpPr>
                  <p:cNvPr id="459" name=""/>
                  <p:cNvSpPr/>
                  <p:nvPr/>
                </p:nvSpPr>
                <p:spPr>
                  <a:xfrm>
                    <a:off x="4466880" y="2844360"/>
                    <a:ext cx="961920" cy="992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>
                    <a:off x="4478760" y="2849760"/>
                    <a:ext cx="938880" cy="968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>
                    <a:off x="4488840" y="2859120"/>
                    <a:ext cx="892800" cy="904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>
                    <a:off x="4541400" y="2884680"/>
                    <a:ext cx="793440" cy="734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63" name=""/>
              <p:cNvSpPr/>
              <p:nvPr/>
            </p:nvSpPr>
            <p:spPr>
              <a:xfrm rot="3925800">
                <a:off x="4681080" y="45014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rot="3925800">
                <a:off x="5145480" y="42256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d528d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65" name=""/>
            <p:cNvGrpSpPr/>
            <p:nvPr/>
          </p:nvGrpSpPr>
          <p:grpSpPr>
            <a:xfrm>
              <a:off x="6089760" y="2541600"/>
              <a:ext cx="2122920" cy="3476160"/>
              <a:chOff x="6089760" y="2541600"/>
              <a:chExt cx="2122920" cy="3476160"/>
            </a:xfrm>
          </p:grpSpPr>
          <p:grpSp>
            <p:nvGrpSpPr>
              <p:cNvPr id="466" name=""/>
              <p:cNvGrpSpPr/>
              <p:nvPr/>
            </p:nvGrpSpPr>
            <p:grpSpPr>
              <a:xfrm>
                <a:off x="6688800" y="3595680"/>
                <a:ext cx="1523880" cy="2422080"/>
                <a:chOff x="6688800" y="3595680"/>
                <a:chExt cx="1523880" cy="2422080"/>
              </a:xfrm>
            </p:grpSpPr>
            <p:grpSp>
              <p:nvGrpSpPr>
                <p:cNvPr id="467" name=""/>
                <p:cNvGrpSpPr/>
                <p:nvPr/>
              </p:nvGrpSpPr>
              <p:grpSpPr>
                <a:xfrm>
                  <a:off x="6688800" y="3753360"/>
                  <a:ext cx="1418760" cy="2264400"/>
                  <a:chOff x="6688800" y="3753360"/>
                  <a:chExt cx="1418760" cy="2264400"/>
                </a:xfrm>
              </p:grpSpPr>
              <p:sp>
                <p:nvSpPr>
                  <p:cNvPr id="468" name=""/>
                  <p:cNvSpPr/>
                  <p:nvPr/>
                </p:nvSpPr>
                <p:spPr>
                  <a:xfrm rot="3876600">
                    <a:off x="6261120" y="4639680"/>
                    <a:ext cx="2273400" cy="491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 rot="3876600">
                    <a:off x="7626960" y="5518080"/>
                    <a:ext cx="357120" cy="40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0" name=""/>
                <p:cNvGrpSpPr/>
                <p:nvPr/>
              </p:nvGrpSpPr>
              <p:grpSpPr>
                <a:xfrm>
                  <a:off x="7124040" y="3595680"/>
                  <a:ext cx="1088640" cy="1737720"/>
                  <a:chOff x="7124040" y="3595680"/>
                  <a:chExt cx="1088640" cy="1737720"/>
                </a:xfrm>
              </p:grpSpPr>
              <p:sp>
                <p:nvSpPr>
                  <p:cNvPr id="471" name=""/>
                  <p:cNvSpPr/>
                  <p:nvPr/>
                </p:nvSpPr>
                <p:spPr>
                  <a:xfrm flipV="1" rot="3876600">
                    <a:off x="6795720" y="4275720"/>
                    <a:ext cx="1744560" cy="37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 flipV="1" rot="3876600">
                    <a:off x="7828920" y="4956120"/>
                    <a:ext cx="273960" cy="3085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73" name=""/>
              <p:cNvSpPr/>
              <p:nvPr/>
            </p:nvSpPr>
            <p:spPr>
              <a:xfrm>
                <a:off x="6089760" y="2541600"/>
                <a:ext cx="1523880" cy="15685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399f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089760" y="2541600"/>
                <a:ext cx="1523880" cy="156852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3399ff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191280" y="2644920"/>
                <a:ext cx="1324080" cy="1361880"/>
              </a:xfrm>
              <a:prstGeom prst="ellipse">
                <a:avLst/>
              </a:prstGeom>
              <a:gradFill rotWithShape="0">
                <a:gsLst>
                  <a:gs pos="0">
                    <a:srgbClr val="1b5289"/>
                  </a:gs>
                  <a:gs pos="50000">
                    <a:srgbClr val="3399ff"/>
                  </a:gs>
                  <a:gs pos="100000">
                    <a:srgbClr val="1b528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192720" y="2647800"/>
                <a:ext cx="1324080" cy="136224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0"/>
                    </a:srgbClr>
                  </a:gs>
                  <a:gs pos="100000">
                    <a:srgbClr val="2060a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6256440" y="2712960"/>
                <a:ext cx="1191960" cy="12258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78" name=""/>
              <p:cNvGrpSpPr/>
              <p:nvPr/>
            </p:nvGrpSpPr>
            <p:grpSpPr>
              <a:xfrm>
                <a:off x="6275520" y="2732040"/>
                <a:ext cx="1155600" cy="1189080"/>
                <a:chOff x="6275520" y="2732040"/>
                <a:chExt cx="1155600" cy="1189080"/>
              </a:xfrm>
            </p:grpSpPr>
            <p:sp>
              <p:nvSpPr>
                <p:cNvPr id="479" name=""/>
                <p:cNvSpPr/>
                <p:nvPr/>
              </p:nvSpPr>
              <p:spPr>
                <a:xfrm>
                  <a:off x="6275520" y="2732040"/>
                  <a:ext cx="1155600" cy="1189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6289920" y="2738520"/>
                  <a:ext cx="1127880" cy="1159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6302160" y="2750040"/>
                  <a:ext cx="1072440" cy="1083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6364800" y="2780280"/>
                  <a:ext cx="953280" cy="87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3" name=""/>
              <p:cNvSpPr/>
              <p:nvPr/>
            </p:nvSpPr>
            <p:spPr>
              <a:xfrm rot="3925800">
                <a:off x="6633720" y="46443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rot="3925800">
                <a:off x="7096680" y="43686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d528d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85" name=""/>
            <p:cNvGrpSpPr/>
            <p:nvPr/>
          </p:nvGrpSpPr>
          <p:grpSpPr>
            <a:xfrm>
              <a:off x="1101600" y="1828800"/>
              <a:ext cx="6057000" cy="407880"/>
              <a:chOff x="1101600" y="1828800"/>
              <a:chExt cx="6057000" cy="407880"/>
            </a:xfrm>
          </p:grpSpPr>
          <p:sp>
            <p:nvSpPr>
              <p:cNvPr id="486" name=""/>
              <p:cNvSpPr/>
              <p:nvPr/>
            </p:nvSpPr>
            <p:spPr>
              <a:xfrm>
                <a:off x="110160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1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2855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2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460224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3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6392520" y="182880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4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cxnSp>
            <p:nvCxnSpPr>
              <p:cNvPr id="490" name=""/>
              <p:cNvCxnSpPr>
                <a:stCxn id="486" idx="3"/>
                <a:endCxn id="487" idx="1"/>
              </p:cNvCxnSpPr>
              <p:nvPr/>
            </p:nvCxnSpPr>
            <p:spPr>
              <a:xfrm>
                <a:off x="1838520" y="2052360"/>
                <a:ext cx="9864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91" name=""/>
              <p:cNvCxnSpPr>
                <a:stCxn id="487" idx="3"/>
                <a:endCxn id="488" idx="1"/>
              </p:cNvCxnSpPr>
              <p:nvPr/>
            </p:nvCxnSpPr>
            <p:spPr>
              <a:xfrm>
                <a:off x="3592080" y="2052360"/>
                <a:ext cx="9788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92" name=""/>
              <p:cNvCxnSpPr/>
              <p:nvPr/>
            </p:nvCxnSpPr>
            <p:spPr>
              <a:xfrm>
                <a:off x="5338800" y="2057040"/>
                <a:ext cx="9784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2698920" y="1785600"/>
            <a:ext cx="4014000" cy="4255560"/>
            <a:chOff x="2698920" y="1785600"/>
            <a:chExt cx="4014000" cy="4255560"/>
          </a:xfrm>
        </p:grpSpPr>
        <p:sp>
          <p:nvSpPr>
            <p:cNvPr id="495" name=""/>
            <p:cNvSpPr/>
            <p:nvPr/>
          </p:nvSpPr>
          <p:spPr>
            <a:xfrm>
              <a:off x="2706840" y="3122640"/>
              <a:ext cx="1447920" cy="1954080"/>
            </a:xfrm>
            <a:custGeom>
              <a:avLst/>
              <a:gdLst/>
              <a:ahLst/>
              <a:rect l="l" t="t" r="r" b="b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4646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 rot="7200000">
              <a:off x="4398120" y="2042280"/>
              <a:ext cx="1365480" cy="2071440"/>
            </a:xfrm>
            <a:custGeom>
              <a:avLst/>
              <a:gdLst/>
              <a:ahLst/>
              <a:rect l="l" t="t" r="r" b="b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2b8a91"/>
                </a:gs>
                <a:gs pos="100000">
                  <a:srgbClr val="133f42"/>
                </a:gs>
              </a:gsLst>
              <a:lin ang="19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97" name=""/>
            <p:cNvGrpSpPr/>
            <p:nvPr/>
          </p:nvGrpSpPr>
          <p:grpSpPr>
            <a:xfrm>
              <a:off x="2734920" y="1785600"/>
              <a:ext cx="2483280" cy="2629440"/>
              <a:chOff x="2734920" y="1785600"/>
              <a:chExt cx="2483280" cy="2629440"/>
            </a:xfrm>
          </p:grpSpPr>
          <p:sp>
            <p:nvSpPr>
              <p:cNvPr id="498" name=""/>
              <p:cNvSpPr/>
              <p:nvPr/>
            </p:nvSpPr>
            <p:spPr>
              <a:xfrm rot="12600000">
                <a:off x="2788920" y="3492000"/>
                <a:ext cx="1441440" cy="603000"/>
              </a:xfrm>
              <a:prstGeom prst="triangle">
                <a:avLst>
                  <a:gd name="adj" fmla="val 50000"/>
                </a:avLst>
              </a:prstGeom>
              <a:solidFill>
                <a:srgbClr val="2b8a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rot="7200000">
                <a:off x="3184920" y="2696400"/>
                <a:ext cx="1504800" cy="806400"/>
              </a:xfrm>
              <a:custGeom>
                <a:avLst/>
                <a:gdLst/>
                <a:ahLst/>
                <a:rect l="l" t="t" r="r" b="b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2b8a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rot="7200000">
                <a:off x="4258080" y="1769760"/>
                <a:ext cx="622080" cy="1139760"/>
              </a:xfrm>
              <a:custGeom>
                <a:avLst/>
                <a:gdLst/>
                <a:ahLst/>
                <a:rect l="l" t="t" r="r" b="b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2b8a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01" name=""/>
            <p:cNvSpPr/>
            <p:nvPr/>
          </p:nvSpPr>
          <p:spPr>
            <a:xfrm rot="14400000">
              <a:off x="4512240" y="3895920"/>
              <a:ext cx="1365120" cy="2071800"/>
            </a:xfrm>
            <a:custGeom>
              <a:avLst/>
              <a:gdLst/>
              <a:ahLst/>
              <a:rect l="l" t="t" r="r" b="b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12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02" name=""/>
            <p:cNvGrpSpPr/>
            <p:nvPr/>
          </p:nvGrpSpPr>
          <p:grpSpPr>
            <a:xfrm>
              <a:off x="4539960" y="2665080"/>
              <a:ext cx="2172960" cy="2759760"/>
              <a:chOff x="4539960" y="2665080"/>
              <a:chExt cx="2172960" cy="2759760"/>
            </a:xfrm>
          </p:grpSpPr>
          <p:sp>
            <p:nvSpPr>
              <p:cNvPr id="503" name=""/>
              <p:cNvSpPr/>
              <p:nvPr/>
            </p:nvSpPr>
            <p:spPr>
              <a:xfrm rot="19800000">
                <a:off x="4594320" y="2984040"/>
                <a:ext cx="1438560" cy="603360"/>
              </a:xfrm>
              <a:prstGeom prst="triangle">
                <a:avLst>
                  <a:gd name="adj" fmla="val 50000"/>
                </a:avLst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rot="14400000">
                <a:off x="4987080" y="3579840"/>
                <a:ext cx="1505160" cy="804960"/>
              </a:xfrm>
              <a:custGeom>
                <a:avLst/>
                <a:gdLst/>
                <a:ahLst/>
                <a:rect l="l" t="t" r="r" b="b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rot="14400000">
                <a:off x="5807160" y="4331880"/>
                <a:ext cx="549360" cy="1139760"/>
              </a:xfrm>
              <a:custGeom>
                <a:avLst/>
                <a:gdLst/>
                <a:ahLst/>
                <a:rect l="l" t="t" r="r" b="b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06" name=""/>
            <p:cNvGrpSpPr/>
            <p:nvPr/>
          </p:nvGrpSpPr>
          <p:grpSpPr>
            <a:xfrm>
              <a:off x="2698920" y="4327560"/>
              <a:ext cx="2493720" cy="1395000"/>
              <a:chOff x="2698920" y="4327560"/>
              <a:chExt cx="2493720" cy="1395000"/>
            </a:xfrm>
          </p:grpSpPr>
          <p:sp>
            <p:nvSpPr>
              <p:cNvPr id="507" name=""/>
              <p:cNvSpPr/>
              <p:nvPr/>
            </p:nvSpPr>
            <p:spPr>
              <a:xfrm>
                <a:off x="2698920" y="4327560"/>
                <a:ext cx="581040" cy="1098360"/>
              </a:xfrm>
              <a:custGeom>
                <a:avLst/>
                <a:gdLst/>
                <a:ahLst/>
                <a:rect l="l" t="t" r="r" b="b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rot="5400000">
                <a:off x="4180680" y="4710600"/>
                <a:ext cx="1384200" cy="63972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222720" y="4649760"/>
                <a:ext cx="1595520" cy="775800"/>
              </a:xfrm>
              <a:custGeom>
                <a:avLst/>
                <a:gdLst/>
                <a:ahLst/>
                <a:rect l="l" t="t" r="r" b="b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sp>
        <p:nvSpPr>
          <p:cNvPr id="510" name=""/>
          <p:cNvSpPr/>
          <p:nvPr/>
        </p:nvSpPr>
        <p:spPr>
          <a:xfrm>
            <a:off x="457200" y="4800600"/>
            <a:ext cx="22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  <a:ea typeface="宋体"/>
              </a:rPr>
              <a:t>Add Your Text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553080" y="4724280"/>
            <a:ext cx="22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  <a:ea typeface="宋体"/>
              </a:rPr>
              <a:t>Add Your Text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971800" y="1600200"/>
            <a:ext cx="32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8a91"/>
                </a:solidFill>
                <a:latin typeface="Arial"/>
                <a:ea typeface="宋体"/>
              </a:rPr>
              <a:t>Add Your Text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298440" y="1401480"/>
            <a:ext cx="8595000" cy="4827600"/>
            <a:chOff x="298440" y="1401480"/>
            <a:chExt cx="8595000" cy="4827600"/>
          </a:xfrm>
        </p:grpSpPr>
        <p:sp>
          <p:nvSpPr>
            <p:cNvPr id="515" name=""/>
            <p:cNvSpPr/>
            <p:nvPr/>
          </p:nvSpPr>
          <p:spPr>
            <a:xfrm>
              <a:off x="6775560" y="2905200"/>
              <a:ext cx="2117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f5f5f"/>
                  </a:solidFill>
                  <a:latin typeface="Arial"/>
                  <a:ea typeface="宋体"/>
                </a:rPr>
                <a:t>2003.10   Add Your Text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f5f5f"/>
                  </a:solidFill>
                  <a:latin typeface="Arial"/>
                  <a:ea typeface="宋体"/>
                </a:rPr>
                <a:t>2003.10   Add Your Text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f5f5f"/>
                  </a:solidFill>
                  <a:latin typeface="Arial"/>
                  <a:ea typeface="宋体"/>
                </a:rPr>
                <a:t>2003.10   Add Your Text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16" name=""/>
            <p:cNvGrpSpPr/>
            <p:nvPr/>
          </p:nvGrpSpPr>
          <p:grpSpPr>
            <a:xfrm>
              <a:off x="1200600" y="2109600"/>
              <a:ext cx="1344600" cy="1321200"/>
              <a:chOff x="1200600" y="2109600"/>
              <a:chExt cx="1344600" cy="1321200"/>
            </a:xfrm>
          </p:grpSpPr>
          <p:sp>
            <p:nvSpPr>
              <p:cNvPr id="517" name=""/>
              <p:cNvSpPr/>
              <p:nvPr/>
            </p:nvSpPr>
            <p:spPr>
              <a:xfrm rot="3418800">
                <a:off x="1410840" y="2268360"/>
                <a:ext cx="923760" cy="1003320"/>
              </a:xfrm>
              <a:prstGeom prst="rect">
                <a:avLst/>
              </a:prstGeom>
              <a:gradFill rotWithShape="0">
                <a:gsLst>
                  <a:gs pos="0">
                    <a:srgbClr val="2b8a91"/>
                  </a:gs>
                  <a:gs pos="100000">
                    <a:srgbClr val="133f42"/>
                  </a:gs>
                </a:gsLst>
                <a:lin ang="198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78285" dir="243158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1507680" y="2627280"/>
                <a:ext cx="686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2000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19" name=""/>
            <p:cNvGrpSpPr/>
            <p:nvPr/>
          </p:nvGrpSpPr>
          <p:grpSpPr>
            <a:xfrm>
              <a:off x="2635560" y="4014360"/>
              <a:ext cx="1344960" cy="1321560"/>
              <a:chOff x="2635560" y="4014360"/>
              <a:chExt cx="1344960" cy="1321560"/>
            </a:xfrm>
          </p:grpSpPr>
          <p:sp>
            <p:nvSpPr>
              <p:cNvPr id="520" name=""/>
              <p:cNvSpPr/>
              <p:nvPr/>
            </p:nvSpPr>
            <p:spPr>
              <a:xfrm rot="3418800">
                <a:off x="2845800" y="4173480"/>
                <a:ext cx="924120" cy="100332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754600"/>
                  </a:gs>
                </a:gsLst>
                <a:lin ang="198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78285" dir="243158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2942640" y="4532400"/>
                <a:ext cx="686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2001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22" name=""/>
            <p:cNvGrpSpPr/>
            <p:nvPr/>
          </p:nvGrpSpPr>
          <p:grpSpPr>
            <a:xfrm>
              <a:off x="4705920" y="2862000"/>
              <a:ext cx="1344600" cy="1321200"/>
              <a:chOff x="4705920" y="2862000"/>
              <a:chExt cx="1344600" cy="1321200"/>
            </a:xfrm>
          </p:grpSpPr>
          <p:sp>
            <p:nvSpPr>
              <p:cNvPr id="523" name=""/>
              <p:cNvSpPr/>
              <p:nvPr/>
            </p:nvSpPr>
            <p:spPr>
              <a:xfrm rot="3418800">
                <a:off x="4916160" y="3020760"/>
                <a:ext cx="923760" cy="1003320"/>
              </a:xfrm>
              <a:prstGeom prst="rect">
                <a:avLst/>
              </a:prstGeom>
              <a:gradFill rotWithShape="0">
                <a:gsLst>
                  <a:gs pos="0">
                    <a:srgbClr val="9999ff"/>
                  </a:gs>
                  <a:gs pos="100000">
                    <a:srgbClr val="464675"/>
                  </a:gs>
                </a:gsLst>
                <a:lin ang="198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78285" dir="243158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5013000" y="3379680"/>
                <a:ext cx="686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2002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25" name=""/>
            <p:cNvGrpSpPr/>
            <p:nvPr/>
          </p:nvGrpSpPr>
          <p:grpSpPr>
            <a:xfrm>
              <a:off x="7055280" y="1401480"/>
              <a:ext cx="1344600" cy="1321200"/>
              <a:chOff x="7055280" y="1401480"/>
              <a:chExt cx="1344600" cy="1321200"/>
            </a:xfrm>
          </p:grpSpPr>
          <p:sp>
            <p:nvSpPr>
              <p:cNvPr id="526" name=""/>
              <p:cNvSpPr/>
              <p:nvPr/>
            </p:nvSpPr>
            <p:spPr>
              <a:xfrm rot="3418800">
                <a:off x="7265520" y="1560240"/>
                <a:ext cx="923760" cy="1003320"/>
              </a:xfrm>
              <a:prstGeom prst="rect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454545"/>
                  </a:gs>
                </a:gsLst>
                <a:lin ang="198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78285" dir="243158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362360" y="1919160"/>
                <a:ext cx="686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2003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28" name=""/>
            <p:cNvSpPr/>
            <p:nvPr/>
          </p:nvSpPr>
          <p:spPr>
            <a:xfrm>
              <a:off x="2209680" y="3222720"/>
              <a:ext cx="762120" cy="1066680"/>
            </a:xfrm>
            <a:prstGeom prst="line">
              <a:avLst/>
            </a:prstGeom>
            <a:ln cap="rnd" w="5724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 flipV="1">
              <a:off x="3809880" y="3755880"/>
              <a:ext cx="1067040" cy="609840"/>
            </a:xfrm>
            <a:prstGeom prst="line">
              <a:avLst/>
            </a:prstGeom>
            <a:ln cap="rnd" w="5724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 flipV="1">
              <a:off x="5943600" y="2371680"/>
              <a:ext cx="1295280" cy="774720"/>
            </a:xfrm>
            <a:prstGeom prst="line">
              <a:avLst/>
            </a:prstGeom>
            <a:ln cap="rnd" w="5724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514600" y="1806480"/>
              <a:ext cx="411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ompany History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432160" y="5495760"/>
              <a:ext cx="2117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f5f5f"/>
                  </a:solidFill>
                  <a:latin typeface="Arial"/>
                  <a:ea typeface="宋体"/>
                </a:rPr>
                <a:t>2001.10   Add Your Text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f5f5f"/>
                  </a:solidFill>
                  <a:latin typeface="Arial"/>
                  <a:ea typeface="宋体"/>
                </a:rPr>
                <a:t>2001.10   Add Your Text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f5f5f"/>
                  </a:solidFill>
                  <a:latin typeface="Arial"/>
                  <a:ea typeface="宋体"/>
                </a:rPr>
                <a:t>2001.10   Add Your Text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718160" y="4429080"/>
              <a:ext cx="2117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f5f5f"/>
                  </a:solidFill>
                  <a:latin typeface="Arial"/>
                  <a:ea typeface="宋体"/>
                </a:rPr>
                <a:t>2002.10   Add Your Text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f5f5f"/>
                  </a:solidFill>
                  <a:latin typeface="Arial"/>
                  <a:ea typeface="宋体"/>
                </a:rPr>
                <a:t>2002.10   Add Your Text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f5f5f"/>
                  </a:solidFill>
                  <a:latin typeface="Arial"/>
                  <a:ea typeface="宋体"/>
                </a:rPr>
                <a:t>2002.10   Add Your Text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98440" y="3591000"/>
              <a:ext cx="2117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f5f5f"/>
                  </a:solidFill>
                  <a:latin typeface="Arial"/>
                  <a:ea typeface="宋体"/>
                </a:rPr>
                <a:t>2000.10   Add Your Text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f5f5f"/>
                  </a:solidFill>
                  <a:latin typeface="Arial"/>
                  <a:ea typeface="宋体"/>
                </a:rPr>
                <a:t>2000.10   Add Your Text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f5f5f"/>
                  </a:solidFill>
                  <a:latin typeface="Arial"/>
                  <a:ea typeface="宋体"/>
                </a:rPr>
                <a:t>2000.10   Add Your Text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Tab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36" name=""/>
          <p:cNvGraphicFramePr/>
          <p:nvPr/>
        </p:nvGraphicFramePr>
        <p:xfrm>
          <a:off x="1066680" y="2233440"/>
          <a:ext cx="7467840" cy="312444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0920"/>
                <a:gridCol w="1150920"/>
                <a:gridCol w="1157400"/>
                <a:gridCol w="1149480"/>
              </a:tblGrid>
              <a:tr h="44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d528d"/>
                      </a:solidFill>
                    </a:lnR>
                    <a:lnT>
                      <a:noFill/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b8a9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b8a91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b8a9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b8a91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b8a91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</a:tr>
              <a:tr h="44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</a:tr>
              <a:tr h="44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X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X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Block 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1087560" y="1542960"/>
            <a:ext cx="7446960" cy="4705560"/>
            <a:chOff x="1087560" y="1542960"/>
            <a:chExt cx="7446960" cy="4705560"/>
          </a:xfrm>
        </p:grpSpPr>
        <p:sp>
          <p:nvSpPr>
            <p:cNvPr id="539" name=""/>
            <p:cNvSpPr/>
            <p:nvPr/>
          </p:nvSpPr>
          <p:spPr>
            <a:xfrm>
              <a:off x="2077920" y="2305080"/>
              <a:ext cx="5531040" cy="2743200"/>
            </a:xfrm>
            <a:prstGeom prst="upArrow">
              <a:avLst>
                <a:gd name="adj1" fmla="val 57824"/>
                <a:gd name="adj2" fmla="val 54398"/>
              </a:avLst>
            </a:prstGeom>
            <a:gradFill rotWithShape="0">
              <a:gsLst>
                <a:gs pos="0">
                  <a:srgbClr val="2b8a91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849320" y="1542960"/>
              <a:ext cx="5791320" cy="574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999ff"/>
                </a:gs>
                <a:gs pos="50000">
                  <a:srgbClr val="bcbcfe"/>
                </a:gs>
                <a:gs pos="100000">
                  <a:srgbClr val="9999ff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828960" y="291456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42" name=""/>
            <p:cNvGrpSpPr/>
            <p:nvPr/>
          </p:nvGrpSpPr>
          <p:grpSpPr>
            <a:xfrm>
              <a:off x="1087560" y="4178160"/>
              <a:ext cx="1579320" cy="2070360"/>
              <a:chOff x="1087560" y="4178160"/>
              <a:chExt cx="1579320" cy="2070360"/>
            </a:xfrm>
          </p:grpSpPr>
          <p:grpSp>
            <p:nvGrpSpPr>
              <p:cNvPr id="543" name=""/>
              <p:cNvGrpSpPr/>
              <p:nvPr/>
            </p:nvGrpSpPr>
            <p:grpSpPr>
              <a:xfrm>
                <a:off x="1087560" y="4178160"/>
                <a:ext cx="1485720" cy="1514520"/>
                <a:chOff x="1087560" y="4178160"/>
                <a:chExt cx="1485720" cy="1514520"/>
              </a:xfrm>
            </p:grpSpPr>
            <p:grpSp>
              <p:nvGrpSpPr>
                <p:cNvPr id="544" name=""/>
                <p:cNvGrpSpPr/>
                <p:nvPr/>
              </p:nvGrpSpPr>
              <p:grpSpPr>
                <a:xfrm>
                  <a:off x="1087560" y="4178160"/>
                  <a:ext cx="1485720" cy="1514520"/>
                  <a:chOff x="1087560" y="4178160"/>
                  <a:chExt cx="1485720" cy="1514520"/>
                </a:xfrm>
              </p:grpSpPr>
              <p:sp>
                <p:nvSpPr>
                  <p:cNvPr id="545" name=""/>
                  <p:cNvSpPr/>
                  <p:nvPr/>
                </p:nvSpPr>
                <p:spPr>
                  <a:xfrm>
                    <a:off x="1087560" y="4178160"/>
                    <a:ext cx="1485720" cy="1514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9900"/>
                      </a:gs>
                      <a:gs pos="100000">
                        <a:srgbClr val="a16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>
                    <a:off x="1257120" y="4203000"/>
                    <a:ext cx="1146240" cy="57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99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7" name=""/>
                <p:cNvSpPr/>
                <p:nvPr/>
              </p:nvSpPr>
              <p:spPr>
                <a:xfrm>
                  <a:off x="1245240" y="4949280"/>
                  <a:ext cx="1157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concept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8" name=""/>
              <p:cNvSpPr/>
              <p:nvPr/>
            </p:nvSpPr>
            <p:spPr>
              <a:xfrm>
                <a:off x="1087560" y="5810400"/>
                <a:ext cx="1579320" cy="43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49" name=""/>
            <p:cNvGrpSpPr/>
            <p:nvPr/>
          </p:nvGrpSpPr>
          <p:grpSpPr>
            <a:xfrm>
              <a:off x="2992320" y="4178160"/>
              <a:ext cx="1617480" cy="2070360"/>
              <a:chOff x="2992320" y="4178160"/>
              <a:chExt cx="1617480" cy="2070360"/>
            </a:xfrm>
          </p:grpSpPr>
          <p:grpSp>
            <p:nvGrpSpPr>
              <p:cNvPr id="550" name=""/>
              <p:cNvGrpSpPr/>
              <p:nvPr/>
            </p:nvGrpSpPr>
            <p:grpSpPr>
              <a:xfrm>
                <a:off x="2992320" y="4178160"/>
                <a:ext cx="1523880" cy="1521000"/>
                <a:chOff x="2992320" y="4178160"/>
                <a:chExt cx="1523880" cy="152100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2992320" y="4178160"/>
                  <a:ext cx="1523880" cy="152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99ff"/>
                    </a:gs>
                    <a:gs pos="100000">
                      <a:srgbClr val="4e4e8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3166560" y="4203360"/>
                  <a:ext cx="1175400" cy="573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9999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3" name=""/>
              <p:cNvSpPr/>
              <p:nvPr/>
            </p:nvSpPr>
            <p:spPr>
              <a:xfrm>
                <a:off x="3068280" y="4908600"/>
                <a:ext cx="137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030480" y="5810400"/>
                <a:ext cx="1579320" cy="43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55" name=""/>
            <p:cNvGrpSpPr/>
            <p:nvPr/>
          </p:nvGrpSpPr>
          <p:grpSpPr>
            <a:xfrm>
              <a:off x="5049720" y="4133880"/>
              <a:ext cx="1631880" cy="2114640"/>
              <a:chOff x="5049720" y="4133880"/>
              <a:chExt cx="1631880" cy="2114640"/>
            </a:xfrm>
          </p:grpSpPr>
          <p:grpSp>
            <p:nvGrpSpPr>
              <p:cNvPr id="556" name=""/>
              <p:cNvGrpSpPr/>
              <p:nvPr/>
            </p:nvGrpSpPr>
            <p:grpSpPr>
              <a:xfrm>
                <a:off x="5049720" y="4133880"/>
                <a:ext cx="1523880" cy="1521000"/>
                <a:chOff x="5049720" y="4133880"/>
                <a:chExt cx="1523880" cy="1521000"/>
              </a:xfrm>
            </p:grpSpPr>
            <p:sp>
              <p:nvSpPr>
                <p:cNvPr id="557" name=""/>
                <p:cNvSpPr/>
                <p:nvPr/>
              </p:nvSpPr>
              <p:spPr>
                <a:xfrm>
                  <a:off x="5049720" y="4133880"/>
                  <a:ext cx="1523880" cy="152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b8a91"/>
                    </a:gs>
                    <a:gs pos="100000">
                      <a:srgbClr val="1646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5223960" y="4159080"/>
                  <a:ext cx="1175400" cy="573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2b8a9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9" name=""/>
              <p:cNvSpPr/>
              <p:nvPr/>
            </p:nvSpPr>
            <p:spPr>
              <a:xfrm>
                <a:off x="5125680" y="4863960"/>
                <a:ext cx="137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5101920" y="5810400"/>
                <a:ext cx="1579680" cy="43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61" name=""/>
            <p:cNvGrpSpPr/>
            <p:nvPr/>
          </p:nvGrpSpPr>
          <p:grpSpPr>
            <a:xfrm>
              <a:off x="6954840" y="4133880"/>
              <a:ext cx="1579680" cy="2114640"/>
              <a:chOff x="6954840" y="4133880"/>
              <a:chExt cx="1579680" cy="2114640"/>
            </a:xfrm>
          </p:grpSpPr>
          <p:grpSp>
            <p:nvGrpSpPr>
              <p:cNvPr id="562" name=""/>
              <p:cNvGrpSpPr/>
              <p:nvPr/>
            </p:nvGrpSpPr>
            <p:grpSpPr>
              <a:xfrm>
                <a:off x="6954840" y="4133880"/>
                <a:ext cx="1524240" cy="1531800"/>
                <a:chOff x="6954840" y="4133880"/>
                <a:chExt cx="1524240" cy="1531800"/>
              </a:xfrm>
            </p:grpSpPr>
            <p:grpSp>
              <p:nvGrpSpPr>
                <p:cNvPr id="563" name=""/>
                <p:cNvGrpSpPr/>
                <p:nvPr/>
              </p:nvGrpSpPr>
              <p:grpSpPr>
                <a:xfrm>
                  <a:off x="6954840" y="4133880"/>
                  <a:ext cx="1524240" cy="1531800"/>
                  <a:chOff x="6954840" y="4133880"/>
                  <a:chExt cx="1524240" cy="1531800"/>
                </a:xfrm>
              </p:grpSpPr>
              <p:sp>
                <p:nvSpPr>
                  <p:cNvPr id="564" name=""/>
                  <p:cNvSpPr/>
                  <p:nvPr/>
                </p:nvSpPr>
                <p:spPr>
                  <a:xfrm>
                    <a:off x="6954840" y="4133880"/>
                    <a:ext cx="1524240" cy="15318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969696"/>
                      </a:gs>
                      <a:gs pos="100000">
                        <a:srgbClr val="242424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>
                    <a:off x="7129080" y="4159080"/>
                    <a:ext cx="1175760" cy="578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6969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66" name=""/>
                <p:cNvSpPr/>
                <p:nvPr/>
              </p:nvSpPr>
              <p:spPr>
                <a:xfrm>
                  <a:off x="7098120" y="4847760"/>
                  <a:ext cx="1200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Concept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7" name=""/>
              <p:cNvSpPr/>
              <p:nvPr/>
            </p:nvSpPr>
            <p:spPr>
              <a:xfrm>
                <a:off x="6954840" y="5810400"/>
                <a:ext cx="1579680" cy="43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8" name=""/>
          <p:cNvGrpSpPr/>
          <p:nvPr/>
        </p:nvGrpSpPr>
        <p:grpSpPr>
          <a:xfrm>
            <a:off x="512280" y="562680"/>
            <a:ext cx="7379640" cy="5581800"/>
            <a:chOff x="512280" y="562680"/>
            <a:chExt cx="7379640" cy="5581800"/>
          </a:xfrm>
        </p:grpSpPr>
        <p:sp>
          <p:nvSpPr>
            <p:cNvPr id="569" name=""/>
            <p:cNvSpPr/>
            <p:nvPr/>
          </p:nvSpPr>
          <p:spPr>
            <a:xfrm>
              <a:off x="2138400" y="44658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f7f9f2"/>
                </a:gs>
                <a:gs pos="100000">
                  <a:srgbClr val="dddd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rot="20601600">
              <a:off x="1413000" y="23522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dadad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rot="20601600">
              <a:off x="1469520" y="219024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rot="20601600">
              <a:off x="1386360" y="2175840"/>
              <a:ext cx="5698440" cy="2924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95" y="2248"/>
                  </a:moveTo>
                  <a:arcTo wR="10800" hR="10800" stAng="-3141777" swAng="515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95" y="2248"/>
                  </a:moveTo>
                  <a:arcTo wR="10800" hR="10800" stAng="-3141777" swAng="5155523"/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bdbdfe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 rot="20602200">
              <a:off x="1434960" y="2176200"/>
              <a:ext cx="5643360" cy="295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8"/>
                  </a:moveTo>
                  <a:arcTo wR="10800" hR="10800" stAng="398260" swAng="55868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8"/>
                  </a:moveTo>
                  <a:arcTo wR="10800" hR="10800" stAng="398260" swAng="5586891"/>
                </a:path>
              </a:pathLst>
            </a:custGeom>
            <a:gradFill rotWithShape="0">
              <a:gsLst>
                <a:gs pos="0">
                  <a:srgbClr val="2b8a91"/>
                </a:gs>
                <a:gs pos="100000">
                  <a:srgbClr val="1d5f64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rot="20601600">
              <a:off x="1392840" y="2187360"/>
              <a:ext cx="568152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879" y="1186"/>
                  </a:moveTo>
                  <a:arcTo wR="10800" hR="10800" stAng="-7026499" swAng="420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5879" y="1186"/>
                  </a:moveTo>
                  <a:arcTo wR="10800" hR="10800" stAng="-7026499" swAng="4201110"/>
                </a:path>
              </a:pathLst>
            </a:custGeom>
            <a:gradFill rotWithShape="0">
              <a:gsLst>
                <a:gs pos="0">
                  <a:srgbClr val="d2d2fe"/>
                </a:gs>
                <a:gs pos="100000">
                  <a:srgbClr val="9999ff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 flipH="1" rot="20602200">
              <a:off x="1402560" y="2185920"/>
              <a:ext cx="5702040" cy="292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946" y="828"/>
                  </a:moveTo>
                  <a:arcTo wR="10800" hR="10800" stAng="-4045467" swAng="57948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4946" y="828"/>
                  </a:moveTo>
                  <a:arcTo wR="10800" hR="10800" stAng="-4045467" swAng="5794864"/>
                </a:path>
              </a:pathLst>
            </a:custGeom>
            <a:gradFill rotWithShape="0">
              <a:gsLst>
                <a:gs pos="0">
                  <a:srgbClr val="754600"/>
                </a:gs>
                <a:gs pos="100000">
                  <a:srgbClr val="ff9900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 rot="20601600">
              <a:off x="293040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5f5f5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92132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826440" y="2365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2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65524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3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14064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5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94160" y="417816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1d528d">
                <a:alpha val="1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356080" y="3506760"/>
              <a:ext cx="1773360" cy="1776600"/>
            </a:xfrm>
            <a:custGeom>
              <a:avLst/>
              <a:gdLst/>
              <a:ahLst/>
              <a:rect l="l" t="t" r="r" b="b"/>
              <a:pathLst>
                <a:path w="1117" h="1119">
                  <a:moveTo>
                    <a:pt x="21" y="888"/>
                  </a:moveTo>
                  <a:lnTo>
                    <a:pt x="1117" y="0"/>
                  </a:lnTo>
                  <a:lnTo>
                    <a:pt x="1093" y="256"/>
                  </a:lnTo>
                  <a:cubicBezTo>
                    <a:pt x="1026" y="373"/>
                    <a:pt x="896" y="560"/>
                    <a:pt x="717" y="704"/>
                  </a:cubicBezTo>
                  <a:cubicBezTo>
                    <a:pt x="538" y="848"/>
                    <a:pt x="133" y="1088"/>
                    <a:pt x="17" y="1119"/>
                  </a:cubicBezTo>
                  <a:cubicBezTo>
                    <a:pt x="0" y="1037"/>
                    <a:pt x="21" y="888"/>
                    <a:pt x="21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 rot="20539200">
              <a:off x="930600" y="1466640"/>
              <a:ext cx="6542640" cy="377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808" y="16758"/>
                  </a:moveTo>
                  <a:arcTo wR="10800" hR="10800" stAng="2008784" swAng="28002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9808" y="16758"/>
                  </a:moveTo>
                  <a:arcTo wR="10800" hR="10800" stAng="2008784" swAng="2800242"/>
                </a:path>
              </a:pathLst>
            </a:custGeom>
            <a:gradFill rotWithShape="0">
              <a:gsLst>
                <a:gs pos="0">
                  <a:srgbClr val="565656"/>
                </a:gs>
                <a:gs pos="100000">
                  <a:srgbClr val="969696"/>
                </a:gs>
              </a:gsLst>
              <a:lin ang="118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491000" y="3983040"/>
              <a:ext cx="924120" cy="1311120"/>
            </a:xfrm>
            <a:custGeom>
              <a:avLst/>
              <a:gdLst/>
              <a:ahLst/>
              <a:rect l="l" t="t" r="r" b="b"/>
              <a:pathLst>
                <a:path w="582" h="826">
                  <a:moveTo>
                    <a:pt x="582" y="572"/>
                  </a:moveTo>
                  <a:lnTo>
                    <a:pt x="562" y="826"/>
                  </a:lnTo>
                  <a:lnTo>
                    <a:pt x="0" y="42"/>
                  </a:lnTo>
                  <a:lnTo>
                    <a:pt x="90" y="0"/>
                  </a:lnTo>
                  <a:lnTo>
                    <a:pt x="582" y="572"/>
                  </a:lnTo>
                  <a:close/>
                </a:path>
              </a:pathLst>
            </a:custGeom>
            <a:gradFill rotWithShape="0">
              <a:gsLst>
                <a:gs pos="0">
                  <a:srgbClr val="6c6c6c"/>
                </a:gs>
                <a:gs pos="100000">
                  <a:srgbClr val="9696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 rot="20601600">
              <a:off x="3032280" y="315756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383800" y="39006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4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3-D Pie Char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nte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981080" y="2057400"/>
            <a:ext cx="5410440" cy="665280"/>
            <a:chOff x="1981080" y="2057400"/>
            <a:chExt cx="5410440" cy="665280"/>
          </a:xfrm>
        </p:grpSpPr>
        <p:grpSp>
          <p:nvGrpSpPr>
            <p:cNvPr id="91" name=""/>
            <p:cNvGrpSpPr/>
            <p:nvPr/>
          </p:nvGrpSpPr>
          <p:grpSpPr>
            <a:xfrm>
              <a:off x="1981080" y="2057400"/>
              <a:ext cx="762120" cy="665280"/>
              <a:chOff x="1981080" y="2057400"/>
              <a:chExt cx="762120" cy="665280"/>
            </a:xfrm>
          </p:grpSpPr>
          <p:sp>
            <p:nvSpPr>
              <p:cNvPr id="92" name=""/>
              <p:cNvSpPr/>
              <p:nvPr/>
            </p:nvSpPr>
            <p:spPr>
              <a:xfrm>
                <a:off x="1987200" y="206856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981080" y="2057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025360" y="2096640"/>
                <a:ext cx="664200" cy="57528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9999ff"/>
                  </a:gs>
                  <a:gs pos="100000">
                    <a:srgbClr val="464675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2590920" y="2666880"/>
              <a:ext cx="480060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84520" y="21337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180160" y="2155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1981080" y="2971800"/>
            <a:ext cx="5410440" cy="665280"/>
            <a:chOff x="1981080" y="2971800"/>
            <a:chExt cx="5410440" cy="665280"/>
          </a:xfrm>
        </p:grpSpPr>
        <p:grpSp>
          <p:nvGrpSpPr>
            <p:cNvPr id="99" name=""/>
            <p:cNvGrpSpPr/>
            <p:nvPr/>
          </p:nvGrpSpPr>
          <p:grpSpPr>
            <a:xfrm>
              <a:off x="1981080" y="2971800"/>
              <a:ext cx="761760" cy="665280"/>
              <a:chOff x="1981080" y="2971800"/>
              <a:chExt cx="761760" cy="665280"/>
            </a:xfrm>
          </p:grpSpPr>
          <p:sp>
            <p:nvSpPr>
              <p:cNvPr id="100" name=""/>
              <p:cNvSpPr/>
              <p:nvPr/>
            </p:nvSpPr>
            <p:spPr>
              <a:xfrm>
                <a:off x="1987200" y="29829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981080" y="29718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025360" y="3011040"/>
                <a:ext cx="664200" cy="57528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2b8a91"/>
                  </a:gs>
                  <a:gs pos="100000">
                    <a:srgbClr val="133f42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3" name=""/>
            <p:cNvSpPr/>
            <p:nvPr/>
          </p:nvSpPr>
          <p:spPr>
            <a:xfrm>
              <a:off x="2590920" y="3581280"/>
              <a:ext cx="480060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584520" y="30481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180160" y="3070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1981080" y="3863880"/>
            <a:ext cx="5410440" cy="665280"/>
            <a:chOff x="1981080" y="3863880"/>
            <a:chExt cx="5410440" cy="665280"/>
          </a:xfrm>
        </p:grpSpPr>
        <p:grpSp>
          <p:nvGrpSpPr>
            <p:cNvPr id="107" name=""/>
            <p:cNvGrpSpPr/>
            <p:nvPr/>
          </p:nvGrpSpPr>
          <p:grpSpPr>
            <a:xfrm>
              <a:off x="1981080" y="3863880"/>
              <a:ext cx="762120" cy="665280"/>
              <a:chOff x="1981080" y="3863880"/>
              <a:chExt cx="762120" cy="665280"/>
            </a:xfrm>
          </p:grpSpPr>
          <p:sp>
            <p:nvSpPr>
              <p:cNvPr id="108" name=""/>
              <p:cNvSpPr/>
              <p:nvPr/>
            </p:nvSpPr>
            <p:spPr>
              <a:xfrm>
                <a:off x="1987200" y="38750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981080" y="38638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025360" y="3903120"/>
                <a:ext cx="664200" cy="57528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9999ff"/>
                  </a:gs>
                  <a:gs pos="100000">
                    <a:srgbClr val="464675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11" name=""/>
            <p:cNvSpPr/>
            <p:nvPr/>
          </p:nvSpPr>
          <p:spPr>
            <a:xfrm>
              <a:off x="2590920" y="4473720"/>
              <a:ext cx="480060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84520" y="394020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180160" y="3962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1981080" y="4778280"/>
            <a:ext cx="5410440" cy="665280"/>
            <a:chOff x="1981080" y="4778280"/>
            <a:chExt cx="5410440" cy="665280"/>
          </a:xfrm>
        </p:grpSpPr>
        <p:grpSp>
          <p:nvGrpSpPr>
            <p:cNvPr id="115" name=""/>
            <p:cNvGrpSpPr/>
            <p:nvPr/>
          </p:nvGrpSpPr>
          <p:grpSpPr>
            <a:xfrm>
              <a:off x="1981080" y="4778280"/>
              <a:ext cx="761760" cy="665280"/>
              <a:chOff x="1981080" y="4778280"/>
              <a:chExt cx="761760" cy="665280"/>
            </a:xfrm>
          </p:grpSpPr>
          <p:sp>
            <p:nvSpPr>
              <p:cNvPr id="116" name=""/>
              <p:cNvSpPr/>
              <p:nvPr/>
            </p:nvSpPr>
            <p:spPr>
              <a:xfrm>
                <a:off x="1987200" y="47894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981080" y="47782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025360" y="4817520"/>
                <a:ext cx="664200" cy="57528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2b8a91"/>
                  </a:gs>
                  <a:gs pos="100000">
                    <a:srgbClr val="133f42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2590920" y="5388120"/>
              <a:ext cx="480060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84520" y="485460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180160" y="487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 txBox="1"/>
          <p:nvPr/>
        </p:nvSpPr>
        <p:spPr>
          <a:xfrm>
            <a:off x="1763640" y="2712960"/>
            <a:ext cx="56898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2b8a91"/>
                    </a:gs>
                    <a:gs pos="100000">
                      <a:srgbClr val="9999ff"/>
                    </a:gs>
                  </a:gsLst>
                  <a:lin ang="10800000"/>
                </a:gradFill>
                <a:effectLst>
                  <a:outerShdw dist="89604" dir="2700000" blurRad="0" rotWithShape="0">
                    <a:srgbClr val="000000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2b8a91"/>
                  </a:gs>
                  <a:gs pos="100000">
                    <a:srgbClr val="9999ff"/>
                  </a:gs>
                </a:gsLst>
                <a:lin ang="10800000"/>
              </a:gradFill>
              <a:effectLst>
                <a:outerShdw dist="89604" dir="27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304920" y="4952520"/>
            <a:ext cx="8610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ot Tip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528d"/>
                </a:solidFill>
                <a:latin typeface="Arial"/>
                <a:ea typeface="宋体"/>
              </a:rPr>
              <a:t>How do I incorporate my logo to a slide that will apply to all the other slides?</a:t>
            </a:r>
            <a:r>
              <a:rPr b="1" lang="en-US" sz="36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b8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On the </a:t>
            </a:r>
            <a:r>
              <a:rPr b="0" lang="en-US" sz="2400" spc="-1" strike="noStrike">
                <a:solidFill>
                  <a:srgbClr val="2b8a91"/>
                </a:solidFill>
                <a:latin typeface="Arial"/>
                <a:ea typeface="宋体"/>
              </a:rPr>
              <a:t>[View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menu, point to </a:t>
            </a:r>
            <a:r>
              <a:rPr b="0" lang="en-US" sz="2400" spc="-1" strike="noStrike">
                <a:solidFill>
                  <a:srgbClr val="2b8a91"/>
                </a:solidFill>
                <a:latin typeface="Arial"/>
                <a:ea typeface="宋体"/>
              </a:rPr>
              <a:t>[Master]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and then click </a:t>
            </a:r>
            <a:r>
              <a:rPr b="0" lang="en-US" sz="2400" spc="-1" strike="noStrike">
                <a:solidFill>
                  <a:srgbClr val="2b8a91"/>
                </a:solidFill>
                <a:latin typeface="Arial"/>
                <a:ea typeface="宋体"/>
              </a:rPr>
              <a:t>[Slide Master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or </a:t>
            </a:r>
            <a:r>
              <a:rPr b="0" lang="en-US" sz="2400" spc="-1" strike="noStrike">
                <a:solidFill>
                  <a:srgbClr val="2b8a91"/>
                </a:solidFill>
                <a:latin typeface="Arial"/>
                <a:ea typeface="宋体"/>
              </a:rPr>
              <a:t>[Notes Master]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47920" y="5410080"/>
            <a:ext cx="52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d528d"/>
                </a:solidFill>
                <a:latin typeface="Arial"/>
                <a:ea typeface="宋体"/>
              </a:rPr>
              <a:t>[Image information in product]</a:t>
            </a:r>
            <a:br>
              <a:rPr sz="900"/>
            </a:br>
            <a:r>
              <a:rPr b="0" lang="en-US" sz="900" spc="-1" strike="noStrike">
                <a:solidFill>
                  <a:srgbClr val="1d528d"/>
                </a:solidFill>
                <a:latin typeface="Arial"/>
                <a:ea typeface="宋体"/>
              </a:rPr>
              <a:t>● Title Master- www.iclickart.co.kr  - Image licensed by affiliates</a:t>
            </a:r>
            <a:br>
              <a:rPr sz="900"/>
            </a:br>
            <a:r>
              <a:rPr b="0" lang="en-US" sz="900" spc="-1" strike="noStrike">
                <a:solidFill>
                  <a:srgbClr val="1d528d"/>
                </a:solidFill>
                <a:latin typeface="Arial"/>
                <a:ea typeface="宋体"/>
              </a:rPr>
              <a:t>● Slide Master –www.iclickart.co.kr - Image licensed by affiliates</a:t>
            </a:r>
            <a:br>
              <a:rPr sz="900"/>
            </a:br>
            <a:r>
              <a:rPr b="0" lang="en-US" sz="900" spc="-1" strike="noStrike">
                <a:solidFill>
                  <a:srgbClr val="1d528d"/>
                </a:solidFill>
                <a:latin typeface="Arial"/>
                <a:ea typeface="宋体"/>
              </a:rPr>
              <a:t>● Note to customers: This image has been licensed to be used within this PowerPoint template only. </a:t>
            </a:r>
            <a:endParaRPr b="0" lang="en-US" sz="9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d528d"/>
                </a:solidFill>
                <a:latin typeface="Arial"/>
                <a:ea typeface="宋体"/>
              </a:rPr>
              <a:t>   </a:t>
            </a:r>
            <a:r>
              <a:rPr b="0" lang="en-US" sz="900" spc="-1" strike="noStrike">
                <a:solidFill>
                  <a:srgbClr val="1d528d"/>
                </a:solidFill>
                <a:latin typeface="Arial"/>
                <a:ea typeface="宋体"/>
              </a:rPr>
              <a:t>You may not extract the image for any other use.</a:t>
            </a:r>
            <a:endParaRPr b="0" lang="en-US" sz="9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143000" y="3352680"/>
            <a:ext cx="2286000" cy="2667240"/>
            <a:chOff x="1143000" y="3352680"/>
            <a:chExt cx="2286000" cy="2667240"/>
          </a:xfrm>
        </p:grpSpPr>
        <p:sp>
          <p:nvSpPr>
            <p:cNvPr id="127" name=""/>
            <p:cNvSpPr/>
            <p:nvPr/>
          </p:nvSpPr>
          <p:spPr>
            <a:xfrm>
              <a:off x="1143000" y="3352680"/>
              <a:ext cx="2286000" cy="266724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7240"/>
                <a:gd name="textAreaBottom" fmla="*/ 2555640 h 2667240"/>
              </a:gdLst>
              <a:ahLst/>
              <a:rect l="textAreaLeft" t="textAreaTop" r="textAreaRight" b="textAreaBottom"/>
              <a:pathLst>
                <a:path w="21600" h="25202">
                  <a:moveTo>
                    <a:pt x="3600" y="0"/>
                  </a:moveTo>
                  <a:arcTo wR="3600" hR="3600" stAng="16200000" swAng="-5400000"/>
                  <a:lnTo>
                    <a:pt x="0" y="21602"/>
                  </a:lnTo>
                  <a:arcTo wR="3600" hR="3600" stAng="10800000" swAng="-5400000"/>
                  <a:lnTo>
                    <a:pt x="18000" y="252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238400" y="355284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ucaiFengbao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febd5c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3048120" y="1628640"/>
            <a:ext cx="2998440" cy="1601640"/>
            <a:chOff x="3048120" y="1628640"/>
            <a:chExt cx="2998440" cy="1601640"/>
          </a:xfrm>
        </p:grpSpPr>
        <p:grpSp>
          <p:nvGrpSpPr>
            <p:cNvPr id="131" name=""/>
            <p:cNvGrpSpPr/>
            <p:nvPr/>
          </p:nvGrpSpPr>
          <p:grpSpPr>
            <a:xfrm>
              <a:off x="3048120" y="1628640"/>
              <a:ext cx="2998440" cy="1601640"/>
              <a:chOff x="3048120" y="1628640"/>
              <a:chExt cx="2998440" cy="1601640"/>
            </a:xfrm>
          </p:grpSpPr>
          <p:grpSp>
            <p:nvGrpSpPr>
              <p:cNvPr id="132" name=""/>
              <p:cNvGrpSpPr/>
              <p:nvPr/>
            </p:nvGrpSpPr>
            <p:grpSpPr>
              <a:xfrm>
                <a:off x="3048120" y="1771560"/>
                <a:ext cx="2998440" cy="1458720"/>
                <a:chOff x="3048120" y="1771560"/>
                <a:chExt cx="2998440" cy="145872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3080880" y="1818000"/>
                  <a:ext cx="2965680" cy="1412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a4a7b"/>
                    </a:gs>
                    <a:gs pos="100000">
                      <a:srgbClr val="9999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3048120" y="177156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99ff"/>
                    </a:gs>
                    <a:gs pos="100000">
                      <a:srgbClr val="d0d0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" name=""/>
              <p:cNvSpPr/>
              <p:nvPr/>
            </p:nvSpPr>
            <p:spPr>
              <a:xfrm>
                <a:off x="3189600" y="1628640"/>
                <a:ext cx="2684520" cy="1341720"/>
              </a:xfrm>
              <a:prstGeom prst="ellipse">
                <a:avLst/>
              </a:prstGeom>
              <a:gradFill rotWithShape="0">
                <a:gsLst>
                  <a:gs pos="0">
                    <a:srgbClr val="2b8a91"/>
                  </a:gs>
                  <a:gs pos="100000">
                    <a:srgbClr val="133f4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224520" y="1636560"/>
                <a:ext cx="2619360" cy="1308240"/>
              </a:xfrm>
              <a:prstGeom prst="ellipse">
                <a:avLst/>
              </a:prstGeom>
              <a:gradFill rotWithShape="0">
                <a:gsLst>
                  <a:gs pos="0">
                    <a:srgbClr val="b4d5d7"/>
                  </a:gs>
                  <a:gs pos="100000">
                    <a:srgbClr val="2b8a91">
                      <a:alpha val="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251520" y="1649520"/>
                <a:ext cx="2492280" cy="1222200"/>
              </a:xfrm>
              <a:prstGeom prst="ellipse">
                <a:avLst/>
              </a:prstGeom>
              <a:gradFill rotWithShape="0">
                <a:gsLst>
                  <a:gs pos="0">
                    <a:srgbClr val="2b8a91">
                      <a:alpha val="48235"/>
                    </a:srgbClr>
                  </a:gs>
                  <a:gs pos="100000">
                    <a:srgbClr val="216c7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383280" y="1676520"/>
                <a:ext cx="2193840" cy="990360"/>
              </a:xfrm>
              <a:prstGeom prst="ellipse">
                <a:avLst/>
              </a:prstGeom>
              <a:gradFill rotWithShape="0">
                <a:gsLst>
                  <a:gs pos="0">
                    <a:srgbClr val="2b8a91">
                      <a:alpha val="38039"/>
                    </a:srgbClr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>
              <a:off x="3882960" y="182880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562720" y="3352680"/>
            <a:ext cx="2286000" cy="2667240"/>
            <a:chOff x="5562720" y="3352680"/>
            <a:chExt cx="2286000" cy="2667240"/>
          </a:xfrm>
        </p:grpSpPr>
        <p:sp>
          <p:nvSpPr>
            <p:cNvPr id="141" name=""/>
            <p:cNvSpPr/>
            <p:nvPr/>
          </p:nvSpPr>
          <p:spPr>
            <a:xfrm>
              <a:off x="5562720" y="3352680"/>
              <a:ext cx="2286000" cy="266724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7240"/>
                <a:gd name="textAreaBottom" fmla="*/ 2555640 h 2667240"/>
              </a:gdLst>
              <a:ahLst/>
              <a:rect l="textAreaLeft" t="textAreaTop" r="textAreaRight" b="textAreaBottom"/>
              <a:pathLst>
                <a:path w="21600" h="25202">
                  <a:moveTo>
                    <a:pt x="3600" y="0"/>
                  </a:moveTo>
                  <a:arcTo wR="3600" hR="3600" stAng="16200000" swAng="-5400000"/>
                  <a:lnTo>
                    <a:pt x="0" y="21602"/>
                  </a:lnTo>
                  <a:arcTo wR="3600" hR="3600" stAng="10800000" swAng="-5400000"/>
                  <a:lnTo>
                    <a:pt x="18000" y="252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791320" y="358128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ucaiFengbao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dddfe"/>
              </a:gs>
              <a:gs pos="100000">
                <a:srgbClr val="99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ycle 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762120" y="1493640"/>
            <a:ext cx="7328520" cy="4583520"/>
            <a:chOff x="762120" y="1493640"/>
            <a:chExt cx="7328520" cy="4583520"/>
          </a:xfrm>
        </p:grpSpPr>
        <p:sp>
          <p:nvSpPr>
            <p:cNvPr id="146" name=""/>
            <p:cNvSpPr/>
            <p:nvPr/>
          </p:nvSpPr>
          <p:spPr>
            <a:xfrm rot="20241600">
              <a:off x="1391760" y="25732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3f3f3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20056200">
              <a:off x="4343040" y="25142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20056200">
              <a:off x="7009920" y="26665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20056200">
              <a:off x="2895120" y="5333760"/>
              <a:ext cx="1067040" cy="30456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20056200">
              <a:off x="5486040" y="47239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20056200">
              <a:off x="2057040" y="38858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821040" y="18288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34345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585800" y="31464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2b8a91"/>
                </a:gs>
                <a:gs pos="100000">
                  <a:srgbClr val="0d2b2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370240" y="46134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5a3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838760" y="406872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4e4e4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464160" y="2025720"/>
              <a:ext cx="1079640" cy="110340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3333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823400" y="3541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126680" y="22240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736680" y="24638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144400" y="44640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634480" y="50022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4290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d528d"/>
                  </a:solidFill>
                  <a:latin typeface="Arial"/>
                  <a:ea typeface="宋体"/>
                </a:rPr>
                <a:t>Cycle name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602080" y="2224080"/>
              <a:ext cx="1627200" cy="1251000"/>
            </a:xfrm>
            <a:prstGeom prst="line">
              <a:avLst/>
            </a:prstGeom>
            <a:ln w="9360">
              <a:solidFill>
                <a:srgbClr val="1d528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cxnSp>
          <p:nvCxnSpPr>
            <p:cNvPr id="164" name=""/>
            <p:cNvCxnSpPr/>
            <p:nvPr/>
          </p:nvCxnSpPr>
          <p:spPr>
            <a:xfrm flipH="1">
              <a:off x="886680" y="2223720"/>
              <a:ext cx="1726200" cy="1080"/>
            </a:xfrm>
            <a:prstGeom prst="straightConnector1">
              <a:avLst/>
            </a:prstGeom>
            <a:ln w="9360">
              <a:solidFill>
                <a:srgbClr val="1d528d"/>
              </a:solidFill>
              <a:miter/>
            </a:ln>
          </p:spPr>
        </p:cxnSp>
        <p:sp>
          <p:nvSpPr>
            <p:cNvPr id="165" name=""/>
            <p:cNvSpPr/>
            <p:nvPr/>
          </p:nvSpPr>
          <p:spPr>
            <a:xfrm>
              <a:off x="762120" y="18288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d528d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68" name="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656565">
                    <a:alpha val="12156"/>
                  </a:srgbClr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656565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33f42"/>
                </a:gs>
                <a:gs pos="50000">
                  <a:srgbClr val="2b8a91"/>
                </a:gs>
                <a:gs pos="100000">
                  <a:srgbClr val="133f4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8e8e8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464675"/>
                </a:gs>
                <a:gs pos="50000">
                  <a:srgbClr val="9999ff"/>
                </a:gs>
                <a:gs pos="100000">
                  <a:srgbClr val="4646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e8e8e8">
                    <a:alpha val="12156"/>
                  </a:srgbClr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88" name=""/>
            <p:cNvGrpSpPr/>
            <p:nvPr/>
          </p:nvGrpSpPr>
          <p:grpSpPr>
            <a:xfrm>
              <a:off x="3008520" y="2209680"/>
              <a:ext cx="2900520" cy="2705400"/>
              <a:chOff x="3008520" y="2209680"/>
              <a:chExt cx="2900520" cy="2705400"/>
            </a:xfrm>
          </p:grpSpPr>
          <p:sp>
            <p:nvSpPr>
              <p:cNvPr id="189" name=""/>
              <p:cNvSpPr/>
              <p:nvPr/>
            </p:nvSpPr>
            <p:spPr>
              <a:xfrm flipH="1" rot="16200000">
                <a:off x="2926800" y="3259800"/>
                <a:ext cx="45900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9a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 rot="5400000">
                <a:off x="5531040" y="3209040"/>
                <a:ext cx="45864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9a"/>
                  </a:gs>
                  <a:gs pos="100000">
                    <a:srgbClr val="00000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H="1" rot="10800000">
                <a:off x="4237560" y="4609440"/>
                <a:ext cx="44352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9a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305520" y="2209680"/>
                <a:ext cx="2325960" cy="24001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438360" y="2345040"/>
                <a:ext cx="2059200" cy="212508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559320" y="2471040"/>
                <a:ext cx="1817280" cy="18781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9999f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559320" y="2471040"/>
                <a:ext cx="181728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678840" y="2594520"/>
                <a:ext cx="1578240" cy="1631520"/>
              </a:xfrm>
              <a:prstGeom prst="ellipse">
                <a:avLst/>
              </a:prstGeom>
              <a:gradFill rotWithShape="0">
                <a:gsLst>
                  <a:gs pos="0">
                    <a:srgbClr val="525289"/>
                  </a:gs>
                  <a:gs pos="50000">
                    <a:srgbClr val="9999ff"/>
                  </a:gs>
                  <a:gs pos="100000">
                    <a:srgbClr val="52528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678840" y="2594520"/>
                <a:ext cx="1578240" cy="163152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143000" y="320832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143000" y="270900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33f42"/>
                </a:gs>
                <a:gs pos="50000">
                  <a:srgbClr val="2b8a91"/>
                </a:gs>
                <a:gs pos="100000">
                  <a:srgbClr val="133f4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120360" y="3208320"/>
              <a:ext cx="172836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33f42"/>
                </a:gs>
                <a:gs pos="50000">
                  <a:srgbClr val="2b8a91"/>
                </a:gs>
                <a:gs pos="100000">
                  <a:srgbClr val="133f4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120360" y="2709000"/>
              <a:ext cx="172836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33f42"/>
                </a:gs>
                <a:gs pos="50000">
                  <a:srgbClr val="2b8a91"/>
                </a:gs>
                <a:gs pos="100000">
                  <a:srgbClr val="133f4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d528d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872640" y="2276640"/>
            <a:ext cx="7543800" cy="3352680"/>
            <a:chOff x="872640" y="2276640"/>
            <a:chExt cx="7543800" cy="3352680"/>
          </a:xfrm>
        </p:grpSpPr>
        <p:sp>
          <p:nvSpPr>
            <p:cNvPr id="214" name=""/>
            <p:cNvSpPr/>
            <p:nvPr/>
          </p:nvSpPr>
          <p:spPr>
            <a:xfrm flipH="1">
              <a:off x="873000" y="5621400"/>
              <a:ext cx="1657440" cy="1440"/>
            </a:xfrm>
            <a:prstGeom prst="line">
              <a:avLst/>
            </a:prstGeom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873000" y="4782960"/>
              <a:ext cx="2438640" cy="0"/>
            </a:xfrm>
            <a:prstGeom prst="line">
              <a:avLst/>
            </a:prstGeom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873000" y="3952800"/>
              <a:ext cx="3353040" cy="0"/>
            </a:xfrm>
            <a:prstGeom prst="line">
              <a:avLst/>
            </a:prstGeom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872640" y="3124080"/>
              <a:ext cx="4165560" cy="0"/>
            </a:xfrm>
            <a:prstGeom prst="line">
              <a:avLst/>
            </a:prstGeom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873000" y="2282760"/>
              <a:ext cx="5034240" cy="0"/>
            </a:xfrm>
            <a:prstGeom prst="line">
              <a:avLst/>
            </a:prstGeom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025640" y="2276640"/>
              <a:ext cx="0" cy="871200"/>
            </a:xfrm>
            <a:prstGeom prst="line">
              <a:avLst/>
            </a:prstGeom>
            <a:ln w="9360">
              <a:solidFill>
                <a:srgbClr val="1d528d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025640" y="3147840"/>
              <a:ext cx="0" cy="817560"/>
            </a:xfrm>
            <a:prstGeom prst="line">
              <a:avLst/>
            </a:prstGeom>
            <a:ln w="9360">
              <a:solidFill>
                <a:srgbClr val="1d528d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025640" y="3965400"/>
              <a:ext cx="0" cy="816120"/>
            </a:xfrm>
            <a:prstGeom prst="line">
              <a:avLst/>
            </a:prstGeom>
            <a:ln w="9360">
              <a:solidFill>
                <a:srgbClr val="1d528d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025640" y="4782960"/>
              <a:ext cx="0" cy="816120"/>
            </a:xfrm>
            <a:prstGeom prst="line">
              <a:avLst/>
            </a:prstGeom>
            <a:ln w="9360">
              <a:solidFill>
                <a:srgbClr val="1d528d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224720" y="26002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224720" y="34275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224720" y="42908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224720" y="50976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2590920" y="2286000"/>
              <a:ext cx="5825520" cy="3343320"/>
              <a:chOff x="2590920" y="2286000"/>
              <a:chExt cx="5825520" cy="3343320"/>
            </a:xfrm>
          </p:grpSpPr>
          <p:sp>
            <p:nvSpPr>
              <p:cNvPr id="228" name=""/>
              <p:cNvSpPr/>
              <p:nvPr/>
            </p:nvSpPr>
            <p:spPr>
              <a:xfrm>
                <a:off x="7834320" y="2286000"/>
                <a:ext cx="575640" cy="84636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0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54600"/>
                  </a:gs>
                  <a:gs pos="50000">
                    <a:srgbClr val="ff9900"/>
                  </a:gs>
                  <a:gs pos="100000">
                    <a:srgbClr val="754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073480" y="2286000"/>
                <a:ext cx="3342960" cy="541440"/>
              </a:xfrm>
              <a:custGeom>
                <a:avLst/>
                <a:gdLst/>
                <a:ahLst/>
                <a:rect l="l" t="t" r="r" b="b"/>
                <a:pathLst>
                  <a:path w="1786" h="284">
                    <a:moveTo>
                      <a:pt x="1478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786" y="0"/>
                    </a:lnTo>
                    <a:lnTo>
                      <a:pt x="1478" y="284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254720" y="3117960"/>
                <a:ext cx="576000" cy="841320"/>
              </a:xfrm>
              <a:custGeom>
                <a:avLst/>
                <a:gdLst/>
                <a:ahLst/>
                <a:rect l="l" t="t" r="r" b="b"/>
                <a:pathLst>
                  <a:path w="308" h="442">
                    <a:moveTo>
                      <a:pt x="308" y="120"/>
                    </a:moveTo>
                    <a:lnTo>
                      <a:pt x="0" y="442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64675"/>
                  </a:gs>
                  <a:gs pos="50000">
                    <a:srgbClr val="9999ff"/>
                  </a:gs>
                  <a:gs pos="100000">
                    <a:srgbClr val="46467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243320" y="3117960"/>
                <a:ext cx="3593520" cy="539640"/>
              </a:xfrm>
              <a:custGeom>
                <a:avLst/>
                <a:gdLst/>
                <a:ahLst/>
                <a:rect l="l" t="t" r="r" b="b"/>
                <a:pathLst>
                  <a:path w="1920" h="284">
                    <a:moveTo>
                      <a:pt x="161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920" y="0"/>
                    </a:lnTo>
                    <a:lnTo>
                      <a:pt x="1612" y="284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673680" y="3949920"/>
                <a:ext cx="572760" cy="844560"/>
              </a:xfrm>
              <a:custGeom>
                <a:avLst/>
                <a:gdLst/>
                <a:ahLst/>
                <a:rect l="l" t="t" r="r" b="b"/>
                <a:pathLst>
                  <a:path w="306" h="444">
                    <a:moveTo>
                      <a:pt x="306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6" y="0"/>
                    </a:lnTo>
                    <a:lnTo>
                      <a:pt x="306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54545"/>
                  </a:gs>
                  <a:gs pos="50000">
                    <a:srgbClr val="969696"/>
                  </a:gs>
                  <a:gs pos="100000">
                    <a:srgbClr val="45454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095880" y="4783320"/>
                <a:ext cx="577440" cy="84600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33f42"/>
                  </a:gs>
                  <a:gs pos="50000">
                    <a:srgbClr val="2b8a91"/>
                  </a:gs>
                  <a:gs pos="100000">
                    <a:srgbClr val="133f4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592360" y="4788000"/>
                <a:ext cx="4080960" cy="539640"/>
              </a:xfrm>
              <a:custGeom>
                <a:avLst/>
                <a:gdLst/>
                <a:ahLst/>
                <a:rect l="l" t="t" r="r" b="b"/>
                <a:pathLst>
                  <a:path w="2180" h="284">
                    <a:moveTo>
                      <a:pt x="187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2180" y="0"/>
                    </a:lnTo>
                    <a:lnTo>
                      <a:pt x="1872" y="284"/>
                    </a:lnTo>
                    <a:close/>
                  </a:path>
                </a:pathLst>
              </a:custGeom>
              <a:solidFill>
                <a:srgbClr val="2b8a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184560" y="2440080"/>
                <a:ext cx="1837800" cy="2722680"/>
              </a:xfrm>
              <a:custGeom>
                <a:avLst/>
                <a:gdLst/>
                <a:ahLst/>
                <a:rect l="l" t="t" r="r" b="b"/>
                <a:pathLst>
                  <a:path w="1824" h="2648">
                    <a:moveTo>
                      <a:pt x="0" y="2648"/>
                    </a:moveTo>
                    <a:lnTo>
                      <a:pt x="12" y="2464"/>
                    </a:lnTo>
                    <a:lnTo>
                      <a:pt x="32" y="2288"/>
                    </a:lnTo>
                    <a:lnTo>
                      <a:pt x="56" y="2120"/>
                    </a:lnTo>
                    <a:lnTo>
                      <a:pt x="88" y="1960"/>
                    </a:lnTo>
                    <a:lnTo>
                      <a:pt x="124" y="1808"/>
                    </a:lnTo>
                    <a:lnTo>
                      <a:pt x="166" y="1662"/>
                    </a:lnTo>
                    <a:lnTo>
                      <a:pt x="212" y="1524"/>
                    </a:lnTo>
                    <a:lnTo>
                      <a:pt x="262" y="1394"/>
                    </a:lnTo>
                    <a:lnTo>
                      <a:pt x="316" y="1270"/>
                    </a:lnTo>
                    <a:lnTo>
                      <a:pt x="372" y="1154"/>
                    </a:lnTo>
                    <a:lnTo>
                      <a:pt x="430" y="1044"/>
                    </a:lnTo>
                    <a:lnTo>
                      <a:pt x="490" y="942"/>
                    </a:lnTo>
                    <a:lnTo>
                      <a:pt x="550" y="846"/>
                    </a:lnTo>
                    <a:lnTo>
                      <a:pt x="612" y="758"/>
                    </a:lnTo>
                    <a:lnTo>
                      <a:pt x="672" y="674"/>
                    </a:lnTo>
                    <a:lnTo>
                      <a:pt x="734" y="598"/>
                    </a:lnTo>
                    <a:lnTo>
                      <a:pt x="792" y="528"/>
                    </a:lnTo>
                    <a:lnTo>
                      <a:pt x="850" y="464"/>
                    </a:lnTo>
                    <a:lnTo>
                      <a:pt x="906" y="408"/>
                    </a:lnTo>
                    <a:lnTo>
                      <a:pt x="960" y="356"/>
                    </a:lnTo>
                    <a:lnTo>
                      <a:pt x="1010" y="310"/>
                    </a:lnTo>
                    <a:lnTo>
                      <a:pt x="1056" y="270"/>
                    </a:lnTo>
                    <a:lnTo>
                      <a:pt x="1096" y="236"/>
                    </a:lnTo>
                    <a:lnTo>
                      <a:pt x="1134" y="208"/>
                    </a:lnTo>
                    <a:lnTo>
                      <a:pt x="1164" y="184"/>
                    </a:lnTo>
                    <a:lnTo>
                      <a:pt x="1190" y="166"/>
                    </a:lnTo>
                    <a:lnTo>
                      <a:pt x="1208" y="154"/>
                    </a:lnTo>
                    <a:lnTo>
                      <a:pt x="1220" y="146"/>
                    </a:lnTo>
                    <a:lnTo>
                      <a:pt x="1224" y="144"/>
                    </a:lnTo>
                    <a:lnTo>
                      <a:pt x="848" y="0"/>
                    </a:lnTo>
                    <a:lnTo>
                      <a:pt x="1728" y="56"/>
                    </a:lnTo>
                    <a:lnTo>
                      <a:pt x="1824" y="480"/>
                    </a:lnTo>
                    <a:lnTo>
                      <a:pt x="1568" y="328"/>
                    </a:lnTo>
                    <a:lnTo>
                      <a:pt x="1564" y="328"/>
                    </a:lnTo>
                    <a:lnTo>
                      <a:pt x="1554" y="332"/>
                    </a:lnTo>
                    <a:lnTo>
                      <a:pt x="1538" y="338"/>
                    </a:lnTo>
                    <a:lnTo>
                      <a:pt x="1514" y="346"/>
                    </a:lnTo>
                    <a:lnTo>
                      <a:pt x="1486" y="356"/>
                    </a:lnTo>
                    <a:lnTo>
                      <a:pt x="1452" y="370"/>
                    </a:lnTo>
                    <a:lnTo>
                      <a:pt x="1412" y="388"/>
                    </a:lnTo>
                    <a:lnTo>
                      <a:pt x="1370" y="410"/>
                    </a:lnTo>
                    <a:lnTo>
                      <a:pt x="1322" y="436"/>
                    </a:lnTo>
                    <a:lnTo>
                      <a:pt x="1270" y="466"/>
                    </a:lnTo>
                    <a:lnTo>
                      <a:pt x="1216" y="500"/>
                    </a:lnTo>
                    <a:lnTo>
                      <a:pt x="1158" y="540"/>
                    </a:lnTo>
                    <a:lnTo>
                      <a:pt x="1098" y="584"/>
                    </a:lnTo>
                    <a:lnTo>
                      <a:pt x="1034" y="636"/>
                    </a:lnTo>
                    <a:lnTo>
                      <a:pt x="970" y="692"/>
                    </a:lnTo>
                    <a:lnTo>
                      <a:pt x="904" y="756"/>
                    </a:lnTo>
                    <a:lnTo>
                      <a:pt x="836" y="824"/>
                    </a:lnTo>
                    <a:lnTo>
                      <a:pt x="770" y="900"/>
                    </a:lnTo>
                    <a:lnTo>
                      <a:pt x="700" y="984"/>
                    </a:lnTo>
                    <a:lnTo>
                      <a:pt x="632" y="1076"/>
                    </a:lnTo>
                    <a:lnTo>
                      <a:pt x="566" y="1174"/>
                    </a:lnTo>
                    <a:lnTo>
                      <a:pt x="498" y="1280"/>
                    </a:lnTo>
                    <a:lnTo>
                      <a:pt x="434" y="1394"/>
                    </a:lnTo>
                    <a:lnTo>
                      <a:pt x="370" y="1518"/>
                    </a:lnTo>
                    <a:lnTo>
                      <a:pt x="308" y="1650"/>
                    </a:lnTo>
                    <a:lnTo>
                      <a:pt x="248" y="1792"/>
                    </a:lnTo>
                    <a:lnTo>
                      <a:pt x="192" y="1944"/>
                    </a:lnTo>
                    <a:lnTo>
                      <a:pt x="138" y="2104"/>
                    </a:lnTo>
                    <a:lnTo>
                      <a:pt x="88" y="2274"/>
                    </a:lnTo>
                    <a:lnTo>
                      <a:pt x="42" y="2456"/>
                    </a:lnTo>
                    <a:lnTo>
                      <a:pt x="0" y="26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1364"/>
                  </a:gs>
                  <a:gs pos="100000">
                    <a:srgbClr val="6008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079960" y="2827440"/>
                <a:ext cx="2766600" cy="304920"/>
              </a:xfrm>
              <a:prstGeom prst="rect">
                <a:avLst/>
              </a:prstGeom>
              <a:gradFill rotWithShape="0">
                <a:gsLst>
                  <a:gs pos="0">
                    <a:srgbClr val="b86e00"/>
                  </a:gs>
                  <a:gs pos="50000">
                    <a:srgbClr val="ff9900"/>
                  </a:gs>
                  <a:gs pos="100000">
                    <a:srgbClr val="b86e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244760" y="3657600"/>
                <a:ext cx="3016080" cy="298440"/>
              </a:xfrm>
              <a:prstGeom prst="rect">
                <a:avLst/>
              </a:prstGeom>
              <a:gradFill rotWithShape="0">
                <a:gsLst>
                  <a:gs pos="0">
                    <a:srgbClr val="6e6eb8"/>
                  </a:gs>
                  <a:gs pos="50000">
                    <a:srgbClr val="9999ff"/>
                  </a:gs>
                  <a:gs pos="100000">
                    <a:srgbClr val="6e6eb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419280" y="3949920"/>
                <a:ext cx="3833640" cy="544320"/>
              </a:xfrm>
              <a:custGeom>
                <a:avLst/>
                <a:gdLst/>
                <a:ahLst/>
                <a:rect l="l" t="t" r="r" b="b"/>
                <a:pathLst>
                  <a:path w="2048" h="286">
                    <a:moveTo>
                      <a:pt x="1742" y="286"/>
                    </a:moveTo>
                    <a:lnTo>
                      <a:pt x="0" y="286"/>
                    </a:lnTo>
                    <a:lnTo>
                      <a:pt x="446" y="0"/>
                    </a:lnTo>
                    <a:lnTo>
                      <a:pt x="2048" y="0"/>
                    </a:lnTo>
                    <a:lnTo>
                      <a:pt x="1742" y="286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422520" y="4492800"/>
                <a:ext cx="3263400" cy="298440"/>
              </a:xfrm>
              <a:prstGeom prst="rect">
                <a:avLst/>
              </a:prstGeom>
              <a:gradFill rotWithShape="0">
                <a:gsLst>
                  <a:gs pos="0">
                    <a:srgbClr val="6c6c6c"/>
                  </a:gs>
                  <a:gs pos="50000">
                    <a:srgbClr val="969696"/>
                  </a:gs>
                  <a:gs pos="100000">
                    <a:srgbClr val="6c6c6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590920" y="5329440"/>
                <a:ext cx="3512880" cy="297000"/>
              </a:xfrm>
              <a:prstGeom prst="rect">
                <a:avLst/>
              </a:prstGeom>
              <a:gradFill rotWithShape="0">
                <a:gsLst>
                  <a:gs pos="0">
                    <a:srgbClr val="1f6368"/>
                  </a:gs>
                  <a:gs pos="50000">
                    <a:srgbClr val="2b8a91"/>
                  </a:gs>
                  <a:gs pos="100000">
                    <a:srgbClr val="1f636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1600200"/>
            <a:ext cx="5880240" cy="4495680"/>
          </a:xfrm>
          <a:prstGeom prst="rightArrow">
            <a:avLst>
              <a:gd name="adj1" fmla="val 79306"/>
              <a:gd name="adj2" fmla="val 32396"/>
            </a:avLst>
          </a:prstGeom>
          <a:gradFill rotWithShape="0">
            <a:gsLst>
              <a:gs pos="0">
                <a:srgbClr val="2b8a91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838080" y="22096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ff9900"/>
              </a:gs>
              <a:gs pos="100000">
                <a:srgbClr val="feb74c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38080" y="33526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5b98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38080" y="44956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9999ff"/>
              </a:gs>
              <a:gs pos="100000">
                <a:srgbClr val="b7b7f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88024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Add Your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>ThemeGallery.com</dc:creator>
  <dc:description/>
  <dc:language>en-US</dc:language>
  <cp:lastModifiedBy>admin</cp:lastModifiedBy>
  <dcterms:modified xsi:type="dcterms:W3CDTF">2015-01-19T02:25:24Z</dcterms:modified>
  <cp:revision>80</cp:revision>
  <dc:subject/>
  <dc:title>PowerPoint Template</dc:title>
</cp:coreProperties>
</file>