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chimes.wav" ContentType="audio/x-wav"/>
  <Override PartName="/ppt/media/image7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D5745-D6AD-4F52-9CD1-233121C1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A3717-3516-4AB2-8202-58B6C95B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6211A-A0C7-43B1-8068-36951DB4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68BA4-79D5-4A55-BE67-9D7CB5B4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2DD8-2BB3-42A6-AC78-9776E180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EA31-270E-421C-82C3-F71AAEC1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DEC9-0B6A-4A70-9D9B-C2BB6E96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D87B-3776-4ED6-A483-C21E4054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9669-F52B-4BE5-8F0B-4FED564B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76EF-E5B3-4272-B410-3AF0D4EA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4C47-3815-41BF-94CE-E1AF2434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34B95-A7A7-4EF1-86E8-6B07149B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9F47-ABE0-4208-A0C1-CD92ACAF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46FC-0B22-4F78-8DD0-2AB8D4C4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66ED-2421-4375-8395-771ACF7D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6C36-5F5B-44DA-8D5D-FF6ACCF1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FDAE-9E26-47C0-BEDF-F8698CA7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8C20F-A939-48B6-90BD-B11298DE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C8256-6175-4810-8325-8A1E8B02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95737-5E2E-4269-B7BE-6CAF9FB9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1391A-535C-40C9-816A-1BF67A89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B4021-DF4A-4340-A649-9B68754C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828C2-7584-44FE-B840-C966CE4A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354B4-0377-499E-A288-A4621DC6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5393A-9DA8-4BD1-AA67-ABAF81AE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E50C9-10D6-4C90-8B44-96A228A7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5910E-82DE-4D6F-AA1C-1EB04A25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63243-EC03-4E81-BFB3-7E38C05F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950DB-62D9-42AC-A957-EC3CE548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73A13-1B28-4D30-B43F-027AC871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27570-2DAB-4306-A1F1-25CE019C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46135-59EA-40E8-A0F6-C476330C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C405C-BE5D-40E0-B2A0-7EA1E1C7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1D44-9A5A-4965-B4AC-19EF112C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F0328-F059-4051-B869-F65E4CCE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391AE-5386-4E1E-B376-2B419E79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790A1-0567-4D35-8B59-46DAC7F7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D6BD3-2CEE-43E6-8544-A6BEB6C7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97CE0-9C00-47D9-B2A4-1BF6C2BC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4450D-6306-4977-AEAD-85ADBB76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5577E-4EFE-4EB7-9C34-41DD8ABC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66ECB-EB72-4C29-86EB-5DCA5CDB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BB9E3-536C-4E81-8E08-4CE03838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F9D05-C42A-4931-B2B8-CDAF9915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8455E-F811-4081-A921-3CD8EC46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ED78E-C16E-4500-B6BF-738834D9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757BD-42FD-41C9-B144-2FFE72E1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FA6C6-1429-4D06-A68A-D2798811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0F0E4-42E1-4E64-9805-01062807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9F604-731B-494D-9DBE-1C1C2E0C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40BE6-B862-4D66-9A2E-0640B4D6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900A6-1762-41A4-A0FD-2A3E785C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560A7-0F30-4447-8620-257252A0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03314-A02B-48BA-9C1B-27282D97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A3D3E-4912-4B9F-B4AF-62262C26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842AB-5B96-440A-9512-34B286C8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38564-30B0-405B-8246-00028076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759C5-C9D6-4583-A9B6-9B3C8CD7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5B355-FA70-4970-87E0-340F235A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22E27-2830-4FC5-BA23-18B9A03B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E5259-3C19-4BD6-8D64-0CCAB223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83AB4-3150-4156-87FC-DEDAB122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4D089-2E69-4EAC-820D-8A9E221F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1790C-0552-40F5-B0E5-9572F349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C8B9E-5EBD-4EC1-8C9E-0667F73B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3B3EA-1A60-4AEF-AB1E-506621CF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39151-5FDF-46B0-92B3-85CE1DB0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71057-A8D4-4349-A6FC-0A70E1E3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3F669-4974-455B-B922-53473D02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A4F92-45EB-4E3F-9089-8CDAA352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DAC7E-A9F4-475C-9A59-0D68E852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7FD78-679E-46B0-93BD-AAC26174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3B81E-B4FA-4FB3-ACCD-E29CDC30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197A3-19AD-415D-BD49-DEB80AC6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FA79F-C7CF-471F-99D3-EFEF156A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92A95-FB0B-44B0-96C9-23D6C843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4A7B9-C9B3-47AE-912D-1E293F9A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F298C-4824-476F-8A33-A166F513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BB9F7-608E-4EB6-BDCA-7F3F2326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6F548-44B6-478D-B45B-4683A133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478A9-1828-49BE-B26E-D89D023E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0CD0A-93C3-4FD7-8A5D-A7A97F80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72894-CBCB-443A-8C2C-6339D11D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4A292-0785-4646-9F57-61453F59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B0479-F14E-4F69-84AB-D9C813CB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B0987-D00C-4DCF-8AB6-CA514780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EA5A5-490B-44D8-9689-C2EDD074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1A680-86B5-48F5-8DAE-D66DC6CB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E51F6-FA43-4D1B-A88A-E8C41EF6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9F5C3-6CA0-49A5-9FC5-4E7A6307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1A7B8-CD50-4B28-8CBD-135AD5D7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52791-4BC0-4BAA-A447-34739083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B8784-BCA3-479E-BDC5-FF9B5150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EB131-42B0-46E6-840E-606B116F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3838C-D2FB-4156-BBED-7443B49A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C6EF2-D949-4E8C-BE0C-057E038C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7434-876B-4D91-A140-22B73DF7BB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0A30-4ACA-4664-9E62-E1B6431BDA8D}" type="slidenum">
              <a:rPr b="1" lang="en-US" sz="26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181E-2CC6-4F90-8756-D8FF2D1F9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53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54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5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9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60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2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63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64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5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67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8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9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0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71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3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74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77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9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80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2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83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4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5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86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8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89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1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92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4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95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7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98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9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0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01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3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04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6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07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8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9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10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2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13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4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5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16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7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8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19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1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22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3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4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25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7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28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30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1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32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33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5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36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39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1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42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4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45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6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7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48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9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0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51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2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3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54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5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6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57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8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9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60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1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2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63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4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265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1EE3-E143-43FA-A74D-0D4A3B4997B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2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024B-174B-4324-9148-5DF943FE02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9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9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233B-DC27-43E1-98D6-FC1EA4E7FB06}" type="slidenum">
              <a:rPr b="1" lang="en-US" sz="26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19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0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1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03F6-32CA-4768-A2A5-C029F0B2E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480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81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83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484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8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8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7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8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89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90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1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2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93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4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5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96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7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9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0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01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02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3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04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05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07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08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9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10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11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2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13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14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5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16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17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8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19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20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1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22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23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4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2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26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28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29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0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31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32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3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34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35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6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37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3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9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40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41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42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43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44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45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46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47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48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49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50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51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552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3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554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55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56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57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58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59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60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61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62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63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64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65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66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67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68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69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70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71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72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73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74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75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76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77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78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79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80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81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82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83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8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85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86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587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588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589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0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1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2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3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4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5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596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97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598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5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6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0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1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ECEA-906B-4721-B9DD-4F46AAF3242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294760" cy="4782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ahoma"/>
              </a:rPr>
              <a:t>感恩母亲</a:t>
            </a:r>
            <a:br>
              <a:rPr sz="8000"/>
            </a:br>
            <a:r>
              <a:rPr b="0" lang="zh-CN" sz="66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——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妇女节主题班会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                               六年三班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55" name="20100828221805123f8f1a5840a163715cd83b5c2ea713.mp3" descr=""/>
          <p:cNvPicPr/>
          <p:nvPr/>
        </p:nvPicPr>
        <p:blipFill>
          <a:blip r:embed="rId2"/>
          <a:stretch/>
        </p:blipFill>
        <p:spPr>
          <a:xfrm>
            <a:off x="8028000" y="6021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1904" fill="hold"/>
                                        <p:tgtEl>
                                          <p:spTgt spid="6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结束：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感恩方案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88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（一） 了解妈妈、长辈对我的爱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问一问妈妈，自己是怎样降临到这个世界上的，妈妈在怀着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的时候我有没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调皮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和全家人一起看看小时候的照片，请爸爸妈妈讲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小时候的故事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大家说说记忆中父母作出的最让自己感动的事情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（二）了解妈妈、长辈的艰辛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听妈妈讲培养我成长的故事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听妈妈讲他的工作、学习的故事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（三）我们对妈妈、长辈的爱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想想我们对妈妈、长辈做过些什么？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说说还有哪些方面做得还不够，以后有什么打算？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（四）真情回馈、温情行动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为母亲、为奶奶、为外婆倒杯水，捶捶背、洗洗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给妈妈做一张画着自己小手的贺卡，写一篇真情酿成的美文，悄悄地放在妈妈的枕头底下！让妈妈感受到其中的甜蜜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名人 名言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①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人的嘴唇所能发出的最甜美的字眼，就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母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，最美好的呼唤，就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妈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。    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—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纪伯伦（黎巴嫩诗人、散文作家、画家）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②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在宽广博大的人生海洋中，母亲的爱就像一座小岛，是避开汹涌波涛的平安宁静之地。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—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莱斯（英国词人）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80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③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成功的时候，谁都是朋友。但只有母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，她是失败时的伴侣。           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—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郑振铎（中国文史家）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④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世界上其它一切都是假的、空的，惟有母爱才是真的、永恒的。            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—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普列姆昌德（印度小说家）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⑤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为什么母亲的温柔会感人泪下呢？因为母亲对儿女的操劳是无代价的。    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—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铃木健二（日本作家）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" descr="0013"/>
          <p:cNvPicPr/>
          <p:nvPr/>
        </p:nvPicPr>
        <p:blipFill>
          <a:blip r:embed="rId1"/>
          <a:stretch/>
        </p:blipFill>
        <p:spPr>
          <a:xfrm>
            <a:off x="539640" y="40464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zh-CN" sz="8000" spc="-1" strike="noStrike">
                <a:solidFill>
                  <a:srgbClr val="ff0000"/>
                </a:solidFill>
                <a:latin typeface="Arial Black"/>
              </a:rPr>
              <a:t>祝妈妈节日快乐！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79" name="Picture 4" descr="Img200332510431587"/>
          <p:cNvPicPr/>
          <p:nvPr/>
        </p:nvPicPr>
        <p:blipFill>
          <a:blip r:embed="rId2"/>
          <a:stretch/>
        </p:blipFill>
        <p:spPr>
          <a:xfrm>
            <a:off x="685800" y="3429000"/>
            <a:ext cx="2266920" cy="2990880"/>
          </a:xfrm>
          <a:prstGeom prst="rect">
            <a:avLst/>
          </a:prstGeom>
          <a:ln w="0">
            <a:noFill/>
          </a:ln>
        </p:spPr>
      </p:pic>
      <p:pic>
        <p:nvPicPr>
          <p:cNvPr id="680" name="20100828221805123f8f1a5840a163715cd83b5c2ea713.mp3" descr=""/>
          <p:cNvPicPr/>
          <p:nvPr/>
        </p:nvPicPr>
        <p:blipFill>
          <a:blip r:embed="rId3"/>
          <a:stretch/>
        </p:blipFill>
        <p:spPr>
          <a:xfrm>
            <a:off x="7885080" y="5877000"/>
            <a:ext cx="7192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11904" fill="hold"/>
                                        <p:tgtEl>
                                          <p:spTgt spid="6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妇女节又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国际妇女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是世界各国妇女争取和平、平等、发展的节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节期在每年三月八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个世纪以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各国妇女为争取到这一权利做出了不懈的努力和斗争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WordArt 12"/>
          <p:cNvSpPr txBox="1"/>
          <p:nvPr/>
        </p:nvSpPr>
        <p:spPr>
          <a:xfrm>
            <a:off x="1547640" y="620640"/>
            <a:ext cx="58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黑体"/>
              </a:rPr>
              <a:t>三八妇女节的来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0" y="83628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57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美国纽约的服装和纺织女工举行了一次抗议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反对非人道的工作环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1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小时工作制和低薪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游行者被警察围攻并赶散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两年以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又是在三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这些妇女组织了第一个工会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0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150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名妇女在纽约市游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要求缩短工作时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提高劳动报酬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享有选举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禁止使用童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她们提出的口号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面包和玫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；面包象征经济保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玫瑰象征较好的生活质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五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美国社会党决定以二月的最后一个星期日做为国内的妇女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4358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1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德国社会学家蔡特金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ClaraZetkin)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建议为了纪念美国服装工人的罢工应设定一天当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国际妇女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该建议被在哥本哈根召开的国际妇女社会学家会议接受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但并未定出具体日期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17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俄国妇女号召在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罢工以要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面包和和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抗议恶劣的工作环境和食物短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这天依据俄国使用的儒略历是当月的最后一个星期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折合成欧洲广范使用的格里高历是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中国共产党在广州召开了第一次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三、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节纪念大会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4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我国中央人民政府作出决定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将三月八日定为妇女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该日全国妇女放假半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举行各种仪式的纪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祝庆活动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915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77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联合国采纳了一项决议声明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联合国妇女权益和和平日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在一种的某一天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服从各成员国的历史和传统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对联合国而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国际妇女节订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日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且从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75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年开始南非妇女节时间有别于国际妇女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56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日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数百名黑人妇女在比勒陀利亚举行示威游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抗议当局推行种族隔离的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通行证法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新南非政府将这一天定为妇女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以纪念南非妇女在争取平等斗争中所作的贡献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并将这一天定为全国公假日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从此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每年的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日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南非各地的妇女纷纷举行各种形式的庆祝活动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要求实现男女平等、结束党派冲突与暴力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保证妇女生存权益和反对性骚扰与性犯罪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以消除旧南非种族隔离制度造成的根深蒂固的歧视妇女的影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2" descr="2289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cd"/>
          <p:cNvPicPr/>
          <p:nvPr/>
        </p:nvPicPr>
        <p:blipFill>
          <a:blip r:embed="rId2"/>
          <a:stretch/>
        </p:blipFill>
        <p:spPr>
          <a:xfrm>
            <a:off x="3419640" y="3500280"/>
            <a:ext cx="2857320" cy="298152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4"/>
          <p:cNvSpPr/>
          <p:nvPr/>
        </p:nvSpPr>
        <p:spPr>
          <a:xfrm>
            <a:off x="1676520" y="476280"/>
            <a:ext cx="5775120" cy="1312920"/>
          </a:xfrm>
          <a:prstGeom prst="rect">
            <a:avLst/>
          </a:prstGeom>
          <a:solidFill>
            <a:srgbClr val="e4f8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彩云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彩云"/>
              </a:rPr>
              <a:t>父母怎么给你过生日的？你知道父母的生日吗？你给他们过过生日吗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  <p:sndAc>
      <p:stSnd>
        <p:snd r:embed="rId3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2345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>
            <a:off x="752040" y="1742400"/>
            <a:ext cx="7639920" cy="40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听故事，谈感想。</a:t>
            </a:r>
            <a:br>
              <a:rPr sz="4000"/>
            </a:b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217193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 txBox="1"/>
          <p:nvPr/>
        </p:nvSpPr>
        <p:spPr>
          <a:xfrm>
            <a:off x="792720" y="609840"/>
            <a:ext cx="7558560" cy="461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讨论：怎样让母亲过一个难忘的三八节？</a:t>
            </a:r>
            <a:br>
              <a:rPr sz="54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AutoShape 4"/>
          <p:cNvSpPr/>
          <p:nvPr/>
        </p:nvSpPr>
        <p:spPr>
          <a:xfrm>
            <a:off x="76201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9966" y="7493"/>
                </a:moveTo>
                <a:lnTo>
                  <a:pt x="13474" y="7493"/>
                </a:lnTo>
                <a:lnTo>
                  <a:pt x="13474" y="12828"/>
                </a:lnTo>
                <a:cubicBezTo>
                  <a:pt x="13474" y="13751"/>
                  <a:pt x="14274" y="14482"/>
                  <a:pt x="15310" y="14482"/>
                </a:cubicBezTo>
                <a:lnTo>
                  <a:pt x="16972" y="14482"/>
                </a:lnTo>
                <a:cubicBezTo>
                  <a:pt x="18008" y="14482"/>
                  <a:pt x="18809" y="13751"/>
                  <a:pt x="18809" y="12828"/>
                </a:cubicBezTo>
                <a:lnTo>
                  <a:pt x="18809" y="7493"/>
                </a:lnTo>
                <a:lnTo>
                  <a:pt x="16972" y="7493"/>
                </a:lnTo>
                <a:lnTo>
                  <a:pt x="20480" y="3985"/>
                </a:lnTo>
                <a:lnTo>
                  <a:pt x="24153" y="7493"/>
                </a:lnTo>
                <a:lnTo>
                  <a:pt x="22317" y="7493"/>
                </a:lnTo>
                <a:lnTo>
                  <a:pt x="22317" y="12828"/>
                </a:lnTo>
                <a:cubicBezTo>
                  <a:pt x="22317" y="15596"/>
                  <a:pt x="19740" y="18155"/>
                  <a:pt x="16972" y="18155"/>
                </a:cubicBezTo>
                <a:lnTo>
                  <a:pt x="15310" y="18155"/>
                </a:lnTo>
                <a:cubicBezTo>
                  <a:pt x="12542" y="18155"/>
                  <a:pt x="9966" y="15596"/>
                  <a:pt x="9966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2" descr="0013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讨论：</a:t>
            </a: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以后我们该怎样回报父母？</a:t>
            </a:r>
            <a:endParaRPr b="0" lang="en-US" sz="72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671" name="Picture 4" descr="Img200332510431587"/>
          <p:cNvPicPr/>
          <p:nvPr/>
        </p:nvPicPr>
        <p:blipFill>
          <a:blip r:embed="rId2"/>
          <a:stretch/>
        </p:blipFill>
        <p:spPr>
          <a:xfrm>
            <a:off x="685800" y="3429000"/>
            <a:ext cx="22669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03:17:26Z</dcterms:created>
  <dc:creator>USER</dc:creator>
  <dc:description/>
  <dc:language>en-US</dc:language>
  <cp:lastModifiedBy>Administrator</cp:lastModifiedBy>
  <dcterms:modified xsi:type="dcterms:W3CDTF">2015-03-02T08:57:48Z</dcterms:modified>
  <cp:revision>5</cp:revision>
  <dc:subject/>
  <dc:title>感恩母亲 </dc:title>
</cp:coreProperties>
</file>