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225-3842-42FF-A387-6B32075BF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DDA-1A37-4D62-8D9D-3D0A22AA46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EB6-4039-4FDB-B6C4-4CF2BE0A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FBC-DDC0-4528-9FE2-77F0269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D56-ACB0-47AD-B4BD-29023548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E7C-4BEA-4B12-80E1-939C53EA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411-CA2E-496E-B6F3-465855E5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447-2072-4145-8441-F3B1E84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228-A0DD-47D1-A328-BED5B0E2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949-C419-460A-BAE0-3534EFF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314-8BB0-456F-9D27-188F0ADD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A3F-3974-4CE8-8D56-DAD92FA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3B5-0378-4E9D-BBA2-DD58D90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E3E-EBB8-46C1-B820-8690E0F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B21-83DD-4EAC-9E5E-420D00600A51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 rot="301200">
            <a:off x="3848040" y="3094200"/>
            <a:ext cx="30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 rot="280200">
            <a:off x="3787560" y="3698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9"/>
          <p:cNvSpPr/>
          <p:nvPr/>
        </p:nvSpPr>
        <p:spPr>
          <a:xfrm rot="21403800">
            <a:off x="7408440" y="107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1707480" y="1575360"/>
            <a:ext cx="6300000" cy="959760"/>
            <a:chOff x="1707480" y="1575360"/>
            <a:chExt cx="6300000" cy="959760"/>
          </a:xfrm>
        </p:grpSpPr>
        <p:sp>
          <p:nvSpPr>
            <p:cNvPr id="53" name="矩形 11"/>
            <p:cNvSpPr/>
            <p:nvPr/>
          </p:nvSpPr>
          <p:spPr>
            <a:xfrm rot="311400">
              <a:off x="1722960" y="1590840"/>
              <a:ext cx="36000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 rot="311400">
              <a:off x="2143440" y="187200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1646280" y="2535840"/>
            <a:ext cx="6224760" cy="963720"/>
            <a:chOff x="1646280" y="2535840"/>
            <a:chExt cx="6224760" cy="963720"/>
          </a:xfrm>
        </p:grpSpPr>
        <p:sp>
          <p:nvSpPr>
            <p:cNvPr id="56" name="矩形 14"/>
            <p:cNvSpPr/>
            <p:nvPr/>
          </p:nvSpPr>
          <p:spPr>
            <a:xfrm rot="311400">
              <a:off x="1661400" y="2551320"/>
              <a:ext cx="360000" cy="35928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5"/>
            <p:cNvSpPr/>
            <p:nvPr/>
          </p:nvSpPr>
          <p:spPr>
            <a:xfrm rot="311400">
              <a:off x="2007720" y="2836440"/>
              <a:ext cx="58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1562400" y="3429720"/>
            <a:ext cx="6224400" cy="963720"/>
            <a:chOff x="1562400" y="3429720"/>
            <a:chExt cx="6224400" cy="963720"/>
          </a:xfrm>
        </p:grpSpPr>
        <p:sp>
          <p:nvSpPr>
            <p:cNvPr id="59" name="矩形 16"/>
            <p:cNvSpPr/>
            <p:nvPr/>
          </p:nvSpPr>
          <p:spPr>
            <a:xfrm rot="311400">
              <a:off x="1577520" y="3445200"/>
              <a:ext cx="360000" cy="35928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7"/>
            <p:cNvSpPr/>
            <p:nvPr/>
          </p:nvSpPr>
          <p:spPr>
            <a:xfrm rot="311400">
              <a:off x="1923840" y="3730320"/>
              <a:ext cx="58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8"/>
          <p:cNvGrpSpPr/>
          <p:nvPr/>
        </p:nvGrpSpPr>
        <p:grpSpPr>
          <a:xfrm>
            <a:off x="1432800" y="4286160"/>
            <a:ext cx="6220800" cy="1059120"/>
            <a:chOff x="1432800" y="4286160"/>
            <a:chExt cx="6220800" cy="1059120"/>
          </a:xfrm>
        </p:grpSpPr>
        <p:sp>
          <p:nvSpPr>
            <p:cNvPr id="62" name="矩形 18"/>
            <p:cNvSpPr/>
            <p:nvPr/>
          </p:nvSpPr>
          <p:spPr>
            <a:xfrm rot="365400">
              <a:off x="1450800" y="4304160"/>
              <a:ext cx="36000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9"/>
            <p:cNvSpPr/>
            <p:nvPr/>
          </p:nvSpPr>
          <p:spPr>
            <a:xfrm rot="365400">
              <a:off x="1792080" y="4636440"/>
              <a:ext cx="58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9"/>
          <p:cNvSpPr/>
          <p:nvPr/>
        </p:nvSpPr>
        <p:spPr>
          <a:xfrm>
            <a:off x="7467120" y="121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 rot="436800">
            <a:off x="1945080" y="18014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 rot="436800">
            <a:off x="1557720" y="295056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 rot="436800">
            <a:off x="1465560" y="406188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8"/>
          <p:cNvSpPr/>
          <p:nvPr/>
        </p:nvSpPr>
        <p:spPr>
          <a:xfrm rot="436800">
            <a:off x="3856320" y="29394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0"/>
          <p:cNvSpPr/>
          <p:nvPr/>
        </p:nvSpPr>
        <p:spPr>
          <a:xfrm rot="436800">
            <a:off x="4019400" y="225864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3"/>
          <p:cNvSpPr/>
          <p:nvPr/>
        </p:nvSpPr>
        <p:spPr>
          <a:xfrm rot="436800">
            <a:off x="3784680" y="36316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4"/>
          <p:cNvSpPr/>
          <p:nvPr/>
        </p:nvSpPr>
        <p:spPr>
          <a:xfrm rot="436800">
            <a:off x="3616560" y="42969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 rot="436800">
            <a:off x="3498840" y="49784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9"/>
          <p:cNvSpPr/>
          <p:nvPr/>
        </p:nvSpPr>
        <p:spPr>
          <a:xfrm>
            <a:off x="746712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1729440" y="1160640"/>
            <a:ext cx="1627560" cy="664920"/>
            <a:chOff x="1729440" y="1160640"/>
            <a:chExt cx="1627560" cy="664920"/>
          </a:xfrm>
        </p:grpSpPr>
        <p:sp>
          <p:nvSpPr>
            <p:cNvPr id="75" name="矩形 11"/>
            <p:cNvSpPr/>
            <p:nvPr/>
          </p:nvSpPr>
          <p:spPr>
            <a:xfrm rot="760800">
              <a:off x="1764360" y="1195560"/>
              <a:ext cx="360000" cy="36108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2"/>
            <p:cNvSpPr/>
            <p:nvPr/>
          </p:nvSpPr>
          <p:spPr>
            <a:xfrm rot="760800">
              <a:off x="2116800" y="129852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"/>
          <p:cNvGrpSpPr/>
          <p:nvPr/>
        </p:nvGrpSpPr>
        <p:grpSpPr>
          <a:xfrm>
            <a:off x="1713960" y="2192400"/>
            <a:ext cx="1487160" cy="625320"/>
            <a:chOff x="1713960" y="2192400"/>
            <a:chExt cx="1487160" cy="625320"/>
          </a:xfrm>
        </p:grpSpPr>
        <p:sp>
          <p:nvSpPr>
            <p:cNvPr id="78" name="矩形 14"/>
            <p:cNvSpPr/>
            <p:nvPr/>
          </p:nvSpPr>
          <p:spPr>
            <a:xfrm rot="760800">
              <a:off x="1748880" y="2227320"/>
              <a:ext cx="360000" cy="36144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5"/>
            <p:cNvSpPr/>
            <p:nvPr/>
          </p:nvSpPr>
          <p:spPr>
            <a:xfrm rot="760800">
              <a:off x="2105280" y="2306880"/>
              <a:ext cx="106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4"/>
          <p:cNvGrpSpPr/>
          <p:nvPr/>
        </p:nvGrpSpPr>
        <p:grpSpPr>
          <a:xfrm>
            <a:off x="1571400" y="3130560"/>
            <a:ext cx="1486440" cy="644760"/>
            <a:chOff x="1571400" y="3130560"/>
            <a:chExt cx="1486440" cy="644760"/>
          </a:xfrm>
        </p:grpSpPr>
        <p:sp>
          <p:nvSpPr>
            <p:cNvPr id="81" name="矩形 16"/>
            <p:cNvSpPr/>
            <p:nvPr/>
          </p:nvSpPr>
          <p:spPr>
            <a:xfrm rot="760800">
              <a:off x="1606320" y="3165480"/>
              <a:ext cx="360360" cy="36144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 rot="760800">
              <a:off x="1958040" y="326376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7"/>
          <p:cNvGrpSpPr/>
          <p:nvPr/>
        </p:nvGrpSpPr>
        <p:grpSpPr>
          <a:xfrm>
            <a:off x="1574640" y="3906720"/>
            <a:ext cx="1409040" cy="663480"/>
            <a:chOff x="1574640" y="3906720"/>
            <a:chExt cx="1409040" cy="663480"/>
          </a:xfrm>
        </p:grpSpPr>
        <p:sp>
          <p:nvSpPr>
            <p:cNvPr id="84" name="矩形 18"/>
            <p:cNvSpPr/>
            <p:nvPr/>
          </p:nvSpPr>
          <p:spPr>
            <a:xfrm rot="760800">
              <a:off x="1609560" y="3941640"/>
              <a:ext cx="35964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9"/>
            <p:cNvSpPr/>
            <p:nvPr/>
          </p:nvSpPr>
          <p:spPr>
            <a:xfrm rot="760800">
              <a:off x="1955520" y="4066920"/>
              <a:ext cx="99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圆角矩形 21"/>
          <p:cNvSpPr/>
          <p:nvPr/>
        </p:nvSpPr>
        <p:spPr>
          <a:xfrm rot="760800">
            <a:off x="3398760" y="171900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22"/>
          <p:cNvSpPr/>
          <p:nvPr/>
        </p:nvSpPr>
        <p:spPr>
          <a:xfrm rot="760800">
            <a:off x="3244680" y="2649240"/>
            <a:ext cx="39294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3"/>
          <p:cNvSpPr/>
          <p:nvPr/>
        </p:nvSpPr>
        <p:spPr>
          <a:xfrm rot="760800">
            <a:off x="3041640" y="363672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4"/>
          <p:cNvSpPr/>
          <p:nvPr/>
        </p:nvSpPr>
        <p:spPr>
          <a:xfrm rot="760800">
            <a:off x="2887560" y="450648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三联素材  www.3lian.com</dc:creator>
  <dc:description>三联素材  www.3lian.com</dc:description>
  <dc:language>en-US</dc:language>
  <cp:lastModifiedBy>Administrator</cp:lastModifiedBy>
  <cp:lastPrinted>1899-12-30T00:00:00Z</cp:lastPrinted>
  <dcterms:modified xsi:type="dcterms:W3CDTF">2015-01-15T07:04:46Z</dcterms:modified>
  <cp:revision>16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