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9929-2ACF-4F37-983F-66C94E4A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6280-E60F-45EE-B4B2-331562B6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E088-1815-482C-8C49-934D01AD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D45F-C583-41B3-A4C5-AC124492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398-6A54-4B10-A941-5C422A23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0B7B-FA7D-443C-8E10-74C7702B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4B31-CEE8-44AB-B1A2-95F4D3BA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137-CCE5-4030-BF7C-C2F287F7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F5D4-8A1D-4308-AEE3-927781D1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A47D-7CD8-4CF1-914D-97CA9FE1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D63-95C1-41B2-8D54-FCD82E96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FA9-64FB-4A20-89EC-E753A679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6213-3B15-4F93-832C-42144805A0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00080" y="143352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000080" y="22147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护士节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988200" y="496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3854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40690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4997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37836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711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426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17830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62838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283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997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354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5783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3214800" y="2428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854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5691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283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786280" y="2500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569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4259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926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428364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26406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37119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9165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60696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22831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916560" y="496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283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2568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5-01-18T02:07:26Z</dcterms:modified>
  <cp:revision>41</cp:revision>
  <dc:subject/>
  <dc:title>幻灯片 1</dc:title>
</cp:coreProperties>
</file>