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2CD-574A-457F-B71F-9939069B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DEE-EC88-4FA9-9F49-F3C1C5CD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DEC5B-682A-48DA-8EB3-74668D31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8519C-ABB8-4CD6-A8E9-6BB392EE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04A12-03AC-4D52-8DD4-AD573173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2B199-EE2F-46E5-AF6E-4A1FCF7D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1F05F-712C-4561-A630-F6362EFD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7A0F4-AFB2-4C03-ACC3-73D67D62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50541-4851-4766-9B81-C8A894D3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2D1A3-55BD-4BBE-A923-D59C9AF5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16FB2-5C2A-44FF-A50D-F7A21A7F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0C1D2-CB2A-4DD4-8512-978D58F2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5CE-0F41-4977-A703-2B9AB2B5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54893-32F9-40FC-B291-65A411E0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A0D74-7ECF-4C7F-BDF9-041A03E0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1A819-EC4C-464D-BCAB-058C9871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8B42D-5916-40B6-AC2B-EA716BC3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F708E-8C34-4116-BF3E-73A3B931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A8B88-FCC5-4560-B3F7-AE9B2E97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391AC-7D1D-49C7-A88E-C75EB851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89BB8-F7CA-4592-B023-43E654F9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EC47C-0139-42C5-975F-B8FEA468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D5DBA-14AA-4316-ABF7-A104687A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A1C-C994-4537-BFE8-922F695F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4F0C2-113D-477F-AE50-ECDB1334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63EAC-BA88-4A35-80C4-EBA1D490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8B955-060E-4431-B526-1BCE84F1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EC388-558F-4A7C-96F2-441FBE80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788A4-CC94-4A9B-B100-66EF43AA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2AF86-CAB0-48E4-ADBE-3719299C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4FB59-0599-46BF-8E3D-F451ECB0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4755C-E8EB-4ADD-8ACD-1861FCFA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99C3B-465D-41D7-ABB2-EB823281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0DE4E-FD24-43FB-AC10-B93B9893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38BC-0D44-401C-B3CC-6DEE4BF9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9C87C-582A-4323-86EF-214D7E0E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7752D-FF69-4BAB-8D6C-228CCC0A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CB2F5-2731-4BE3-A8D7-42479152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AAA20-224E-4461-AFEF-478EC3A7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E74F8-9A37-4B58-B623-E7463EA9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8B2FD-9C6A-4C1D-B27A-2616F50A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57711-2BB9-4A7C-AFF5-94FE50C2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A4F62-6EA9-4AB8-879D-12969C58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CF7E7-71E8-4818-AEC8-33A06326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474E2-E8EF-438B-8652-8E41D684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BCF1-C35A-4E8F-8BD0-78082639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0C176-CEFD-4C45-A80D-52AEAE47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10CC3-3ABA-4E16-83AF-8490FF34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50D7E-065C-4F2D-A42C-BDC72886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D2696-772E-4FD8-BAD9-076FFB31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D84AB-3467-48F1-8980-4439CF7E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2F2DE-D936-405B-8D40-EDFF0425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33993-570B-4692-BDD2-A340689A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3FA4C-013E-4B6C-9B90-C0C6E0EE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54ECC-8AB6-457C-8EAA-E28C897D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2F2D68-AD11-4E7F-8FE1-827F7D2B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D697-DAB2-4C92-884F-AB805C63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2E6AA-5532-48E3-BB17-833E3BEC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944D4-F21C-4A6F-9AC9-3D0F3FA7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B8A9C-82DF-4995-9972-807E1F4B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A09B2-F940-4A7A-B774-FB2ED1DD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E7D859-0520-40FC-A58A-58DEB792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68B44-39E7-4B8C-B199-E815DB50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8E2B3-2012-4EEE-8B6E-73546DDC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CBC1-E922-421E-9CC7-5085F152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F391-467A-4DF5-A3FF-310B31E4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FB0F-90D4-4CB8-86C4-11E8F1BF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4A77-5B97-4603-B32B-467842B2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559-F82D-4A16-BA28-E28FC2F4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F937-49D7-4A89-B33E-F5D3E678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126B-6FDD-445F-A679-AC8F2530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E2CB-5516-4ADD-B536-5E3D1720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DBE5-A2CA-4626-AC43-310A2804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9124-2F96-4CF8-BE0F-47151343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03005-EA6D-4CF1-9C07-5F051F25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B8B8D-6EF1-4AAF-8AFA-2A148491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5B6B-FB27-4E63-AF70-6DE2945D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7F12D-4687-4DFB-B3D1-8B19627F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FF0D8-A542-4A48-AD4F-FBA3382F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25A-93FF-47C7-AF7D-EB64F887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8231-7C40-4FB2-BF82-D77F65FE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DC923-1D53-439B-A73B-5F51D3E0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9EDA-9E11-448A-B9E7-18D8B85C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EE4F4-EE03-40E3-9D7E-1F962E36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BD59E-F4B8-4CC7-BC9C-CB9E6A57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6797-F658-44CD-A506-7091EC0E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5E6EC-BA59-4FAA-BEC1-047091FD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3409F-8580-4E8D-9A61-7F7B556C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F1A03-4E5B-4744-8A9A-9BF6F46C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E5D59-1BCC-41D2-9D44-A3C64624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5DB-E78A-4260-ACDD-0C101883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4CA6C-1984-4B93-B50D-6CC9F48E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D5F53-15A4-4007-ADB9-0E00F704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86131-F0E1-489C-8056-27A3AB86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B2232-5747-47B0-A4B0-A2A9146F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79080-0B04-4106-AA73-56CD5234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ABD2F-A072-4B80-853B-4B2FF683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E7002-F203-4F10-8253-D83C669C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FC432-1619-463E-AA06-8A554C11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A07C9-83E6-4E69-93D4-8445E745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E94D5-BE7E-4AFD-B034-69657F6A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70E-8609-4D34-96DF-5C8826B8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BED0C-E44F-4391-B711-8F824B01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03D07-F5A7-4AB1-9E49-FDFD9C36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93BE6-51F7-4AF1-8902-315E0947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8190B-B5F2-4D15-92F8-80E875A3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576D9-9C4F-483F-AA31-EA9B2E97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874AB-0D69-4453-AEB5-C139FCD2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020EB-8AB5-490B-9B8D-AA8D2891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683DF-2FCB-4082-8971-86E94862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7E698-F24C-49A8-812E-55C3683F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EBBEC-705B-4453-AEAB-24DBA902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3DE-043F-4660-9D21-A8EEE0FE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F2F4C-E360-46AD-B2E8-C8C44822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BAD39-EADE-4A1A-86DF-7A3E7D88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03C9C-591B-4419-A5E0-A49D6791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EF14C-AD47-46BD-AB26-53063251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98844-311E-4F82-BD98-FE575983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4C018-3D3B-4F5D-9A87-9238ED88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B1FB0-28E6-4CBD-8F61-61A61CB4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BE955-E9C2-4752-BDAF-EF39DA91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06F46-4065-48C2-9B71-C44E5F7E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65754-773E-4E7F-B27F-E216320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B87-EA04-4AD9-A6AD-D774B336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0E902-2B1E-449C-B38F-1DB7E4A6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7AA3E-74B7-47D4-B8E9-A64F5B2F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81DB5-42B5-4A4E-ABDD-862E5229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4D63B-B402-4788-9824-E15BFFC4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E71DA-5A48-401F-B9B0-F3CE04C6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3CBAB-3FFF-4957-B28D-8095D5D6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84999-8627-44A1-905D-49FCF924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3D070-C840-4D95-874C-412A6512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A0575-06C5-4272-AF71-7FCE70E1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97CB2-EA5D-4085-B32F-C7DD7EE3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DDF-ECF6-4551-A760-10E2AE0B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0BCCB-0AE5-494C-BC72-A2255358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50D4C-C01F-461D-8E84-8C7CAC88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3CEB7-0130-4D81-9F06-D5EA37A5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50CF1-EB11-4920-BB51-2EE709B9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25A8C-DC85-40B2-AA68-3DEC181A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FF43E-1055-4ADC-985C-89D5108F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33309-8CA0-47E6-9A3E-BD091C8E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75A15-614F-4CDE-B70E-24081F24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EDFE0-E661-4937-85A3-208442E0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AD196-9A78-41CD-86AD-9494E137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F81-5E3A-4F73-9A5A-8F1AF6C5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42E41-124B-4484-99BA-EFC40F22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16409-0A94-4BF3-B418-04E16A06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A5B95-27D7-4B6F-AFFA-3A0F7B29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B5552-53FB-49F4-A8F3-7586A505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57E93-6682-43AC-8C05-8AD4AD3B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DCE6D-2D46-4FE0-AF51-1C2ECF34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0F86E-E461-46FF-95FA-AE83E006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9C26F-87B1-4C80-BEFE-D2F37DD6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CA551-D42A-426E-A83F-3AF43F8C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3A729-A87F-4278-9FC5-2A65111C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28440" y="-20520"/>
            <a:ext cx="9172440" cy="6878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3F75-E771-4230-B760-184D09835863}" type="datetime">
              <a:rPr b="0" lang="zh-CN" sz="1200" spc="-1" strike="noStrike">
                <a:solidFill>
                  <a:srgbClr val="fefefe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9CFF-07FA-4B11-A031-28C0856AC6E1}" type="slidenum">
              <a:rPr b="0" lang="zh-CN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8193-9472-441B-AEC8-F4A3CABB8AC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F78F-346B-4BEE-81AB-1FEBF7149F0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B677-2AFA-4223-8D22-33EF64157A2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3FE5-2434-492A-9BAF-50636676230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F367-4CCB-4A96-95F3-3C8C5975252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B722-048F-4051-ADD3-56807334D39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B695-DAE0-4998-BDD4-60CF23E490C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AE61-0BF1-4864-88C7-96CA203BD19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4541-B305-4A55-A0CC-3F93507AEF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A952-CA17-4835-96E5-241246A10D0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8928-0BC2-468C-8749-F3C5458B5A2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74BD-BABD-41DE-82F2-F9D884E19FB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F300-05B7-4CDF-AA2F-63070908664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8B9E-E531-4E99-A7AC-289E9FAFAA9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2BEC-A9AF-44FE-B5B0-C52A8DF2D12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B0D7-22CA-49BB-AA2F-AF2276FBC41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7508-57BF-43AA-908B-BFC7869ECE4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8C8C-6FE4-46D1-A906-17C8ABA2ADB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1994-FF54-4E64-9ABE-28F065D9A1A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423D-53BF-449B-A1DF-57C0D308363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0B4B-F587-44E3-9403-90B3E3B3DD1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116E-98EB-4D14-904F-50BF493D918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C939-D5ED-4547-B040-5C39E6C17A9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536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95280" y="1917720"/>
            <a:ext cx="83534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点击此处添加幻灯主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395280" y="270828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点击此处添加幻灯副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92B5-BE0A-4AB0-8B19-A606E5593F40}" type="datetime">
              <a:rPr b="0" lang="zh-CN" sz="1200" spc="-1" strike="noStrike">
                <a:solidFill>
                  <a:srgbClr val="fefefe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A7AC-2F9D-4002-975F-81F1409E2DEA}" type="slidenum">
              <a:rPr b="0" lang="zh-CN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文本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背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填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超链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</a:rPr>
              <a:t>浅 </a:t>
            </a:r>
            <a:r>
              <a:rPr b="0" lang="en-US" sz="1100" spc="-1" strike="noStrike">
                <a:solidFill>
                  <a:srgbClr val="dddddd"/>
                </a:solidFill>
                <a:latin typeface="Arial"/>
              </a:rPr>
              <a:t>/ </a:t>
            </a:r>
            <a:r>
              <a:rPr b="0" lang="zh-CN" sz="1100" spc="-1" strike="noStrike">
                <a:solidFill>
                  <a:srgbClr val="dddddd"/>
                </a:solidFill>
                <a:latin typeface="Arial"/>
              </a:rPr>
              <a:t>深色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</a:rPr>
              <a:t>一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</a:rPr>
              <a:t>未访问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</a:rPr>
              <a:t>二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</a:rPr>
              <a:t>三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</a:rPr>
              <a:t>已访问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</a:rPr>
              <a:t>描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c00000"/>
          </a:solidFill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7f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a5a5a5"/>
          </a:solidFill>
          <a:ln w="9360">
            <a:solidFill>
              <a:srgbClr val="52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dddddd"/>
          </a:solidFill>
          <a:ln w="936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</a:rPr>
              <a:t>注释文字样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填充样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数据图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内容占位符 6"/>
          <p:cNvSpPr/>
          <p:nvPr/>
        </p:nvSpPr>
        <p:spPr>
          <a:xfrm>
            <a:off x="3179880" y="3332160"/>
            <a:ext cx="556884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直接连接符 150"/>
          <p:cNvSpPr/>
          <p:nvPr/>
        </p:nvSpPr>
        <p:spPr>
          <a:xfrm>
            <a:off x="395280" y="1940040"/>
            <a:ext cx="8353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矩形 2053"/>
          <p:cNvSpPr/>
          <p:nvPr/>
        </p:nvSpPr>
        <p:spPr>
          <a:xfrm>
            <a:off x="1948320" y="5210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超链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589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95280" y="282240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35344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A3F7-E1C6-4DDD-8FE6-33E86A3FF981}" type="datetime">
              <a:rPr b="0" lang="zh-CN" sz="1200" spc="-1" strike="noStrike">
                <a:solidFill>
                  <a:srgbClr val="fefefe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1CE0-D0C3-4E8C-B656-93170C9F19DE}" type="slidenum">
              <a:rPr b="0" lang="zh-CN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96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597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EB5A-5411-4959-9B74-ED9563D2CA51}" type="datetime">
              <a:rPr b="0" lang="zh-CN" sz="1200" spc="-1" strike="noStrike">
                <a:solidFill>
                  <a:srgbClr val="fefefe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1C43-B980-4A6F-8434-4D46B82224D3}" type="slidenum">
              <a:rPr b="0" lang="zh-CN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内容占位符 12"/>
          <p:cNvSpPr/>
          <p:nvPr/>
        </p:nvSpPr>
        <p:spPr>
          <a:xfrm>
            <a:off x="395280" y="1339920"/>
            <a:ext cx="8353440" cy="46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0D00-8F7E-4D43-87E1-7F1B75B81C0B}" type="datetime">
              <a:rPr b="0" lang="zh-CN" sz="1200" spc="-1" strike="noStrike">
                <a:solidFill>
                  <a:srgbClr val="fefefe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3D24-7F5B-4AF1-B83D-12BDE466778D}" type="slidenum">
              <a:rPr b="0" lang="zh-CN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395280" y="1339920"/>
          <a:ext cx="8353440" cy="446544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1480"/>
                <a:gridCol w="1670040"/>
              </a:tblGrid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609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矩形 2"/>
          <p:cNvSpPr/>
          <p:nvPr/>
        </p:nvSpPr>
        <p:spPr>
          <a:xfrm>
            <a:off x="3076920" y="3259080"/>
            <a:ext cx="29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jier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EE84-9CF8-490D-AB42-98CEDF5D1436}" type="datetime">
              <a:rPr b="0" lang="zh-CN" sz="1200" spc="-1" strike="noStrike">
                <a:solidFill>
                  <a:srgbClr val="fefefe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C297-F7F3-419E-9F81-53B13C626923}" type="slidenum">
              <a:rPr b="0" lang="zh-CN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15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616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200B-3061-451C-BFEE-6B78490D9398}" type="datetime">
              <a:rPr b="0" lang="zh-CN" sz="1200" spc="-1" strike="noStrike">
                <a:solidFill>
                  <a:srgbClr val="fefefe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E44B-CB63-4BE6-9214-901994C50087}" type="slidenum">
              <a:rPr b="0" lang="zh-CN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Group 2"/>
          <p:cNvGrpSpPr/>
          <p:nvPr/>
        </p:nvGrpSpPr>
        <p:grpSpPr>
          <a:xfrm>
            <a:off x="3642480" y="2943360"/>
            <a:ext cx="39240" cy="33840"/>
            <a:chOff x="3642480" y="2943360"/>
            <a:chExt cx="39240" cy="33840"/>
          </a:xfrm>
        </p:grpSpPr>
        <p:sp>
          <p:nvSpPr>
            <p:cNvPr id="621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c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单击此处添加图片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图片描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3300"/>
                </a:solidFill>
                <a:latin typeface="Arial"/>
              </a:rPr>
              <a:t>谢谢观赏</a:t>
            </a:r>
            <a:r>
              <a:rPr b="1" i="1" lang="en-US" sz="6000" spc="-1" strike="noStrike">
                <a:solidFill>
                  <a:srgbClr val="9933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1:22:00Z</dcterms:created>
  <dc:creator>www.slideto.me</dc:creator>
  <dc:description/>
  <cp:keywords>我爱PPT中文网; 4.3; 深红色; 静态; D</cp:keywords>
  <dc:language>en-US</dc:language>
  <cp:lastModifiedBy>admin</cp:lastModifiedBy>
  <cp:lastPrinted>1899-12-30T00:00:00Z</cp:lastPrinted>
  <dcterms:modified xsi:type="dcterms:W3CDTF">2015-01-14T05:58:06Z</dcterms:modified>
  <cp:revision>11</cp:revision>
  <dc:subject/>
  <dc:title>INFOCH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70C368A-58BF-4048-951A-57C3AC664DA9</vt:lpwstr>
  </property>
  <property fmtid="{D5CDD505-2E9C-101B-9397-08002B2CF9AE}" pid="3" name="ArticulatePath">
    <vt:lpwstr>点击此处添加幻灯主标题</vt:lpwstr>
  </property>
  <property fmtid="{D5CDD505-2E9C-101B-9397-08002B2CF9AE}" pid="4" name="ArticulateProjectFull">
    <vt:lpwstr>D:\SLIDEtoME\TP模板\点击此处添加幻灯主标题.ppta</vt:lpwstr>
  </property>
  <property fmtid="{D5CDD505-2E9C-101B-9397-08002B2CF9AE}" pid="5" name="ArticulateUseProject">
    <vt:lpwstr>1</vt:lpwstr>
  </property>
  <property fmtid="{D5CDD505-2E9C-101B-9397-08002B2CF9AE}" pid="6" name="KSOProductBuildVer">
    <vt:lpwstr>2052-8.1.0.3238</vt:lpwstr>
  </property>
</Properties>
</file>